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52F-50B3-4899-A29B-C1723E10E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82F-1AE9-4DF4-9E42-668A87387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C7D-C448-479F-8C40-34C0895F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980-E22B-4235-AACC-5CDFEAF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654-E627-4D11-85F3-E9EEBCF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72B-7D45-49EF-A08B-08B9128E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4E3-0DB1-479F-A60D-937CBF5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C95-CDCF-4D1C-BA44-0C7AF95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D26-8A2D-49C0-AB78-9AD6D3C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04D-5C13-4BC3-959C-8710143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070-DA42-40B0-8D20-202CAE6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634-FFD6-488C-AA91-D9020F9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7EC-2CA0-4DEA-A469-2FDE8597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4E6-0561-4326-8DC0-8756FC7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2417-A2BE-47E2-B074-A58C27A5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://www.shkola-abv.ru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219240" y="444600"/>
            <a:ext cx="819288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клипарты\люди\b9146cd813f9.png"/>
          <p:cNvPicPr/>
          <p:nvPr/>
        </p:nvPicPr>
        <p:blipFill>
          <a:blip r:embed="rId3"/>
          <a:stretch/>
        </p:blipFill>
        <p:spPr>
          <a:xfrm>
            <a:off x="2627280" y="2852640"/>
            <a:ext cx="574056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292120" y="357120"/>
            <a:ext cx="413388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Исламская картина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Helen\Desktop\временная\космос\ris_6.jpg"/>
          <p:cNvPicPr/>
          <p:nvPr/>
        </p:nvPicPr>
        <p:blipFill>
          <a:blip r:embed="rId2"/>
          <a:stretch/>
        </p:blipFill>
        <p:spPr>
          <a:xfrm>
            <a:off x="1341360" y="1341360"/>
            <a:ext cx="6461280" cy="5119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928800" y="214200"/>
            <a:ext cx="685800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едставления о вселенной у древних египт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Helen\Desktop\временная\космос\ris_1.jpg"/>
          <p:cNvPicPr/>
          <p:nvPr/>
        </p:nvPicPr>
        <p:blipFill>
          <a:blip r:embed="rId2"/>
          <a:stretch/>
        </p:blipFill>
        <p:spPr>
          <a:xfrm>
            <a:off x="1627200" y="981000"/>
            <a:ext cx="5675400" cy="5529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857160" y="357120"/>
            <a:ext cx="7858080" cy="1923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Эта постройка служила фактическим прибором наблюдения за небом и являлась астрономической обсерваторией древних людей. Почти всё - и могильные камни, и рисунки - служит главной задаче древних астрономов: наблюдению за звездами, солнцем и луно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Helen\Desktop\временная\космос\26877282_1213094483_t0021_i00.jpg"/>
          <p:cNvPicPr/>
          <p:nvPr/>
        </p:nvPicPr>
        <p:blipFill>
          <a:blip r:embed="rId2"/>
          <a:stretch/>
        </p:blipFill>
        <p:spPr>
          <a:xfrm>
            <a:off x="1200240" y="2414520"/>
            <a:ext cx="6406920" cy="4388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57120" y="428760"/>
            <a:ext cx="5929560" cy="5277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Современник Фалеса —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Анаксимандр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представлял Землю отрезком колонны или цилиндра, на одном из оснований которого мы живем. Середину Земли занимает суша в виде большого круглого острова Ойкумены («населенной Земли»), окруженного океаном. Внутри Ойкумены находится морской бассейн, который делит ее на две приблизительно равные части: Европу и Азию. Греция же расположена в центре Европы, а город Дельфы — в центре Греции («пуп Земли»). Анаксимандр считал, что Земля — центр Вселенной. Восход Солнца и других светил на восточной стороне неба и заход их на западной он объяснял движением светил по кругу: видимый небесный свод составляет, по его мнению, половину шара, другое полушарие находится под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Helen\Desktop\временная\космос\180px-Anaximander_world_map-en_svg.png"/>
          <p:cNvPicPr/>
          <p:nvPr/>
        </p:nvPicPr>
        <p:blipFill>
          <a:blip r:embed="rId2"/>
          <a:stretch/>
        </p:blipFill>
        <p:spPr>
          <a:xfrm>
            <a:off x="6643800" y="3857760"/>
            <a:ext cx="2286000" cy="2286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74" name="Picture 3" descr="C:\Users\Helen\Desktop\временная\космос\Anaximander.jpg"/>
          <p:cNvPicPr/>
          <p:nvPr/>
        </p:nvPicPr>
        <p:blipFill>
          <a:blip r:embed="rId3"/>
          <a:stretch/>
        </p:blipFill>
        <p:spPr>
          <a:xfrm>
            <a:off x="7072200" y="285840"/>
            <a:ext cx="1785960" cy="3333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85840" y="214200"/>
            <a:ext cx="8429400" cy="2228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Греческий философ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Фалес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(VI в. до н. э.) представлял Вселенную в виде жидкой массы, внутри которой находится большой пузырь, имеющий форму полушария. Вогнутая поверхность этого пузыря — небесный свод, а на нижней, плоской поверхности, наподобие пробки, плавает плоская Земля. Нетрудно догадаться, что представление о Земле как о плавающем острове Фалес основывал на том факте, что Греция расположена на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Helen\Desktop\временная\космос\fonfil.jpg"/>
          <p:cNvPicPr/>
          <p:nvPr/>
        </p:nvPicPr>
        <p:blipFill>
          <a:blip r:embed="rId2"/>
          <a:stretch/>
        </p:blipFill>
        <p:spPr>
          <a:xfrm>
            <a:off x="4000680" y="3071880"/>
            <a:ext cx="4563720" cy="3360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77" name="Picture 3" descr="C:\Users\Helen\Desktop\временная\космос\fales.jpg"/>
          <p:cNvPicPr/>
          <p:nvPr/>
        </p:nvPicPr>
        <p:blipFill>
          <a:blip r:embed="rId3"/>
          <a:stretch/>
        </p:blipFill>
        <p:spPr>
          <a:xfrm>
            <a:off x="357120" y="3103560"/>
            <a:ext cx="3357720" cy="32544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57120" y="285840"/>
            <a:ext cx="8358120" cy="1008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следователи другого греческого ученого —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ифагора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(р. ок. 580 — ум. 500 до н. э.) — уже признали Землю шаром. Шаровидными они считали и другие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Helen\Desktop\временная\космос\pic-8b.jpg"/>
          <p:cNvPicPr/>
          <p:nvPr/>
        </p:nvPicPr>
        <p:blipFill>
          <a:blip r:embed="rId2"/>
          <a:stretch/>
        </p:blipFill>
        <p:spPr>
          <a:xfrm>
            <a:off x="4572000" y="1643040"/>
            <a:ext cx="4071960" cy="4935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80" name="Picture 4" descr="C:\Users\Helen\Desktop\временная\космос\меркур.jpg"/>
          <p:cNvPicPr/>
          <p:nvPr/>
        </p:nvPicPr>
        <p:blipFill>
          <a:blip r:embed="rId3"/>
          <a:stretch/>
        </p:blipFill>
        <p:spPr>
          <a:xfrm>
            <a:off x="857160" y="2500200"/>
            <a:ext cx="2963880" cy="2200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14200" y="285840"/>
            <a:ext cx="8501040" cy="1923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Знаменитый древнегреческий ученый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Аристотель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(IV в. до н. 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э.)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первым использовал для доказательства шарообразности Земли наблюдения за лунными затмениями: тень от Земли, падающая на полную Луну, всегда круглая. Во время затмений Земля бывает повернута к Луне разными сторонами. Но только шар всегда отбрасывает круглую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Helen\Desktop\временная\космос\249518943_tonnel.jpg"/>
          <p:cNvPicPr/>
          <p:nvPr/>
        </p:nvPicPr>
        <p:blipFill>
          <a:blip r:embed="rId2"/>
          <a:stretch/>
        </p:blipFill>
        <p:spPr>
          <a:xfrm>
            <a:off x="5572080" y="2714760"/>
            <a:ext cx="2857680" cy="38574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83" name="Picture 3" descr="C:\Users\Helen\Desktop\временная\космос\image006.gif"/>
          <p:cNvPicPr/>
          <p:nvPr/>
        </p:nvPicPr>
        <p:blipFill>
          <a:blip r:embed="rId3"/>
          <a:stretch/>
        </p:blipFill>
        <p:spPr>
          <a:xfrm>
            <a:off x="714240" y="2857680"/>
            <a:ext cx="3643560" cy="3643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85840"/>
            <a:ext cx="8429400" cy="1923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Наконец, выдающийся астроном древнего мира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Аристарх Самосский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(конец IV — первая половина III в. до н. э.) высказал мысль о том, что не Солнце вместе с планетами движется вокруг Земли, а Земля и все планеты вращаются вокруг Солнца. Однако в его распоряжении было очень мало доказательств. И прошло еще около 1700 лет, прежде чем это удалось доказать польскому ученому 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Копер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Helen\Desktop\временная\космос\tr02_03.jpg"/>
          <p:cNvPicPr/>
          <p:nvPr/>
        </p:nvPicPr>
        <p:blipFill>
          <a:blip r:embed="rId2"/>
          <a:stretch/>
        </p:blipFill>
        <p:spPr>
          <a:xfrm>
            <a:off x="5429160" y="2714760"/>
            <a:ext cx="2911680" cy="3897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86" name="Picture 3" descr="C:\Users\Helen\Desktop\временная\космос\ccc57.gif"/>
          <p:cNvPicPr/>
          <p:nvPr/>
        </p:nvPicPr>
        <p:blipFill>
          <a:blip r:embed="rId3"/>
          <a:stretch/>
        </p:blipFill>
        <p:spPr>
          <a:xfrm>
            <a:off x="571680" y="2998800"/>
            <a:ext cx="3714480" cy="3521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00040" y="428760"/>
            <a:ext cx="8001000" cy="16185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Николай Коперник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работал над созданием нового учения об устройстве мира и в своих работах  утверждал , что Земля, как и другие планеты, обращается вокруг Солнца, а видимое суточное перемещение небесного свода – лишь следствие вращения Земли вокруг своей о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Helen\Desktop\временная\космос\kopernik72.jpg"/>
          <p:cNvPicPr/>
          <p:nvPr/>
        </p:nvPicPr>
        <p:blipFill>
          <a:blip r:embed="rId2"/>
          <a:stretch/>
        </p:blipFill>
        <p:spPr>
          <a:xfrm>
            <a:off x="5429160" y="2500200"/>
            <a:ext cx="3351240" cy="3907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89" name="Picture 3" descr="C:\Users\Helen\Desktop\временная\космос\1203382262_kopernik-soln-sistema.jpg"/>
          <p:cNvPicPr/>
          <p:nvPr/>
        </p:nvPicPr>
        <p:blipFill>
          <a:blip r:embed="rId3"/>
          <a:stretch/>
        </p:blipFill>
        <p:spPr>
          <a:xfrm>
            <a:off x="500040" y="2500200"/>
            <a:ext cx="4613400" cy="38912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500120" y="450072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http://images.google.ru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936000" y="521496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http://www.3planet.ru/history/111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2"/>
          <a:stretch/>
        </p:blipFill>
        <p:spPr>
          <a:xfrm>
            <a:off x="2981160" y="371520"/>
            <a:ext cx="29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клипарты\люди\431811798264.png"/>
          <p:cNvPicPr/>
          <p:nvPr/>
        </p:nvPicPr>
        <p:blipFill>
          <a:blip r:embed="rId3"/>
          <a:stretch/>
        </p:blipFill>
        <p:spPr>
          <a:xfrm>
            <a:off x="5143680" y="1728720"/>
            <a:ext cx="3800160" cy="493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Эмблема круг"/>
          <p:cNvPicPr/>
          <p:nvPr/>
        </p:nvPicPr>
        <p:blipFill>
          <a:blip r:embed="rId4"/>
          <a:stretch/>
        </p:blipFill>
        <p:spPr>
          <a:xfrm>
            <a:off x="2627280" y="24922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41240" y="342792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343240" y="3244680"/>
            <a:ext cx="44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olsys.narod.ru/Mercury/Mercu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28760" y="285840"/>
            <a:ext cx="8358120" cy="13136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авильное представление о Земле и ее форме сложилось у разных народов не сразу и не в одно время. По преданию, древние индийцы представляли себе Землю в виде плоскости, лежащей на спинах сл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Helen\Desktop\временная\космос\19e4872aed34.jpg"/>
          <p:cNvPicPr/>
          <p:nvPr/>
        </p:nvPicPr>
        <p:blipFill>
          <a:blip r:embed="rId2"/>
          <a:stretch/>
        </p:blipFill>
        <p:spPr>
          <a:xfrm>
            <a:off x="4357800" y="2857680"/>
            <a:ext cx="4071960" cy="3214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53" name="Picture 4" descr="C:\Users\Helen\Desktop\временная\космос\photo_qhl8l2fd.jpg"/>
          <p:cNvPicPr/>
          <p:nvPr/>
        </p:nvPicPr>
        <p:blipFill>
          <a:blip r:embed="rId3"/>
          <a:stretch/>
        </p:blipFill>
        <p:spPr>
          <a:xfrm>
            <a:off x="500040" y="1714680"/>
            <a:ext cx="3421080" cy="47671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Helen\Desktop\временная\космос\ershov5_116.jpg"/>
          <p:cNvPicPr/>
          <p:nvPr/>
        </p:nvPicPr>
        <p:blipFill>
          <a:blip r:embed="rId2"/>
          <a:stretch/>
        </p:blipFill>
        <p:spPr>
          <a:xfrm>
            <a:off x="2224080" y="390600"/>
            <a:ext cx="4695840" cy="6076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14200" y="285840"/>
            <a:ext cx="8358480" cy="1008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Мир в представлении древних египтян: внизу —— Земля, над ней — богиня неба; слева и справа — корабль бога Солнца, показывающий путь Солнца по небу от восхода до зак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Helen\Desktop\временная\космос\1110-1.jpg"/>
          <p:cNvPicPr/>
          <p:nvPr/>
        </p:nvPicPr>
        <p:blipFill>
          <a:blip r:embed="rId2"/>
          <a:stretch/>
        </p:blipFill>
        <p:spPr>
          <a:xfrm>
            <a:off x="665280" y="1579680"/>
            <a:ext cx="7253280" cy="492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5840" y="428760"/>
            <a:ext cx="8358120" cy="13136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ревние индийцы представляли Землю в виде полусферы, опирающейся на слонов. Слоны стоят на огромной черепахе, а черепаха на змее, которая, свернувшись кольцом, замыкает околоземное пространств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Helen\Desktop\временная\космос\1110-2.jpg"/>
          <p:cNvPicPr/>
          <p:nvPr/>
        </p:nvPicPr>
        <p:blipFill>
          <a:blip r:embed="rId2"/>
          <a:stretch/>
        </p:blipFill>
        <p:spPr>
          <a:xfrm>
            <a:off x="1590840" y="2090880"/>
            <a:ext cx="5968800" cy="454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8286480" cy="28382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Иначе представляли себе Землю древние евреи. Они жили на равнине, и Земля казалась им равниной, на которой кое - где возвышаются горы. Особое место в мироздании евреи отводили ветрам, которые приносят с собой то дождь, то засуху. Обиталище ветров, по их мнению, находилось в нижнем поясе неба и отделяло собой Землю от небесных вод: снега, дождя и града. Под Землей находятся воды, от которых кверху идут каналы, питающие моря и реки. Представления о форме всей Земли у древних евреев, по-видимому, не бы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14200" y="285840"/>
            <a:ext cx="8501040" cy="16185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ревние греки говорили о Земле как о слегка выпуклом диске, напоминающем щит воина. Сушу со всех сторон омывает река Океан. Над Землей раскинулся медный небосвод, по которому движется Солнце, поднимаясь ежедневно из вод Океана на востоке и погружаясь в них на зап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Helen\Desktop\временная\космос\ris_4.jpg"/>
          <p:cNvPicPr/>
          <p:nvPr/>
        </p:nvPicPr>
        <p:blipFill>
          <a:blip r:embed="rId2"/>
          <a:stretch/>
        </p:blipFill>
        <p:spPr>
          <a:xfrm>
            <a:off x="1554120" y="1987560"/>
            <a:ext cx="619452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Helen\Desktop\временная\космос\ris_3.jpg"/>
          <p:cNvPicPr/>
          <p:nvPr/>
        </p:nvPicPr>
        <p:blipFill>
          <a:blip r:embed="rId2"/>
          <a:stretch/>
        </p:blipFill>
        <p:spPr>
          <a:xfrm>
            <a:off x="1054080" y="1341360"/>
            <a:ext cx="6821640" cy="5192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357120" y="357120"/>
            <a:ext cx="842976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Вселенная по индийским мифам (средневековое изобра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007360" y="357120"/>
            <a:ext cx="514296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Шумеро-аккадская картина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Helen\Desktop\временная\космос\ris_2.jpg"/>
          <p:cNvPicPr/>
          <p:nvPr/>
        </p:nvPicPr>
        <p:blipFill>
          <a:blip r:embed="rId2"/>
          <a:stretch/>
        </p:blipFill>
        <p:spPr>
          <a:xfrm>
            <a:off x="981000" y="1127160"/>
            <a:ext cx="7291440" cy="5548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9:42:52Z</dcterms:created>
  <dc:creator>Helen</dc:creator>
  <dc:description/>
  <dc:language>en-US</dc:language>
  <cp:lastModifiedBy>Берюхов</cp:lastModifiedBy>
  <dcterms:modified xsi:type="dcterms:W3CDTF">2024-11-29T10:28:02Z</dcterms:modified>
  <cp:revision>15</cp:revision>
  <dc:subject/>
  <dc:title>Слайд 1</dc:title>
</cp:coreProperties>
</file>