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32A-D15C-48CD-B602-DB20B7FF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86B-B848-452C-AAF9-AE1F146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1DE-61A9-43F0-A887-A8BCEC26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A22-F143-4FBE-BD3F-D2AA0147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DFB-3499-4651-A61E-785B14E6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DAF-091A-47FA-A183-E0B8D82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39C-2F6F-4268-A9CF-B979C8D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86A-AB0A-4F75-8163-3CFBC37A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5BE-2E04-4AE1-AB9E-9F5FFFBF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65E-E1C7-4901-8FCA-2B4E217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20C-13F0-4CE8-B2FA-3744FDD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C2E-E2E3-467E-A36D-1550893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275A-B8A2-4F81-9495-3B67AE6DB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659800" y="6381720"/>
            <a:ext cx="4842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018960" y="5732640"/>
            <a:ext cx="3349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Сини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50920" y="18900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 синиц есть уникальный способ общения между собой. Они могут издавать различные звуки, такие как свист, щебетание и т.д. Эти звуки могут различаться в зависимости от вида синицы и даже от настроения птицы. Например, тревожные звуки могут быть более громкими и резкими, а радостные - более мягкими и мелодич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i.pinimg.com/564x/b5/ca/3f/b5ca3f308f15d4fc88ad5ca5feb0a095.jpg"/>
          <p:cNvPicPr/>
          <p:nvPr/>
        </p:nvPicPr>
        <p:blipFill>
          <a:blip r:embed="rId1"/>
          <a:srcRect l="0" t="0" r="0" b="6034"/>
          <a:stretch/>
        </p:blipFill>
        <p:spPr>
          <a:xfrm>
            <a:off x="3989520" y="0"/>
            <a:ext cx="51544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Синицы - очень социальные птицы, которые живут в группах. Они часто собираются вместе в больших стаях, чтобы охотиться на насекомых и защитить друг друга от хищ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62720" cy="536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Синицы могут быть очень быстрыми и ловкими, что делает их отличными охотниками. Они могут ловить насекомых на лету и даже хватать их в воздух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zemnoyklimat.ru/uploads/mini/sinitsa-900-600.jpg"/>
          <p:cNvPicPr/>
          <p:nvPr/>
        </p:nvPicPr>
        <p:blipFill>
          <a:blip r:embed="rId1"/>
          <a:stretch/>
        </p:blipFill>
        <p:spPr>
          <a:xfrm>
            <a:off x="324000" y="907920"/>
            <a:ext cx="8572320" cy="5715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0920" y="333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Синицы также известны своей способностью к адаптации к различным условиям обитания. Они могут жить в лесах, парках, садах и даже городах, где они находят пищу и убежищ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Picture background"/>
          <p:cNvPicPr/>
          <p:nvPr/>
        </p:nvPicPr>
        <p:blipFill>
          <a:blip r:embed="rId1"/>
          <a:stretch/>
        </p:blipFill>
        <p:spPr>
          <a:xfrm>
            <a:off x="2050920" y="1424160"/>
            <a:ext cx="6853320" cy="52639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95280" y="260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Синицы играют важную роль в природе, так как они являются хищниками и помогают контролировать численность насекомых-вре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Picture background"/>
          <p:cNvPicPr/>
          <p:nvPr/>
        </p:nvPicPr>
        <p:blipFill>
          <a:blip r:embed="rId1"/>
          <a:stretch/>
        </p:blipFill>
        <p:spPr>
          <a:xfrm>
            <a:off x="755640" y="1125360"/>
            <a:ext cx="7635960" cy="53960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24000" y="189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Синицы имеют уникальный окрас оперения, который может быть желтым, голубым, зеленым или фиолетовым. Некоторые виды имеют белые пятна на груди или голо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Picture background"/>
          <p:cNvPicPr/>
          <p:nvPr/>
        </p:nvPicPr>
        <p:blipFill>
          <a:blip r:embed="rId1"/>
          <a:stretch/>
        </p:blipFill>
        <p:spPr>
          <a:xfrm>
            <a:off x="371520" y="1557360"/>
            <a:ext cx="8439120" cy="50626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24000" y="189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иницы очень любят ягоды и фрукты, особенно рябину, смородину, вишню и другие плоды. Они также могут питаться насекомыми, личинками, яйцами и другими мелкими живот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Picture background"/>
          <p:cNvPicPr/>
          <p:nvPr/>
        </p:nvPicPr>
        <p:blipFill>
          <a:blip r:embed="rId1"/>
          <a:stretch/>
        </p:blipFill>
        <p:spPr>
          <a:xfrm>
            <a:off x="2050920" y="1197000"/>
            <a:ext cx="6793200" cy="54766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50920" y="260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Синицы живут в среднем от 5 до 10 лет в дикой природе и до 20 лет в нево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Picture background"/>
          <p:cNvPicPr/>
          <p:nvPr/>
        </p:nvPicPr>
        <p:blipFill>
          <a:blip r:embed="rId1"/>
          <a:stretch/>
        </p:blipFill>
        <p:spPr>
          <a:xfrm>
            <a:off x="324000" y="812880"/>
            <a:ext cx="8570880" cy="57117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ture background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5276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1" name="TextBox 2"/>
          <p:cNvSpPr/>
          <p:nvPr/>
        </p:nvSpPr>
        <p:spPr>
          <a:xfrm>
            <a:off x="934920" y="333360"/>
            <a:ext cx="74214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нужно помогать птицам зимой? Подума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139200" y="64882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72880" y="189000"/>
            <a:ext cx="869184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ини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Это было суровой зимой. К окну прилетела синичка. Она была очень голод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У окна  стояли дети. Им стало жаль голодную птичку. Ребята открыли форто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иничка  влетела в комнату. Она стала клевать хлебные крош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 background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626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11640" y="476280"/>
            <a:ext cx="4572000" cy="53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иничка - это маленькая ярко-пестрая птичка, которая обитает в лесу, парке или саду. Она обычно имеет синюю спинку, желтый животик и черную полоску через глаз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инички очень умные и любознательные птицы. Они умеют ловко крутиться на ветках, могут висеть вверх ногами и даже смотреть вниз головой вниз, когда ищут еду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ти птички очень хороши в пении. Они поют прекрасные и радостные песни, которые можно услышать в лесу или в саду. Их пение может поднять настроение и сделать день ярче и веселе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инички любят кушать насекомых, а также семена и орехи. Они часто прилетают на кормушки, чтобы перекусить зимой, когда еды становится меньш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sun9-9.userapi.com/impg/X6OzENjsOkKVaAbxyngPcMtMnGDoQE0VzzjbnA/Olc9UQ_BxCE.jpg?size=1280x1280&amp;quality=95&amp;sign=5a46813cbf2922ca7e371c35f3330826&amp;type=album"/>
          <p:cNvPicPr/>
          <p:nvPr/>
        </p:nvPicPr>
        <p:blipFill>
          <a:blip r:embed="rId1"/>
          <a:stretch/>
        </p:blipFill>
        <p:spPr>
          <a:xfrm>
            <a:off x="266760" y="836640"/>
            <a:ext cx="3678120" cy="4105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i.pinimg.com/564x/8a/ea/83/8aea835fc318e3137036f27f99dbe364.jpg"/>
          <p:cNvPicPr/>
          <p:nvPr/>
        </p:nvPicPr>
        <p:blipFill>
          <a:blip r:embed="rId1"/>
          <a:stretch/>
        </p:blipFill>
        <p:spPr>
          <a:xfrm>
            <a:off x="250920" y="620640"/>
            <a:ext cx="3529080" cy="5292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1" name="TextBox 2"/>
          <p:cNvSpPr/>
          <p:nvPr/>
        </p:nvSpPr>
        <p:spPr>
          <a:xfrm>
            <a:off x="4149720" y="476280"/>
            <a:ext cx="41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колько частей в тек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ставь план. Назови каждую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284720" y="198900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39640" y="62064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огда это был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уда прилетела пти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чему она прилетела к ок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то стоял у окн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ак ребята отнеслись к птич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то сделали ребя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уда влетела сини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то она стала дел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i.pinimg.com/564x/2e/f2/0e/2ef20e6a4f1fcf7e28bb3cf519ee6893.jpg"/>
          <p:cNvPicPr/>
          <p:nvPr/>
        </p:nvPicPr>
        <p:blipFill>
          <a:blip r:embed="rId1"/>
          <a:stretch/>
        </p:blipFill>
        <p:spPr>
          <a:xfrm>
            <a:off x="6732720" y="189000"/>
            <a:ext cx="218412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5493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а для справок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ров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й, синич__ка,   г__л__дна,     ст__яли,  р__бята,    птич__ка,    форточ__ка, вл__тела,    кл__вать,     хлебный,  кр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0920" y="189000"/>
            <a:ext cx="37227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инич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Это было суровой зимой. К окну прилетела синичка. Она была очень голод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У окна  стояли дети. Им стало жаль голодную птичку. Ребята открыли форточ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иничка  влетела в комнату. Она стала клевать хлебные крош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58360" y="3213000"/>
            <a:ext cx="312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Когда это был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Куда прилетела птич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чему она прилетела к окн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Кто стоял у окн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Как ребята отнеслись к птичк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Что сделали ребя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Куда влетела синич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Что она стала дел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24000" y="5516640"/>
            <a:ext cx="40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ва для справок: суров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й, синич__ка, г__л__дна,  ст__яли, р__бята, птич__ка, форточ__ка, вл__тела,  кл__вать, хлебный, крош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50920" y="189000"/>
            <a:ext cx="4120920" cy="2663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0920" y="3213000"/>
            <a:ext cx="4120920" cy="3384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125000" y="2852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144760" y="3213000"/>
            <a:ext cx="312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гда это был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уда прилетела птич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чему она прилетела к окн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то стоял у окн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ребята отнеслись к птичк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то сделали ребя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уда влетела синич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то она стала дел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4705200" y="189000"/>
            <a:ext cx="4054680" cy="2663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711400" y="2852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4932360" y="5516640"/>
            <a:ext cx="370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ва для справок: суров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й, синич__ка, г__л__дна,  ст__яли, р__бята, птич__ка, форточ__ка, вл__тела,  кл__вать, хлебный, крош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4705200" y="3213000"/>
            <a:ext cx="3921120" cy="3384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nukadeti.ru/content/images/essence/color/1640/2630.jpg"/>
          <p:cNvPicPr/>
          <p:nvPr/>
        </p:nvPicPr>
        <p:blipFill>
          <a:blip r:embed="rId1"/>
          <a:stretch/>
        </p:blipFill>
        <p:spPr>
          <a:xfrm>
            <a:off x="3540240" y="260280"/>
            <a:ext cx="76968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nukadeti.ru/content/images/essence/color/1640/2630.jpg"/>
          <p:cNvPicPr/>
          <p:nvPr/>
        </p:nvPicPr>
        <p:blipFill>
          <a:blip r:embed="rId2"/>
          <a:stretch/>
        </p:blipFill>
        <p:spPr>
          <a:xfrm>
            <a:off x="7993080" y="260280"/>
            <a:ext cx="692280" cy="647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72160" y="260280"/>
            <a:ext cx="3720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инич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то было суровой зимой. К окну прилетела синичка. Она была очень голод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окна  стояли дети. Им стало жаль голодную птичку. Ребята открыли форточ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иничка  влетела в комнату. Она стала клевать хлебные крош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260280"/>
            <a:ext cx="79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нтересные факты про синичку: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Синицы являются одними из самых маленьких птиц в мире, их размер составляет около 12-14 см, а вес - около 20 гра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i.pinimg.com/564x/8d/0f/bd/8d0fbd87bc72c9927ea672e66ea7c38f.jpg"/>
          <p:cNvPicPr/>
          <p:nvPr/>
        </p:nvPicPr>
        <p:blipFill>
          <a:blip r:embed="rId1"/>
          <a:stretch/>
        </p:blipFill>
        <p:spPr>
          <a:xfrm>
            <a:off x="2195640" y="1486080"/>
            <a:ext cx="5371920" cy="53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7T17:53:49Z</dcterms:created>
  <dc:creator>Елена Берюхова</dc:creator>
  <dc:description/>
  <dc:language>en-US</dc:language>
  <cp:lastModifiedBy>Берюхов</cp:lastModifiedBy>
  <dcterms:modified xsi:type="dcterms:W3CDTF">2024-11-11T06:20:11Z</dcterms:modified>
  <cp:revision>11</cp:revision>
  <dc:subject/>
  <dc:title>Слайд 1</dc:title>
</cp:coreProperties>
</file>