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75E-80FB-4DA3-99C6-55AE9F20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48D-0534-4186-A957-77A393EF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EC3-8849-49FF-BAFF-4C0FF6D2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AEF-3CAD-40FF-8F06-77E431F6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625-6B8D-45B8-BC26-4EBBD4AF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991-1BAA-48E5-8052-0F33207D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19A-167C-472C-8B79-4309E349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7D1-F4F6-4D16-8E04-740E354C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B45-C807-4C4C-B524-D0E0340F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E9A-D91D-4D6C-B97B-3E6123E4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FD3-7618-4CF9-AC72-124258CE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6EE-FE81-4E21-B865-04256B7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E8D4-67B6-4A4A-BC85-E1B86855E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23" descr="G:\для сайта работы\эмблема\Эмблема круг.png"/>
          <p:cNvPicPr/>
          <p:nvPr/>
        </p:nvPicPr>
        <p:blipFill>
          <a:blip r:embed="rId2"/>
          <a:stretch/>
        </p:blipFill>
        <p:spPr>
          <a:xfrm>
            <a:off x="8626320" y="6348240"/>
            <a:ext cx="517680" cy="5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shkola-abv.ru/" TargetMode="External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s://vk.com/shkola_abv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 rot="16200000">
            <a:off x="-1652760" y="2547720"/>
            <a:ext cx="65160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mic Sans MS"/>
              </a:rPr>
              <a:t>Изложение п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mic Sans MS"/>
              </a:rPr>
              <a:t>вопросам. Барсу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masterpiecer-images.s3.yandex.net/59ece5e1da7011ef97542aedae47fd02:1"/>
          <p:cNvPicPr/>
          <p:nvPr/>
        </p:nvPicPr>
        <p:blipFill>
          <a:blip r:embed="rId1"/>
          <a:stretch/>
        </p:blipFill>
        <p:spPr>
          <a:xfrm>
            <a:off x="2771640" y="333360"/>
            <a:ext cx="6037560" cy="61405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24000" y="404640"/>
            <a:ext cx="864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рсук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 избе лесника из чащи прибежал барсук. На голове  у него была стеклянная банка, как скафандр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мотрит барсук сквозь банку, а снять её не может. Что-то вкусное  было в банке, вот  зверёк  и  попал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помощью  он прибежал к человеку. Лесник аккуратно  разбил  банку. Счастливый  барсук  скрылся  в  тайг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 по Г. Ковенчу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 background"/>
          <p:cNvPicPr/>
          <p:nvPr/>
        </p:nvPicPr>
        <p:blipFill>
          <a:blip r:embed="rId1"/>
          <a:stretch/>
        </p:blipFill>
        <p:spPr>
          <a:xfrm>
            <a:off x="468360" y="189000"/>
            <a:ext cx="8312040" cy="4895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6" name="Прямоугольник 3"/>
          <p:cNvSpPr/>
          <p:nvPr/>
        </p:nvSpPr>
        <p:spPr>
          <a:xfrm>
            <a:off x="395280" y="5300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арсук - это млекопитающее из семейства ласковых. Они обитают в Европе и Азии, и предпочитают жить в лесах и районах с плодородной почвой. Барсуки имеют характерные черно-белые полосы на лице и тело покрыто шерстью от коричневого до черного цв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 background"/>
          <p:cNvPicPr/>
          <p:nvPr/>
        </p:nvPicPr>
        <p:blipFill>
          <a:blip r:embed="rId1"/>
          <a:stretch/>
        </p:blipFill>
        <p:spPr>
          <a:xfrm>
            <a:off x="324000" y="333360"/>
            <a:ext cx="8474040" cy="5256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8" name="Прямоугольник 2"/>
          <p:cNvSpPr/>
          <p:nvPr/>
        </p:nvSpPr>
        <p:spPr>
          <a:xfrm>
            <a:off x="395280" y="5732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арсуки активны ночью и питаются различными видами насекомых, мелкими грызунами, яйцами, птицами и растительностью. Они могут также поедать пада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 background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5674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24000" y="981000"/>
            <a:ext cx="8569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то прибежал к избе лесни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Что у него было на голов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очему барсу попался в эту ловуш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 кому пришлось обратиться барсу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ак лесник помог зверь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уда убежал барсу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214800" y="18900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3284640"/>
          <a:ext cx="3600360" cy="325728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 прибежал к избе лесник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ча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у него было на голов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клянная ба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аф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му барсук попался в эту ловушк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-то вкуснень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ять не мож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кому пришлось обратиться барсук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омощью к лесн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лесник помог зверьк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куратно разб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да убежал барсук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частливый, в тай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Box 3"/>
          <p:cNvSpPr/>
          <p:nvPr/>
        </p:nvSpPr>
        <p:spPr>
          <a:xfrm>
            <a:off x="250920" y="260280"/>
            <a:ext cx="3960720" cy="2255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рсук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избе лесника из чащи прибежал барсук. На голове  у него была стеклянная банка, как скафанд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отрит барсук сквозь банку, а снять её не может. Что-то вкусное  было в банке, вот  зверёк  и  попал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помощью  он прибежал к человеку. Лесник аккуратно  разбил  банку. Счастливый  барсук  скрылся  в  тайге.                           ( по Г. Ковенчуку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909000" y="27082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линия  сги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s://xn--80aaaga2ais1c4e.ot7.ru/admin/uploads/8/8/7/%D0%91%D0%B0%D1%80%D1%81%D1%83%D0%BA-7144.gif"/>
          <p:cNvPicPr/>
          <p:nvPr/>
        </p:nvPicPr>
        <p:blipFill>
          <a:blip r:embed="rId1"/>
          <a:srcRect l="0" t="8749" r="0" b="7253"/>
          <a:stretch/>
        </p:blipFill>
        <p:spPr>
          <a:xfrm>
            <a:off x="2411280" y="2708280"/>
            <a:ext cx="1440000" cy="581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179280" y="115920"/>
            <a:ext cx="4248360" cy="6553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788000" y="3213000"/>
          <a:ext cx="3600360" cy="3294000"/>
        </p:xfrm>
        <a:graphic>
          <a:graphicData uri="http://schemas.openxmlformats.org/drawingml/2006/table">
            <a:tbl>
              <a:tblPr/>
              <a:tblGrid>
                <a:gridCol w="1800000"/>
                <a:gridCol w="1800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 прибежал к избе лесник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ча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у него было на голов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клянная ба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аф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му барсук попался в эту ловушк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-то вкуснень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ять не мож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кому пришлось обратиться барсук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омощью к лесн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лесник помог зверьк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куратно разб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да убежал барсук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частливый, в тай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8"/>
          <p:cNvSpPr/>
          <p:nvPr/>
        </p:nvSpPr>
        <p:spPr>
          <a:xfrm>
            <a:off x="4643280" y="260280"/>
            <a:ext cx="3961080" cy="2255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рсук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избе лесника из чащи прибежал барсук. На голове  у него была стеклянная банка, как скафанд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отрит барсук сквозь банку, а снять её не может. Что-то вкусное  было в банке, вот  зверёк  и  попал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помощью  он прибежал к человеку. Лесник аккуратно  разбил  банку. Счастливый  барсук  скрылся  в  тайге.                           ( по Г. Ковенчуку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315040" y="27082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линия  сги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xn--80aaaga2ais1c4e.ot7.ru/admin/uploads/8/8/7/%D0%91%D0%B0%D1%80%D1%81%D1%83%D0%BA-7144.gif"/>
          <p:cNvPicPr/>
          <p:nvPr/>
        </p:nvPicPr>
        <p:blipFill>
          <a:blip r:embed="rId2"/>
          <a:srcRect l="0" t="8749" r="0" b="7253"/>
          <a:stretch/>
        </p:blipFill>
        <p:spPr>
          <a:xfrm>
            <a:off x="6948360" y="2637000"/>
            <a:ext cx="1440000" cy="581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1"/>
          <p:cNvSpPr/>
          <p:nvPr/>
        </p:nvSpPr>
        <p:spPr>
          <a:xfrm>
            <a:off x="4572000" y="115920"/>
            <a:ext cx="4248000" cy="6553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s://kartinki.pics/pics/uploads/posts/2022-06/1656359494_51-kartinkin-net-p-simvol-barsuka-art-krasivo-55.jpg"/>
          <p:cNvPicPr/>
          <p:nvPr/>
        </p:nvPicPr>
        <p:blipFill>
          <a:blip r:embed="rId1"/>
          <a:srcRect l="0" t="13833" r="6558" b="17018"/>
          <a:stretch/>
        </p:blipFill>
        <p:spPr>
          <a:xfrm>
            <a:off x="1258920" y="1125360"/>
            <a:ext cx="6192720" cy="324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425040" y="501264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9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4T15:59:03Z</dcterms:created>
  <dc:creator>Елена Берюхова</dc:creator>
  <dc:description/>
  <dc:language>en-US</dc:language>
  <cp:lastModifiedBy>Берюхов</cp:lastModifiedBy>
  <dcterms:modified xsi:type="dcterms:W3CDTF">2025-01-27T15:31:05Z</dcterms:modified>
  <cp:revision>12</cp:revision>
  <dc:subject/>
  <dc:title>Слайд 1</dc:title>
</cp:coreProperties>
</file>