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1D8-F94B-479B-B52E-5A8B11F7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FB1-CB8C-4E8C-93FA-A0154D7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C32-0EAE-440F-9A55-67B6D388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03C-D26D-404E-BDB6-9B3D3CDC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2BC-83CD-4E77-8350-C126365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73E-1DEC-4284-9D9C-E028842F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64C-BA77-46F3-9D65-55A58608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A56-02D4-4075-8472-07374C57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C57-A3CA-4CA0-80C2-31701FEF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650-B4F7-494A-B804-6C7ECE5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FBD-B5A2-4411-895C-D4AA594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50C-4DBD-43B9-9686-D7B9EAC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06D5-A9DE-484E-AA8B-79A2983ED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img.sciencedc.com/img/health-medicine/discovery-of-immune-cells-that-protect-against-multiple-sclerosis-offers-hope-for-new-treatment.jpg"/>
          <p:cNvPicPr/>
          <p:nvPr/>
        </p:nvPicPr>
        <p:blipFill>
          <a:blip r:embed="rId2"/>
          <a:stretch/>
        </p:blipFill>
        <p:spPr>
          <a:xfrm>
            <a:off x="108000" y="123840"/>
            <a:ext cx="8856720" cy="489276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" name="Скругленный прямоугольник 11"/>
          <p:cNvSpPr/>
          <p:nvPr/>
        </p:nvSpPr>
        <p:spPr>
          <a:xfrm>
            <a:off x="324000" y="268200"/>
            <a:ext cx="208728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4"/>
          <p:cNvSpPr/>
          <p:nvPr/>
        </p:nvSpPr>
        <p:spPr>
          <a:xfrm>
            <a:off x="6227640" y="339840"/>
            <a:ext cx="2665440" cy="7189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8"/>
          <p:cNvSpPr/>
          <p:nvPr/>
        </p:nvSpPr>
        <p:spPr>
          <a:xfrm>
            <a:off x="7236000" y="4300560"/>
            <a:ext cx="158400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7315200" y="4300560"/>
            <a:ext cx="14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398160" y="2682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Урок 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695240" y="26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6310800" y="41112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Бакт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7164360" y="1851120"/>
            <a:ext cx="1655640" cy="23716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08000" y="206640"/>
            <a:ext cx="8891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5. Закончи пред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ля борьбы с микробами использую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пециальные лек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6. Отметь рисунок, на котором на руках мальчика будет меньше микро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микробы11.png"/>
          <p:cNvPicPr/>
          <p:nvPr/>
        </p:nvPicPr>
        <p:blipFill>
          <a:blip r:embed="rId2"/>
          <a:stretch/>
        </p:blipFill>
        <p:spPr>
          <a:xfrm>
            <a:off x="2268360" y="2427120"/>
            <a:ext cx="5262840" cy="254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79280" y="144360"/>
            <a:ext cx="8460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7. Объясни, как ты понимаешь выражение "совершенно безвредны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безопасны, не несут угрозу, не причиняют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https://static.vecteezy.com/system/resources/previews/000/149/553/large_2x/mold-monster-character-vectors.jpg"/>
          <p:cNvPicPr/>
          <p:nvPr/>
        </p:nvPicPr>
        <p:blipFill>
          <a:blip r:embed="rId2"/>
          <a:srcRect l="0" t="9900" r="0" b="10540"/>
          <a:stretch/>
        </p:blipFill>
        <p:spPr>
          <a:xfrm>
            <a:off x="3635280" y="1779480"/>
            <a:ext cx="530244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50920" y="1962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8. Заполни таблицу, используя слова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627120"/>
          <a:ext cx="8569080" cy="4208400"/>
        </p:xfrm>
        <a:graphic>
          <a:graphicData uri="http://schemas.openxmlformats.org/drawingml/2006/table">
            <a:tbl>
              <a:tblPr/>
              <a:tblGrid>
                <a:gridCol w="3851280"/>
                <a:gridCol w="4717800"/>
              </a:tblGrid>
              <a:tr h="3510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Кто такие бактер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то мельчайшие живые существа, которые невозможно увидеть невооружённым глаз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Какую форму имеют бактер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ни имеют разную форму: цилиндрическую, спиралевидную или шарообразну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Где живёт наибольшее количество бактерий?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громное количество бактерий можно найти повсюду, куда ни посмотри. Многие бактерии обитают в почв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Как называются бактерии, которые вызывают инфекци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кие бактерии называют микроб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79280" y="13356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9. Подбери к словам синон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итают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одятся, живу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вредный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безопасн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льчайшие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икроскопический, крошечн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шарообразный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круглый, шар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79280" y="242712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0. Вставь пропущенную безударную гласную. Подчеркни грамматическую осно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203640" y="3940200"/>
            <a:ext cx="1873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 flipV="1" rot="10800000">
            <a:off x="250560" y="3509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которы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бактер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ередвигаются с помощью маленьких ус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50920" y="339840"/>
            <a:ext cx="864216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териал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easyen.ru/load/metodika/kompleksy/kompleks_rabot_po_teme_chtenie_rabota_s_tekstom/457-1-0-626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971640" y="1131840"/>
            <a:ext cx="7056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volzsky-klass.ru/krylova-o-n-chtenie-rabota-s-tekstom-3-klas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5600" y="19512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. Прочитай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24000" y="636120"/>
            <a:ext cx="84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Бактерии - это мельчайшие живые существа, которые невозможно увидеть невооружённым глазом. Это одна из простейших форм жизни. Бактерии больше всего похожи на растения, чем на животных. Они имеют разную форму: цилиндрическую, спиралевидную или шарообразну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Существуют тысячи видов бактерий. Огромное количество бактерий можно найти повсюду, куда ни посмотри. Многие бактерии обитают в почве. Некоторые бактерии живут внутри нашего тела – они помогают нам переваривать пищ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Большинство бактерий совершенно безвредны, но некоторые вызывают инфекции. Попадание некоторых бактерий в организм человека несёт опасность. Такие бактерии называют микробами. Для борьбы с микробами используют специальные лек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(88 слов)  (По материалам энциклопедии  "Хочу всё знать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www.otchegopomogaet.ru/wp-content/uploads/2019/07/%D0%B1%D0%B0%D0%BA%D1%82%D0%B5%D1%80%D0%B8%D0%B8.jpg"/>
          <p:cNvPicPr/>
          <p:nvPr/>
        </p:nvPicPr>
        <p:blipFill>
          <a:blip r:embed="rId2"/>
          <a:stretch/>
        </p:blipFill>
        <p:spPr>
          <a:xfrm>
            <a:off x="108000" y="123840"/>
            <a:ext cx="8928000" cy="489600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yandex.ru/images/_crpd/jSTb10476/9b9bcfNb-/R7AM-FKU1e9p0h42hJssnE2Ed0yBjWHPQwtDUq7hKm8OiP0GjZb_cStgjRkC6kMp7lBZs4zyhvoN80czi2Dyt1axAZQK9MDuJMNSg52uTIld9V4cqN14-m82FkOW7Stzc6GIW03Kz3gmLTE9HvY_lUbcIG99Gy5LzBfqEtNI5rp2yAnFk1Q"/>
          <p:cNvPicPr/>
          <p:nvPr/>
        </p:nvPicPr>
        <p:blipFill>
          <a:blip r:embed="rId2"/>
          <a:stretch/>
        </p:blipFill>
        <p:spPr>
          <a:xfrm>
            <a:off x="108000" y="123840"/>
            <a:ext cx="6527880" cy="489600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4" descr="https://im0-tub-ru.yandex.net/i?id=50e6c95d8260a9562a5be03c3b73c0d4-l&amp;n=13"/>
          <p:cNvPicPr/>
          <p:nvPr/>
        </p:nvPicPr>
        <p:blipFill>
          <a:blip r:embed="rId3"/>
          <a:stretch/>
        </p:blipFill>
        <p:spPr>
          <a:xfrm>
            <a:off x="6659640" y="123840"/>
            <a:ext cx="2376360" cy="181116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6" descr="https://images.theconversation.com/files/195865/original/file-20171122-6027-1oe0fkn.jpg?ixlib=rb-1.1.0&amp;q=45&amp;auto=format&amp;w=1356&amp;h=668&amp;fit=crop"/>
          <p:cNvPicPr/>
          <p:nvPr/>
        </p:nvPicPr>
        <p:blipFill>
          <a:blip r:embed="rId4"/>
          <a:stretch/>
        </p:blipFill>
        <p:spPr>
          <a:xfrm>
            <a:off x="6659640" y="1995480"/>
            <a:ext cx="2376360" cy="302580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50920" y="144720"/>
            <a:ext cx="86770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2. Определи стиль текста: научный, художественный или публицистический.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3. Какова главная тема текста?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4. Допиш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. 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__________________________________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. ___________________________________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рьба с микр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s://ds02.infourok.ru/uploads/ex/07ff/00063606-bff17e48/11/hello_html_m30e90730.jpg"/>
          <p:cNvPicPr/>
          <p:nvPr/>
        </p:nvPicPr>
        <p:blipFill>
          <a:blip r:embed="rId2"/>
          <a:stretch/>
        </p:blipFill>
        <p:spPr>
          <a:xfrm>
            <a:off x="5940360" y="700200"/>
            <a:ext cx="2941560" cy="227160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79280" y="205560"/>
            <a:ext cx="831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5. Закончи пред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борьбы с микробами использую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6. Отметь рисунок, на котором на руках мальчика будет меньше микро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мик.jpg"/>
          <p:cNvPicPr/>
          <p:nvPr/>
        </p:nvPicPr>
        <p:blipFill>
          <a:blip r:embed="rId2"/>
          <a:stretch/>
        </p:blipFill>
        <p:spPr>
          <a:xfrm>
            <a:off x="3348000" y="2355840"/>
            <a:ext cx="538632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79280" y="203760"/>
            <a:ext cx="83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7. Объясни, как ты понимаешь выражение "совершенно безвредны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8. Заполни таблицу, используя слова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2284560"/>
          <a:ext cx="8280360" cy="2589120"/>
        </p:xfrm>
        <a:graphic>
          <a:graphicData uri="http://schemas.openxmlformats.org/drawingml/2006/table">
            <a:tbl>
              <a:tblPr/>
              <a:tblGrid>
                <a:gridCol w="6953400"/>
                <a:gridCol w="1326960"/>
              </a:tblGrid>
              <a:tr h="350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то такие бактер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ую форму имеют бактер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де живёт наибольшее количество бактерий?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 называются бактерии, которые вызывают инфекци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50920" y="289080"/>
            <a:ext cx="8713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9. Подбери к словам синон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итают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вредный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льчайшие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шарообраз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10. Вставь пропущенную безударную гласную. Подчеркни грамматическую осно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которые бактерии передв_гаются с помощью маленьких ус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http://pngimg.com/uploads/bacteria/bacteria_PNG40.png"/>
          <p:cNvPicPr/>
          <p:nvPr/>
        </p:nvPicPr>
        <p:blipFill>
          <a:blip r:embed="rId2"/>
          <a:stretch/>
        </p:blipFill>
        <p:spPr>
          <a:xfrm>
            <a:off x="6891480" y="268200"/>
            <a:ext cx="197784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avatars.mds.yandex.net/get-pdb/1542587/4c7a62a5-1226-45ef-add4-e6ca3e0635aa/s1200?webp=false"/>
          <p:cNvPicPr/>
          <p:nvPr/>
        </p:nvPicPr>
        <p:blipFill>
          <a:blip r:embed="rId2"/>
          <a:srcRect l="10627" t="1914" r="10586" b="2431"/>
          <a:stretch/>
        </p:blipFill>
        <p:spPr>
          <a:xfrm>
            <a:off x="7020000" y="1203480"/>
            <a:ext cx="1873080" cy="3600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75560" y="2682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789840"/>
            <a:ext cx="67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2. Определи стиль текста: научный, художественный или публицистический.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ау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3. Какова главная тема текста?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4. Допиш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Calibri"/>
              </a:rPr>
              <a:t>1. Бактерии - мельчайшие живые существа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Calibri"/>
              </a:rPr>
              <a:t>2. Существуют тысячи видов бактерий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Calibri"/>
              </a:rPr>
              <a:t>3. Борьба с микр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4T16:05:44Z</dcterms:created>
  <dc:creator>Елена</dc:creator>
  <dc:description/>
  <dc:language>en-US</dc:language>
  <cp:lastModifiedBy>Берюхов</cp:lastModifiedBy>
  <dcterms:modified xsi:type="dcterms:W3CDTF">2020-09-09T17:03:44Z</dcterms:modified>
  <cp:revision>11</cp:revision>
  <dc:subject/>
  <dc:title>Слайд 1</dc:title>
</cp:coreProperties>
</file>