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345-9895-4212-9606-74846162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C683-21E6-4E6B-88A4-46DE02D3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FAD-DFF0-4ED5-9E69-D458D4EE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34A-AFE7-47BD-B0C4-D30AB371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C15C-C5E4-4C87-899F-CD467E36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B6A-1C68-4B04-A4F2-F0614A25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A2FA-171E-4557-83E7-CD66A8AF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3B8-70D1-432B-9253-C0C70351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C90-4FBF-4C45-8427-F818152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8D6-9953-4581-A427-647BE869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C0A-62F4-49B9-AE55-E507ED07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B31-9363-4016-895A-A77F9CD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BEE-84C5-40D1-88D4-0A7B5261A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Рисунок 23" descr="G:\для сайта работы\эмблема\Эмблема круг.png"/>
          <p:cNvPicPr/>
          <p:nvPr/>
        </p:nvPicPr>
        <p:blipFill>
          <a:blip r:embed="rId2"/>
          <a:stretch/>
        </p:blipFill>
        <p:spPr>
          <a:xfrm>
            <a:off x="8659800" y="6381720"/>
            <a:ext cx="484200" cy="47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s://i.pinimg.com/564x/d1/80/84/d1808435f77df9bed4d395a0d2c517b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2770200" y="5805360"/>
            <a:ext cx="2995560" cy="82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omic Sans MS"/>
              </a:rPr>
              <a:t>На катк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На кат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Пришла ранняя зима. Стояли сильные морозы. На школьном дворе залили каток. Мальчики и девочки катались на коньках. Они быстро скользили по гладкому льду. У всех было весёлое настроение. Большой мороз детям был не страш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79280" y="189000"/>
            <a:ext cx="878544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                  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Ответь на вопро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Какая пора года пришл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Что сделали на школьном двор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Кто катается на коньк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Какое настроение было у дете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Страшен ли ребятам мороз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250920" y="26028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а для справок: ра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яя,  ст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яли, сил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ые, м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р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ы, залили, быст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с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ьзили, по гл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у, б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ьшой, не страш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s://i.pinimg.com/564x/38/ff/cf/38ffcf8426df4d221a6781a569c7d0d2.jpg"/>
          <p:cNvPicPr/>
          <p:nvPr/>
        </p:nvPicPr>
        <p:blipFill>
          <a:blip r:embed="rId1"/>
          <a:stretch/>
        </p:blipFill>
        <p:spPr>
          <a:xfrm>
            <a:off x="1547640" y="3213000"/>
            <a:ext cx="5362920" cy="3384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9280" y="189000"/>
            <a:ext cx="878544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               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Ответь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акая пора года пришл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Что сделали на школьном двор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то катается на коньк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Какое настроение было у дете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Страшен ли ребятам моро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24000" y="3860640"/>
            <a:ext cx="856908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лова для справок: ра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яя,  ст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яли, сил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ые, м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р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ы, залили, быстр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ск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ьзили, по гл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ому, б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ьшой, не страше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317520" y="33336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 ка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шла ранняя зима. Стояли сильные морозы. На школьном дворе залили каток. Мальчики и девочки катались на коньках. Они быстро скользили по гладкому льду. У всех было весёлое настроение. Большой мороз детям был не стра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479880" y="3429000"/>
            <a:ext cx="373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тветь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акая пора года приш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о сделали на школьном дво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то катается на конь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акое настроение было у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рашен ли ребятам мор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84120" y="5157720"/>
            <a:ext cx="37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лова для справок: ра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я,  с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ые, 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р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ы, залили, быст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ьзили, по гл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му, 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ьш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 стра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317520" y="333360"/>
            <a:ext cx="4110120" cy="2664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317520" y="3357720"/>
            <a:ext cx="4110120" cy="3095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1323360" y="29973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иния  сги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903920" y="333360"/>
            <a:ext cx="4060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з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На кат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шла ранняя зима. Стояли сильные морозы. На школьном дворе залили каток. Мальчики и девочки катались на коньках. Они быстро скользили по гладкому льду. У всех было весёлое настроение. Большой мороз детям был не стра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5066280" y="3429000"/>
            <a:ext cx="373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тветь на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акая пора года приш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Что сделали на школьном двор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то катается на коньк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акое настроение было у дет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трашен ли ребятам моро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4970520" y="5157720"/>
            <a:ext cx="37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лова для справок: ра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н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я,  ст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л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ил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ые, 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р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ы, залили, быст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ьзили, по гл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му, б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ьш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е страш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4903920" y="333360"/>
            <a:ext cx="4060800" cy="2664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4903920" y="3357720"/>
            <a:ext cx="4060800" cy="309564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5909760" y="29973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линия  сги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Picture background"/>
          <p:cNvPicPr/>
          <p:nvPr/>
        </p:nvPicPr>
        <p:blipFill>
          <a:blip r:embed="rId1"/>
          <a:stretch/>
        </p:blipFill>
        <p:spPr>
          <a:xfrm>
            <a:off x="3708360" y="404640"/>
            <a:ext cx="576360" cy="65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Picture background"/>
          <p:cNvPicPr/>
          <p:nvPr/>
        </p:nvPicPr>
        <p:blipFill>
          <a:blip r:embed="rId2"/>
          <a:stretch/>
        </p:blipFill>
        <p:spPr>
          <a:xfrm>
            <a:off x="8244000" y="404640"/>
            <a:ext cx="57600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s://i.pinimg.com/564x/9d/66/91/9d6691d26869b2a68bca677fc34f4ecf.jpg"/>
          <p:cNvPicPr/>
          <p:nvPr/>
        </p:nvPicPr>
        <p:blipFill>
          <a:blip r:embed="rId1"/>
          <a:stretch/>
        </p:blipFill>
        <p:spPr>
          <a:xfrm>
            <a:off x="1692360" y="260280"/>
            <a:ext cx="6315120" cy="63374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sp>
        <p:nvSpPr>
          <p:cNvPr id="65" name="Прямоугольник 2"/>
          <p:cNvSpPr/>
          <p:nvPr/>
        </p:nvSpPr>
        <p:spPr>
          <a:xfrm rot="16200000">
            <a:off x="7254720" y="298260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1-07T17:20:17Z</dcterms:created>
  <dc:creator>Елена Берюхова</dc:creator>
  <dc:description/>
  <dc:language>en-US</dc:language>
  <cp:lastModifiedBy>Берюхов</cp:lastModifiedBy>
  <dcterms:modified xsi:type="dcterms:W3CDTF">2024-11-22T10:10:18Z</dcterms:modified>
  <cp:revision>6</cp:revision>
  <dc:subject/>
  <dc:title>Слайд 1</dc:title>
</cp:coreProperties>
</file>