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623-A446-4358-845F-8E11060B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555-CCA2-409D-98AC-9DFE044B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70F-9A2E-45C5-B347-C3E9DF05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0A7-178C-4445-BD53-007C63D4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860-AF82-43DF-A250-2E87935A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5F1-9ADC-4CD3-96C1-4138B35B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DCD-B3F8-4EBF-AB17-8C6D5FF1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E4F-25A9-44DF-8DAB-32686DC9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A8D-9A77-4AAC-B1A6-A807B7E0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2EA-C78F-4349-BBA2-2FF2FE6D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05B-240E-42C7-B1F5-BE63CC5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27B-9961-48D1-90A3-D1E5335C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FCDC-39CA-4921-9FF1-5591B4ECC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23" descr="G:\для сайта работы\эмблема\Эмблема круг.png"/>
          <p:cNvPicPr/>
          <p:nvPr/>
        </p:nvPicPr>
        <p:blipFill>
          <a:blip r:embed="rId2"/>
          <a:stretch/>
        </p:blipFill>
        <p:spPr>
          <a:xfrm>
            <a:off x="8586720" y="6308640"/>
            <a:ext cx="557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vk.com/shkola_abv" TargetMode="External"/><Relationship Id="rId3" Type="http://schemas.openxmlformats.org/officeDocument/2006/relationships/hyperlink" Target="https://www.shkola-abv.ru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masterpiecer-images.s3.yandex.net/fd2f4cdfdc8911ef98556e28a3071bbd:1"/>
          <p:cNvPicPr/>
          <p:nvPr/>
        </p:nvPicPr>
        <p:blipFill>
          <a:blip r:embed="rId1"/>
          <a:stretch/>
        </p:blipFill>
        <p:spPr>
          <a:xfrm>
            <a:off x="3708360" y="260280"/>
            <a:ext cx="4913280" cy="6318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3" name="TextBox 4"/>
          <p:cNvSpPr/>
          <p:nvPr/>
        </p:nvSpPr>
        <p:spPr>
          <a:xfrm rot="16200000">
            <a:off x="-639720" y="2376360"/>
            <a:ext cx="6337440" cy="21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Изложение по плану. Нитка на лап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468360" y="148320"/>
            <a:ext cx="842472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Нитка на лап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ьчишки хотели поймать скворчонка. Он вырвался, но на лапке затянулась петля. Скворец волочил за собой нитку. Однажды нитка зацепилась за сук. Скворец  повис  вниз  голов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тицу заметила галка. Сначала она рассматривала скворца чёрными быстрыми глазами. Потом подлетела и стала клевать там, где нитка зацепилась за с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идел скворца кот и полез на дерево. Галка вспорхнула и клюнула его между глаз. Кот слетел на землю. Галка снова принялась за рабо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идели это рабочие. Один влез на дерево и освободил пленника. С того дня скворец и галка подружили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 background"/>
          <p:cNvPicPr/>
          <p:nvPr/>
        </p:nvPicPr>
        <p:blipFill>
          <a:blip r:embed="rId1"/>
          <a:stretch/>
        </p:blipFill>
        <p:spPr>
          <a:xfrm>
            <a:off x="539640" y="189000"/>
            <a:ext cx="8426520" cy="5256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804760" y="5516640"/>
            <a:ext cx="377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скворе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051360" y="5749920"/>
            <a:ext cx="287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гал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www.icr.org/i/articles/af/Main%20Stage%20-%201400x1050/sentinals_needed.jpg"/>
          <p:cNvPicPr/>
          <p:nvPr/>
        </p:nvPicPr>
        <p:blipFill>
          <a:blip r:embed="rId1"/>
          <a:stretch/>
        </p:blipFill>
        <p:spPr>
          <a:xfrm>
            <a:off x="971640" y="189000"/>
            <a:ext cx="7296120" cy="54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611280" y="361080"/>
            <a:ext cx="80643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Вопросы и задания к тек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хотел поймать скворчон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ая беда случилось со скворц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пытался ему помоч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хотел съесть скворц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кажите, как галка спасла скворца от гибели в лапах кот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 окончательно освободил пленник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ие отношения установились с того дня между скворцом и галк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32000" y="261720"/>
            <a:ext cx="626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имерный план и опорны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052640"/>
          <a:ext cx="8569440" cy="4890960"/>
        </p:xfrm>
        <a:graphic>
          <a:graphicData uri="http://schemas.openxmlformats.org/drawingml/2006/table">
            <a:tbl>
              <a:tblPr/>
              <a:tblGrid>
                <a:gridCol w="2867040"/>
                <a:gridCol w="5702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Скворец попал в бе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тели поймать,  волочил нитку,  скворчонок,  вырвался,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 петля затянулась, зацепи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Галка пытается помочь              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тила, рассматривала,  чёрными глазками, подлетела  и стала  клев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Галка спасает скворца от кота  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з, вспорхнула и клюнула, снова принялас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Подружились                                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вободил, пленник,  подружил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50920" y="361800"/>
            <a:ext cx="8713800" cy="606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Словарно – орфографическая подгот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ясните написание гласных и согласных в корнях слов: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 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х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о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тели, скв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о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рч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о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нка, зат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я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нулась, п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е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тля, в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о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лочил, зац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е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пилась, см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о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трела, подл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е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тела, вни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з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 лапка, поле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з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 гла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атите внимание на написание слов: 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 кл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е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вать, всп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о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рхнула, снова, осв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о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бодил, с того д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24000" y="347040"/>
            <a:ext cx="3887640" cy="26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тка на ла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ьчишки хотели поймать скворчонка. Он вырвался, но на лапке затянулась петля. Скворец волочил за собой нитку. Однажды нитка зацепилась за сук. Скворец повис вниз гол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тицу заметила галка. Сначала она рассматривала скворца чёрными быстрыми глазами. Потом подлетела и стала клевать там, где нитка зацепилась за с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идел скворца кот и полез на дерево. Галка вспорхнула и клюнула его между глаз. Кот слетел на землю. Галка снова принялась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идели это рабочие. Один влез на дерево и освободил пленника. С того дня скворец и галка подружи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4076640"/>
          <a:ext cx="3887640" cy="2378160"/>
        </p:xfrm>
        <a:graphic>
          <a:graphicData uri="http://schemas.openxmlformats.org/drawingml/2006/table">
            <a:tbl>
              <a:tblPr/>
              <a:tblGrid>
                <a:gridCol w="1299960"/>
                <a:gridCol w="25876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Скворец попал в бе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тели поймать,  волочил нитку,  скворчонок,  вырвался, но петля затянулась, зацепил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Галка пытается помочь               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тила, рассматривала,  чёрными глазками, подлетела  и стала  клева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Галка спасает скворца от кота 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з, вспорхнула и клюнула, снова приняла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Подружились                               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вободил, пленник,  подружили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3" descr="https://pofoto.club/uploads/posts/2022-01/1641166091_12-pofoto-club-p-skvorets-foto-dlya-raskraski-18.png"/>
          <p:cNvPicPr/>
          <p:nvPr/>
        </p:nvPicPr>
        <p:blipFill>
          <a:blip r:embed="rId1"/>
          <a:srcRect l="5434" t="0" r="10501" b="13082"/>
          <a:stretch/>
        </p:blipFill>
        <p:spPr>
          <a:xfrm>
            <a:off x="3059280" y="2997360"/>
            <a:ext cx="1152360" cy="906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482840" y="3284640"/>
            <a:ext cx="1521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гиб лист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s://img.razrisyika.ru/img/74/1200/294567-krasochnaya-stranica-raskraski-galki.jpg"/>
          <p:cNvPicPr/>
          <p:nvPr/>
        </p:nvPicPr>
        <p:blipFill>
          <a:blip r:embed="rId2"/>
          <a:stretch/>
        </p:blipFill>
        <p:spPr>
          <a:xfrm>
            <a:off x="324000" y="2924280"/>
            <a:ext cx="863280" cy="1090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179280" y="189000"/>
            <a:ext cx="4176720" cy="648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4788000" y="347040"/>
            <a:ext cx="3887640" cy="26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тка на ла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ьчишки хотели поймать скворчонка. Он вырвался, но на лапке затянулась петля. Скворец волочил за собой нитку. Однажды нитка зацепилась за сук. Скворец повис вниз гол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тицу заметила галка. Сначала она рассматривала скворца чёрными быстрыми глазами. Потом подлетела и стала клевать там, где нитка зацепилась за с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идел скворца кот и полез на дерево. Галка вспорхнула и клюнула его между глаз. Кот слетел на землю. Галка снова принялась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идели это рабочие. Один влез на дерево и освободил пленника. С того дня скворец и галка подружи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788000" y="4076640"/>
          <a:ext cx="3887640" cy="2378160"/>
        </p:xfrm>
        <a:graphic>
          <a:graphicData uri="http://schemas.openxmlformats.org/drawingml/2006/table">
            <a:tbl>
              <a:tblPr/>
              <a:tblGrid>
                <a:gridCol w="1301760"/>
                <a:gridCol w="25858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Скворец попал в бе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тели поймать,  волочил нитку,  скворчонок,  вырвался, но петля затянулась, зацепил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Галка пытается помочь               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тила, рассматривала,  чёрными глазками, подлетела  и стала  кле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Галка спасает скворца от кота 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з, вспорхнула и клюнула, снова приняла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Подружились                               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вободил, пленник,  подружили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3" descr="https://pofoto.club/uploads/posts/2022-01/1641166091_12-pofoto-club-p-skvorets-foto-dlya-raskraski-18.png"/>
          <p:cNvPicPr/>
          <p:nvPr/>
        </p:nvPicPr>
        <p:blipFill>
          <a:blip r:embed="rId3"/>
          <a:srcRect l="5434" t="0" r="10501" b="13082"/>
          <a:stretch/>
        </p:blipFill>
        <p:spPr>
          <a:xfrm>
            <a:off x="7524720" y="2997360"/>
            <a:ext cx="115092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5947920" y="3284640"/>
            <a:ext cx="1521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гиб лист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s://img.razrisyika.ru/img/74/1200/294567-krasochnaya-stranica-raskraski-galki.jpg"/>
          <p:cNvPicPr/>
          <p:nvPr/>
        </p:nvPicPr>
        <p:blipFill>
          <a:blip r:embed="rId4"/>
          <a:stretch/>
        </p:blipFill>
        <p:spPr>
          <a:xfrm>
            <a:off x="4788000" y="2924280"/>
            <a:ext cx="863640" cy="1090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2"/>
          <p:cNvSpPr/>
          <p:nvPr/>
        </p:nvSpPr>
        <p:spPr>
          <a:xfrm>
            <a:off x="4643280" y="189000"/>
            <a:ext cx="4176720" cy="648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979640" y="311040"/>
            <a:ext cx="6350040" cy="6546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5650920" y="189000"/>
            <a:ext cx="32544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формление: «Школа АБ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йт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www.shkola-abv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7T08:05:31Z</dcterms:created>
  <dc:creator>Елена Берюхова</dc:creator>
  <dc:description/>
  <dc:language>en-US</dc:language>
  <cp:lastModifiedBy>Берюхов</cp:lastModifiedBy>
  <dcterms:modified xsi:type="dcterms:W3CDTF">2025-02-02T18:40:52Z</dcterms:modified>
  <cp:revision>9</cp:revision>
  <dc:subject/>
  <dc:title>Слайд 1</dc:title>
</cp:coreProperties>
</file>