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E18-A4B6-4E55-84DC-14167F56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354-327E-4F8B-B46C-BDC468B5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E33-B286-43D8-BBB3-7BA28442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A99-8F0A-4BDF-91E1-4B4DB8BF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39D-A0F2-4C46-823A-6A8BB410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82F-2FF0-49E6-A4E0-59B7C57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7F1-37C3-40C2-91F3-3BDFB576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F79-76CC-4E5D-B30A-233E0BF5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12A-CEB7-4B81-BB44-A0DDF1F1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EEE-F1AF-49CF-AAA9-1CAB5DA2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1CD-9B3E-4326-9802-58054F7F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633-3109-43DD-8BC7-C187F5B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B35A-0534-4EB0-B1DB-31EF3D6D5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hyperlink" Target="http://www.shkola-abv.ru/" TargetMode="External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s://vk.com/shkola_abv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Елена\Desktop\cайт\Год Змеи\7b0f4eb8c869c9b3e3b45f29e1fbac7c.jpg"/>
          <p:cNvPicPr/>
          <p:nvPr/>
        </p:nvPicPr>
        <p:blipFill>
          <a:blip r:embed="rId1"/>
          <a:stretch/>
        </p:blipFill>
        <p:spPr>
          <a:xfrm>
            <a:off x="3924360" y="404640"/>
            <a:ext cx="4645080" cy="619308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42" name="TextBox 4"/>
          <p:cNvSpPr/>
          <p:nvPr/>
        </p:nvSpPr>
        <p:spPr>
          <a:xfrm rot="16200000">
            <a:off x="-1279800" y="2917440"/>
            <a:ext cx="624780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Аппликация мозаик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mic Sans MS"/>
              </a:rPr>
              <a:t>Новогодняя игруш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Елена\Desktop\cайт\Год Змеи\клипарт\3e08f3945a1ef15ff5d3164a2542e311.jpg"/>
          <p:cNvPicPr/>
          <p:nvPr/>
        </p:nvPicPr>
        <p:blipFill>
          <a:blip r:embed="rId1"/>
          <a:stretch/>
        </p:blipFill>
        <p:spPr>
          <a:xfrm>
            <a:off x="179280" y="260280"/>
            <a:ext cx="4330800" cy="5184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Елена\Desktop\cайт\Год Змеи\клипарт\3e08f3945a1ef15ff5d3164a2542e311.jpg"/>
          <p:cNvPicPr/>
          <p:nvPr/>
        </p:nvPicPr>
        <p:blipFill>
          <a:blip r:embed="rId2"/>
          <a:stretch/>
        </p:blipFill>
        <p:spPr>
          <a:xfrm>
            <a:off x="4643280" y="260280"/>
            <a:ext cx="433080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Елена\Desktop\cайт\Год Змеи\клипарт\5cff7bd16ae012e5bf9420ac9d8814ba.jpg"/>
          <p:cNvPicPr/>
          <p:nvPr/>
        </p:nvPicPr>
        <p:blipFill>
          <a:blip r:embed="rId1"/>
          <a:stretch/>
        </p:blipFill>
        <p:spPr>
          <a:xfrm>
            <a:off x="4862520" y="260280"/>
            <a:ext cx="4029120" cy="482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Елена\Desktop\cайт\Год Змеи\клипарт\5cff7bd16ae012e5bf9420ac9d8814ba.jpg"/>
          <p:cNvPicPr/>
          <p:nvPr/>
        </p:nvPicPr>
        <p:blipFill>
          <a:blip r:embed="rId2"/>
          <a:stretch/>
        </p:blipFill>
        <p:spPr>
          <a:xfrm>
            <a:off x="324000" y="189000"/>
            <a:ext cx="4149720" cy="49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Елена\Desktop\cайт\Год Змеи\клипарт\9a648400bfabee20835a6249e27670e8.jpg"/>
          <p:cNvPicPr/>
          <p:nvPr/>
        </p:nvPicPr>
        <p:blipFill>
          <a:blip r:embed="rId1"/>
          <a:srcRect l="8674" t="0" r="7777" b="0"/>
          <a:stretch/>
        </p:blipFill>
        <p:spPr>
          <a:xfrm>
            <a:off x="4716360" y="0"/>
            <a:ext cx="4248360" cy="5084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Елена\Desktop\cайт\Год Змеи\клипарт\9a648400bfabee20835a6249e27670e8.jpg"/>
          <p:cNvPicPr/>
          <p:nvPr/>
        </p:nvPicPr>
        <p:blipFill>
          <a:blip r:embed="rId2"/>
          <a:srcRect l="8495" t="0" r="7956" b="0"/>
          <a:stretch/>
        </p:blipFill>
        <p:spPr>
          <a:xfrm>
            <a:off x="179280" y="0"/>
            <a:ext cx="4248360" cy="5084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6446160" y="648828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Users\Елена\Desktop\cайт\Год Змеи\клипарт\12af9d6c402208aada530c5e69bc4f72.jpg"/>
          <p:cNvPicPr/>
          <p:nvPr/>
        </p:nvPicPr>
        <p:blipFill>
          <a:blip r:embed="rId1"/>
          <a:srcRect l="0" t="0" r="4464" b="11039"/>
          <a:stretch/>
        </p:blipFill>
        <p:spPr>
          <a:xfrm>
            <a:off x="0" y="0"/>
            <a:ext cx="4243320" cy="558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Елена\Desktop\cайт\Год Змеи\клипарт\12af9d6c402208aada530c5e69bc4f72.jpg"/>
          <p:cNvPicPr/>
          <p:nvPr/>
        </p:nvPicPr>
        <p:blipFill>
          <a:blip r:embed="rId2"/>
          <a:srcRect l="0" t="0" r="4464" b="11039"/>
          <a:stretch/>
        </p:blipFill>
        <p:spPr>
          <a:xfrm>
            <a:off x="4500720" y="0"/>
            <a:ext cx="4427280" cy="58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Елена\Desktop\cайт\Год Змеи\клипарт\19c7f47bb20ccbbacc01b0dd70a48faa.jpg"/>
          <p:cNvPicPr/>
          <p:nvPr/>
        </p:nvPicPr>
        <p:blipFill>
          <a:blip r:embed="rId1"/>
          <a:stretch/>
        </p:blipFill>
        <p:spPr>
          <a:xfrm>
            <a:off x="4572000" y="0"/>
            <a:ext cx="4257720" cy="525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Елена\Desktop\cайт\Год Змеи\клипарт\19c7f47bb20ccbbacc01b0dd70a48faa.jpg"/>
          <p:cNvPicPr/>
          <p:nvPr/>
        </p:nvPicPr>
        <p:blipFill>
          <a:blip r:embed="rId2"/>
          <a:stretch/>
        </p:blipFill>
        <p:spPr>
          <a:xfrm>
            <a:off x="0" y="189000"/>
            <a:ext cx="4257720" cy="52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Елена\Desktop\cайт\Год Змеи\клипарт\50e5262b1b7b6a3005efcf07d45ddbf6.jpg"/>
          <p:cNvPicPr/>
          <p:nvPr/>
        </p:nvPicPr>
        <p:blipFill>
          <a:blip r:embed="rId1"/>
          <a:srcRect l="10183" t="0" r="9641" b="0"/>
          <a:stretch/>
        </p:blipFill>
        <p:spPr>
          <a:xfrm>
            <a:off x="4605480" y="0"/>
            <a:ext cx="4538520" cy="566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Елена\Desktop\cайт\Год Змеи\клипарт\50e5262b1b7b6a3005efcf07d45ddbf6.jpg"/>
          <p:cNvPicPr/>
          <p:nvPr/>
        </p:nvPicPr>
        <p:blipFill>
          <a:blip r:embed="rId2"/>
          <a:srcRect l="10183" t="0" r="9641" b="0"/>
          <a:stretch/>
        </p:blipFill>
        <p:spPr>
          <a:xfrm>
            <a:off x="0" y="0"/>
            <a:ext cx="4538520" cy="566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Елена\Desktop\cайт\Год Змеи\7b0f4eb8c869c9b3e3b45f29e1fbac7c.jpg"/>
          <p:cNvPicPr/>
          <p:nvPr/>
        </p:nvPicPr>
        <p:blipFill>
          <a:blip r:embed="rId1"/>
          <a:stretch/>
        </p:blipFill>
        <p:spPr>
          <a:xfrm>
            <a:off x="2916360" y="836640"/>
            <a:ext cx="3187440" cy="424800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Эмблема круг"/>
          <p:cNvPicPr/>
          <p:nvPr/>
        </p:nvPicPr>
        <p:blipFill>
          <a:blip r:embed="rId2"/>
          <a:stretch/>
        </p:blipFill>
        <p:spPr>
          <a:xfrm>
            <a:off x="2700360" y="5661000"/>
            <a:ext cx="770040" cy="75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41040" y="5589000"/>
            <a:ext cx="2690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7T15:16:17Z</dcterms:created>
  <dc:creator>Елена Берюхова</dc:creator>
  <dc:description/>
  <dc:language>en-US</dc:language>
  <cp:lastModifiedBy>Берюхов</cp:lastModifiedBy>
  <dcterms:modified xsi:type="dcterms:W3CDTF">2025-01-02T11:07:40Z</dcterms:modified>
  <cp:revision>4</cp:revision>
  <dc:subject/>
  <dc:title>Слайд 1</dc:title>
</cp:coreProperties>
</file>