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BC7-1300-4510-A0D6-14D6608F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019-B7E4-476D-ABAB-C74FED50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DCC-3E14-43F4-A85B-AA001356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D35-8FD4-4518-87E6-6F225151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897-418C-4E6B-8B5F-373D2C3C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468-C18E-4964-B361-D7704476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411-724D-45A0-9BE2-6FACA817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E2A-D639-4B52-B2D7-041E39D6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372-A73D-40B7-83D4-4C232914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A8A-AAA9-45AE-9463-D40C3919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F43-F249-4FD6-96A2-42E94C25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0C8-76FF-4043-881D-47BDB99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45A4-7527-40FB-B963-D8CB54EDF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01. Сайт .Архив\ИЗО и технология\Осень.Идём в школу\ba3e3001bfa6a049c41862b0f5ea13b3.jpg"/>
          <p:cNvPicPr/>
          <p:nvPr/>
        </p:nvPicPr>
        <p:blipFill>
          <a:blip r:embed="rId1"/>
          <a:srcRect l="0" t="53574" r="0" b="0"/>
          <a:stretch/>
        </p:blipFill>
        <p:spPr>
          <a:xfrm>
            <a:off x="324000" y="189000"/>
            <a:ext cx="8478720" cy="5743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" name="TextBox 4"/>
          <p:cNvSpPr/>
          <p:nvPr/>
        </p:nvSpPr>
        <p:spPr>
          <a:xfrm>
            <a:off x="2462400" y="6027840"/>
            <a:ext cx="47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Идём в школ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01. Сайт .Архив\ИЗО и технология\Осень.Идём в школу\b284e7846de62deabad98dfc6740e548.jpg"/>
          <p:cNvPicPr/>
          <p:nvPr/>
        </p:nvPicPr>
        <p:blipFill>
          <a:blip r:embed="rId1"/>
          <a:stretch/>
        </p:blipFill>
        <p:spPr>
          <a:xfrm>
            <a:off x="250920" y="189000"/>
            <a:ext cx="8601120" cy="61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01. Сайт .Архив\ИЗО и технология\Осень.Идём в школу\c6b7d8ad46f7457cfd33eb9146a03804.jpg"/>
          <p:cNvPicPr/>
          <p:nvPr/>
        </p:nvPicPr>
        <p:blipFill>
          <a:blip r:embed="rId1"/>
          <a:stretch/>
        </p:blipFill>
        <p:spPr>
          <a:xfrm>
            <a:off x="1928880" y="214200"/>
            <a:ext cx="4500360" cy="64296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01. Сайт .Архив\ИЗО и технология\Осень.Идём в школу\ba3e3001bfa6a049c41862b0f5ea13b3.jpg"/>
          <p:cNvPicPr/>
          <p:nvPr/>
        </p:nvPicPr>
        <p:blipFill>
          <a:blip r:embed="rId1"/>
          <a:srcRect l="0" t="0" r="0" b="54799"/>
          <a:stretch/>
        </p:blipFill>
        <p:spPr>
          <a:xfrm>
            <a:off x="785880" y="357120"/>
            <a:ext cx="7800840" cy="514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01. Сайт .Архив\ИЗО и технология\Осень.Идём в школу\3b0d4e0463fcb8805a194e0073279bef.jpg"/>
          <p:cNvPicPr/>
          <p:nvPr/>
        </p:nvPicPr>
        <p:blipFill>
          <a:blip r:embed="rId1"/>
          <a:srcRect l="4515" t="3193" r="2200" b="0"/>
          <a:stretch/>
        </p:blipFill>
        <p:spPr>
          <a:xfrm>
            <a:off x="0" y="0"/>
            <a:ext cx="4575240" cy="671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01. Сайт .Архив\ИЗО и технология\Осень.Идём в школу\5dffb8d38d2bf0fcd4f90e673a3c85e8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46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01. Сайт .Архив\ИЗО и технология\Осень.Идём в школу\ba3e3001bfa6a049c41862b0f5ea13b3.jpg"/>
          <p:cNvPicPr/>
          <p:nvPr/>
        </p:nvPicPr>
        <p:blipFill>
          <a:blip r:embed="rId1"/>
          <a:srcRect l="0" t="53574" r="0" b="0"/>
          <a:stretch/>
        </p:blipFill>
        <p:spPr>
          <a:xfrm rot="20991600">
            <a:off x="2268000" y="836280"/>
            <a:ext cx="4896000" cy="33163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Эмблема круг"/>
          <p:cNvPicPr/>
          <p:nvPr/>
        </p:nvPicPr>
        <p:blipFill>
          <a:blip r:embed="rId2"/>
          <a:stretch/>
        </p:blipFill>
        <p:spPr>
          <a:xfrm>
            <a:off x="2987640" y="530064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16200" y="529956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9-09T11:14:59Z</dcterms:created>
  <dc:creator>Windows User</dc:creator>
  <dc:description/>
  <dc:language>en-US</dc:language>
  <cp:lastModifiedBy>Берюхов</cp:lastModifiedBy>
  <dcterms:modified xsi:type="dcterms:W3CDTF">2024-09-11T08:58:18Z</dcterms:modified>
  <cp:revision>3</cp:revision>
  <dc:subject/>
  <dc:title>Слайд 1</dc:title>
</cp:coreProperties>
</file>