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07F-9467-488D-9C0F-3CB02E7D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A48-6304-4FA3-87FD-93404233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5EF-9A98-4BD5-BE28-12CE88E6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A34-7F0D-444C-993E-30514A9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E8A-80D2-42DA-B942-5E963E21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E163-E640-4965-BF4F-0347CAB8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EBB-84EA-40E0-9420-6D99E62B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019-AEE2-4ACE-B50C-6F3A4DA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BCB-AB61-43B7-96C5-AF96DAEB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47A-1715-45D0-8051-FA712EF0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989-5EED-4C36-BF89-EF8C1779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6F71-FD03-4001-A701-C027DC85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BC98-A185-41CA-9DD5-5693A2098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shkola-abv.ru/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5961" t="8263" r="14169" b="18500"/>
          <a:stretch/>
        </p:blipFill>
        <p:spPr>
          <a:xfrm>
            <a:off x="1268280" y="2340000"/>
            <a:ext cx="4392720" cy="60976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" name="Прямоугольник 2" descr=""/>
          <p:cNvPicPr/>
          <p:nvPr/>
        </p:nvPicPr>
        <p:blipFill>
          <a:blip r:embed="rId3"/>
          <a:stretch/>
        </p:blipFill>
        <p:spPr>
          <a:xfrm>
            <a:off x="30240" y="79200"/>
            <a:ext cx="6602400" cy="1932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333360" y="0"/>
            <a:ext cx="6039000" cy="9144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49360" y="0"/>
            <a:ext cx="6040440" cy="9144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404640" y="-79200"/>
            <a:ext cx="6093000" cy="9223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04640" y="-68400"/>
            <a:ext cx="6085080" cy="9212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476280" y="-38160"/>
            <a:ext cx="6076800" cy="918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49360" y="0"/>
            <a:ext cx="6040440" cy="9144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549360" y="0"/>
            <a:ext cx="5781600" cy="883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5013360" y="7380360"/>
            <a:ext cx="1577880" cy="1554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60280" y="82454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йт  Елены Берюховой  «Школа АБВ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http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hkol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bv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ru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958680" y="468360"/>
            <a:ext cx="4435560" cy="64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6:31:41Z</dcterms:created>
  <dc:creator>Елена</dc:creator>
  <dc:description/>
  <dc:language>en-US</dc:language>
  <cp:lastModifiedBy>Microsoft </cp:lastModifiedBy>
  <dcterms:modified xsi:type="dcterms:W3CDTF">2017-10-04T17:06:54Z</dcterms:modified>
  <cp:revision>4</cp:revision>
  <dc:subject/>
  <dc:title>Слайд 1</dc:title>
</cp:coreProperties>
</file>