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C1F-18A5-43A1-817D-1049E84D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D65-DFC5-4D5E-A8B4-BF41FCFD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E6A-23DE-4F2B-BF16-65D751B1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056-6D30-49BE-9076-17F66426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5F7-EECC-46D5-9334-9923D8DC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A62C-B07D-4E1D-A1ED-B0034256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099-A293-46B3-9DFE-F09D7307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AC4-FFC5-43F6-A4FF-A29ACD4C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220-DAC4-4457-B2F1-5DFCE5FE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BA3-0FE1-43B8-944E-CE25FE18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5FE-F48F-4817-81D5-8292612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7D04-25D6-4A98-ADB3-2D4BBD36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5577-A0ED-4247-A1FF-110403D65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Calibri"/>
              </a:rPr>
              <a:t>Кораблик для пап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2102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sun9-35.userapi.com/impg/ZY8tpUPA447TCjJb5aRAGy_NZILpktANsQNY2w/RDn6j27u1TE.jpg?size=1365x1820&amp;quality=95&amp;sign=e3306e630866b16ef0c040cfc3a72d7e&amp;type=album"/>
          <p:cNvPicPr/>
          <p:nvPr/>
        </p:nvPicPr>
        <p:blipFill>
          <a:blip r:embed="rId1"/>
          <a:stretch/>
        </p:blipFill>
        <p:spPr>
          <a:xfrm>
            <a:off x="2195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sun9-60.userapi.com/impg/9OsfIyHynQ_QghTpae9dqBJwtAkdKIg-sGbfUA/Zpux_5LyD3A.jpg?size=1080x1080&amp;quality=95&amp;sign=8cc163e6b3e4cf617c2c5861f48d34b2&amp;type=album"/>
          <p:cNvPicPr/>
          <p:nvPr/>
        </p:nvPicPr>
        <p:blipFill>
          <a:blip r:embed="rId1"/>
          <a:stretch/>
        </p:blipFill>
        <p:spPr>
          <a:xfrm>
            <a:off x="1403280" y="0"/>
            <a:ext cx="685800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sun9-35.userapi.com/impg/ZY8tpUPA447TCjJb5aRAGy_NZILpktANsQNY2w/RDn6j27u1TE.jpg?size=1365x1820&amp;quality=95&amp;sign=e3306e630866b16ef0c040cfc3a72d7e&amp;type=album"/>
          <p:cNvPicPr/>
          <p:nvPr/>
        </p:nvPicPr>
        <p:blipFill>
          <a:blip r:embed="rId1"/>
          <a:stretch/>
        </p:blipFill>
        <p:spPr>
          <a:xfrm>
            <a:off x="3059280" y="1557360"/>
            <a:ext cx="2679480" cy="3573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Эмблема круг"/>
          <p:cNvPicPr/>
          <p:nvPr/>
        </p:nvPicPr>
        <p:blipFill>
          <a:blip r:embed="rId2"/>
          <a:stretch/>
        </p:blipFill>
        <p:spPr>
          <a:xfrm>
            <a:off x="4067280" y="404640"/>
            <a:ext cx="769680" cy="75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7760" y="537300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08T04:57:38Z</dcterms:created>
  <dc:creator>Елена Берюхова</dc:creator>
  <dc:description/>
  <dc:language>en-US</dc:language>
  <cp:lastModifiedBy>Берюхов</cp:lastModifiedBy>
  <dcterms:modified xsi:type="dcterms:W3CDTF">2025-02-17T13:15:42Z</dcterms:modified>
  <cp:revision>2</cp:revision>
  <dc:subject/>
  <dc:title>Слайд 1</dc:title>
</cp:coreProperties>
</file>