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F25-6F71-464B-AC41-05FDAE5A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3F0-A38C-4097-89AC-D35E708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353-5C32-4B88-9250-0A1647E9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470-3473-4B0F-8B53-B5286333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0BC-66A9-43D9-9175-B5AAB89C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CFA-DAFA-4637-B2CC-856B2795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3FC-4072-4A73-9D3B-1576B82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556-C52F-452B-BCBA-1F8FF62D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222-6814-479A-A27A-6B1C82F5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B7C-CD71-491C-A50F-24108E9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7A1-F37A-4E53-BE04-73B3A0F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06F-A578-408C-AE03-F08E593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292-F0E4-403B-BCE1-D923CDE60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hyperlink" Target="https://vk.com/shkola_ab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Кораблик из пласти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G:\01. Сайт .Архив\ИЗО и технология\23 февраля\кораблик для папы\detsad-470387-1456221813.jpg"/>
          <p:cNvPicPr/>
          <p:nvPr/>
        </p:nvPicPr>
        <p:blipFill>
          <a:blip r:embed="rId1"/>
          <a:stretch/>
        </p:blipFill>
        <p:spPr>
          <a:xfrm>
            <a:off x="2556000" y="1557360"/>
            <a:ext cx="4064040" cy="4751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:\01. Сайт .Архив\ИЗО и технология\23 февраля\кораблик для папы\detsad-470387-1456222596.jpg"/>
          <p:cNvPicPr/>
          <p:nvPr/>
        </p:nvPicPr>
        <p:blipFill>
          <a:blip r:embed="rId1"/>
          <a:stretch/>
        </p:blipFill>
        <p:spPr>
          <a:xfrm>
            <a:off x="468360" y="333360"/>
            <a:ext cx="8404200" cy="5602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01. Сайт .Архив\ИЗО и технология\23 февраля\кораблик для папы\4.jpg"/>
          <p:cNvPicPr/>
          <p:nvPr/>
        </p:nvPicPr>
        <p:blipFill>
          <a:blip r:embed="rId1"/>
          <a:stretch/>
        </p:blipFill>
        <p:spPr>
          <a:xfrm>
            <a:off x="684360" y="549360"/>
            <a:ext cx="7972200" cy="59706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01. Сайт .Архив\ИЗО и технология\23 февраля\кораблик для папы\5.jpg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59882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01. Сайт .Архив\ИЗО и технология\23 февраля\кораблик для папы\2.jpg"/>
          <p:cNvPicPr/>
          <p:nvPr/>
        </p:nvPicPr>
        <p:blipFill>
          <a:blip r:embed="rId1"/>
          <a:stretch/>
        </p:blipFill>
        <p:spPr>
          <a:xfrm>
            <a:off x="2195640" y="115920"/>
            <a:ext cx="45050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01. Сайт .Архив\ИЗО и технология\23 февраля\кораблик для папы\3.jpg"/>
          <p:cNvPicPr/>
          <p:nvPr/>
        </p:nvPicPr>
        <p:blipFill>
          <a:blip r:embed="rId1"/>
          <a:stretch/>
        </p:blipFill>
        <p:spPr>
          <a:xfrm>
            <a:off x="2038320" y="333360"/>
            <a:ext cx="5416560" cy="61200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01. Сайт .Архив\ИЗО и технология\23 февраля\кораблик для папы\6.jpg"/>
          <p:cNvPicPr/>
          <p:nvPr/>
        </p:nvPicPr>
        <p:blipFill>
          <a:blip r:embed="rId1"/>
          <a:stretch/>
        </p:blipFill>
        <p:spPr>
          <a:xfrm>
            <a:off x="2340000" y="284040"/>
            <a:ext cx="4753080" cy="6345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01. Сайт .Архив\ИЗО и технология\23 февраля\кораблик для папы\detsad-470387-1456221813.jpg"/>
          <p:cNvPicPr/>
          <p:nvPr/>
        </p:nvPicPr>
        <p:blipFill>
          <a:blip r:embed="rId1"/>
          <a:stretch/>
        </p:blipFill>
        <p:spPr>
          <a:xfrm>
            <a:off x="1763640" y="404640"/>
            <a:ext cx="5234040" cy="61200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G:\01. Сайт .Архив\ИЗО и технология\23 февраля\кораблик для папы\8817429482ef63ad2556b2c624e09e2f.png"/>
          <p:cNvPicPr/>
          <p:nvPr/>
        </p:nvPicPr>
        <p:blipFill>
          <a:blip r:embed="rId1"/>
          <a:stretch/>
        </p:blipFill>
        <p:spPr>
          <a:xfrm>
            <a:off x="4716360" y="189000"/>
            <a:ext cx="4238640" cy="43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G:\01. Сайт .Архив\ИЗО и технология\23 февраля\кораблик для папы\8817429482ef63ad2556b2c624e09e2f.png"/>
          <p:cNvPicPr/>
          <p:nvPr/>
        </p:nvPicPr>
        <p:blipFill>
          <a:blip r:embed="rId2"/>
          <a:stretch/>
        </p:blipFill>
        <p:spPr>
          <a:xfrm>
            <a:off x="250920" y="189000"/>
            <a:ext cx="4238640" cy="439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Эмблема круг"/>
          <p:cNvPicPr/>
          <p:nvPr/>
        </p:nvPicPr>
        <p:blipFill>
          <a:blip r:embed="rId3"/>
          <a:stretch/>
        </p:blipFill>
        <p:spPr>
          <a:xfrm>
            <a:off x="3780000" y="551664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93400" y="544428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2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09T10:17:02Z</dcterms:created>
  <dc:creator>Елена Берюхова</dc:creator>
  <dc:description/>
  <dc:language>en-US</dc:language>
  <cp:lastModifiedBy>Берюхов</cp:lastModifiedBy>
  <dcterms:modified xsi:type="dcterms:W3CDTF">2025-02-16T09:33:46Z</dcterms:modified>
  <cp:revision>3</cp:revision>
  <dc:subject/>
  <dc:title>Слайд 1</dc:title>
</cp:coreProperties>
</file>