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C38-B680-4795-9623-FDCE92FB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31B-D16D-4763-8C26-B5A61FA1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0ACB-74D5-48DC-896A-BA81440D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1B3-DA3A-4B63-8C88-4FFC50F7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E4D-60CE-456B-A9B8-E88D70C5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D9B-D028-4487-AE4E-A0001548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BB2-4F0D-4AEC-8057-B26070B1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FF66-E532-4280-B02E-E11E6C29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4CC-48BB-4115-B5D8-5F351D7F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1AE-4C9F-4130-A9EC-B3CF087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C81-A895-403D-B7F7-338E457C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D91-1985-419B-B651-A4DBE00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8004-BE41-45CD-A937-85F02114F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hkola-abv.ru/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sun9-17.userapi.com/impg/5AcC23sTPEsVNKCt8Hk4ozO4Gvl5nCrURVsMaQ/Vq5feXGt3rM.jpg?size=1080x1080&amp;quality=96&amp;sign=825ab57d034f198ccdf22599084b118e&amp;type=album"/>
          <p:cNvPicPr/>
          <p:nvPr/>
        </p:nvPicPr>
        <p:blipFill>
          <a:blip r:embed="rId2"/>
          <a:stretch/>
        </p:blipFill>
        <p:spPr>
          <a:xfrm>
            <a:off x="3492360" y="1268280"/>
            <a:ext cx="5183280" cy="5185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" name="Прямоугольник 2"/>
          <p:cNvSpPr/>
          <p:nvPr/>
        </p:nvSpPr>
        <p:spPr>
          <a:xfrm>
            <a:off x="1202040" y="404640"/>
            <a:ext cx="65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Открытка к 23 февра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s://catherineasquithgallery.com/uploads/posts/2021-02/1612870220_198-p-kartinka-zvezdi-na-krasnom-fone-250.jpg"/>
          <p:cNvPicPr/>
          <p:nvPr/>
        </p:nvPicPr>
        <p:blipFill>
          <a:blip r:embed="rId3"/>
          <a:stretch/>
        </p:blipFill>
        <p:spPr>
          <a:xfrm>
            <a:off x="755640" y="4869000"/>
            <a:ext cx="2448000" cy="1730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sun9-77.userapi.com/impg/xnjny5LCEdvrz_CV48RwajMkHwcjF6fx7QdRhw/sOINmO3KgiA.jpg?size=1080x1080&amp;quality=96&amp;sign=bbe14a194352d4ebfb58f9fa90c6db22&amp;type=album"/>
          <p:cNvPicPr/>
          <p:nvPr/>
        </p:nvPicPr>
        <p:blipFill>
          <a:blip r:embed="rId2"/>
          <a:stretch/>
        </p:blipFill>
        <p:spPr>
          <a:xfrm>
            <a:off x="2411280" y="333360"/>
            <a:ext cx="6278760" cy="62769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Picture 4" descr="https://catherineasquithgallery.com/uploads/posts/2021-02/1612870220_198-p-kartinka-zvezdi-na-krasnom-fone-250.jpg"/>
          <p:cNvPicPr/>
          <p:nvPr/>
        </p:nvPicPr>
        <p:blipFill>
          <a:blip r:embed="rId3"/>
          <a:stretch/>
        </p:blipFill>
        <p:spPr>
          <a:xfrm>
            <a:off x="755640" y="5373720"/>
            <a:ext cx="153180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sun9-49.userapi.com/impg/sTpYDVBFRyhktTtFUFoac3Ecytrd5cEfojSF5A/xjpaEOPw_xA.jpg?size=1080x1080&amp;quality=96&amp;sign=6b7a5a1c71a595c7966c65125fe1d612&amp;type=album"/>
          <p:cNvPicPr/>
          <p:nvPr/>
        </p:nvPicPr>
        <p:blipFill>
          <a:blip r:embed="rId2"/>
          <a:stretch/>
        </p:blipFill>
        <p:spPr>
          <a:xfrm>
            <a:off x="2627280" y="333360"/>
            <a:ext cx="6265800" cy="6264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Picture 4" descr="https://catherineasquithgallery.com/uploads/posts/2021-02/1612870220_198-p-kartinka-zvezdi-na-krasnom-fone-250.jpg"/>
          <p:cNvPicPr/>
          <p:nvPr/>
        </p:nvPicPr>
        <p:blipFill>
          <a:blip r:embed="rId3"/>
          <a:stretch/>
        </p:blipFill>
        <p:spPr>
          <a:xfrm>
            <a:off x="755640" y="5373720"/>
            <a:ext cx="153180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sun9-9.userapi.com/impg/YqeG86AXD_Rd3_iM_E_aOtrbUJ8gRXnS4AjPKw/o54ku7XW514.jpg?size=1080x1080&amp;quality=96&amp;sign=a7f66be34aa05e50546bcf3a1cc2d649&amp;type=album"/>
          <p:cNvPicPr/>
          <p:nvPr/>
        </p:nvPicPr>
        <p:blipFill>
          <a:blip r:embed="rId2"/>
          <a:stretch/>
        </p:blipFill>
        <p:spPr>
          <a:xfrm>
            <a:off x="2340000" y="333360"/>
            <a:ext cx="6335640" cy="6335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" name="Picture 4" descr="https://catherineasquithgallery.com/uploads/posts/2021-02/1612870220_198-p-kartinka-zvezdi-na-krasnom-fone-250.jpg"/>
          <p:cNvPicPr/>
          <p:nvPr/>
        </p:nvPicPr>
        <p:blipFill>
          <a:blip r:embed="rId3"/>
          <a:stretch/>
        </p:blipFill>
        <p:spPr>
          <a:xfrm>
            <a:off x="755640" y="5373720"/>
            <a:ext cx="1531800" cy="1225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s://sun9-17.userapi.com/impg/5AcC23sTPEsVNKCt8Hk4ozO4Gvl5nCrURVsMaQ/Vq5feXGt3rM.jpg?size=1080x1080&amp;quality=96&amp;sign=825ab57d034f198ccdf22599084b118e&amp;type=album"/>
          <p:cNvPicPr/>
          <p:nvPr/>
        </p:nvPicPr>
        <p:blipFill>
          <a:blip r:embed="rId2"/>
          <a:stretch/>
        </p:blipFill>
        <p:spPr>
          <a:xfrm>
            <a:off x="2771640" y="404640"/>
            <a:ext cx="6121440" cy="612000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4" descr="https://catherineasquithgallery.com/uploads/posts/2021-02/1612870220_198-p-kartinka-zvezdi-na-krasnom-fone-250.jpg"/>
          <p:cNvPicPr/>
          <p:nvPr/>
        </p:nvPicPr>
        <p:blipFill>
          <a:blip r:embed="rId3"/>
          <a:stretch/>
        </p:blipFill>
        <p:spPr>
          <a:xfrm>
            <a:off x="755640" y="5445000"/>
            <a:ext cx="1531800" cy="12272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sun9-77.userapi.com/impg/xnjny5LCEdvrz_CV48RwajMkHwcjF6fx7QdRhw/sOINmO3KgiA.jpg?size=1080x1080&amp;quality=96&amp;sign=bbe14a194352d4ebfb58f9fa90c6db22&amp;type=album"/>
          <p:cNvPicPr/>
          <p:nvPr/>
        </p:nvPicPr>
        <p:blipFill>
          <a:blip r:embed="rId2"/>
          <a:stretch/>
        </p:blipFill>
        <p:spPr>
          <a:xfrm>
            <a:off x="1042920" y="476280"/>
            <a:ext cx="2808360" cy="280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3" name="Picture 2" descr="https://sun9-49.userapi.com/impg/sTpYDVBFRyhktTtFUFoac3Ecytrd5cEfojSF5A/xjpaEOPw_xA.jpg?size=1080x1080&amp;quality=96&amp;sign=6b7a5a1c71a595c7966c65125fe1d612&amp;type=album"/>
          <p:cNvPicPr/>
          <p:nvPr/>
        </p:nvPicPr>
        <p:blipFill>
          <a:blip r:embed="rId3"/>
          <a:stretch/>
        </p:blipFill>
        <p:spPr>
          <a:xfrm>
            <a:off x="4427640" y="476280"/>
            <a:ext cx="2808360" cy="280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2" descr="https://sun9-9.userapi.com/impg/YqeG86AXD_Rd3_iM_E_aOtrbUJ8gRXnS4AjPKw/o54ku7XW514.jpg?size=1080x1080&amp;quality=96&amp;sign=a7f66be34aa05e50546bcf3a1cc2d649&amp;type=album"/>
          <p:cNvPicPr/>
          <p:nvPr/>
        </p:nvPicPr>
        <p:blipFill>
          <a:blip r:embed="rId4"/>
          <a:stretch/>
        </p:blipFill>
        <p:spPr>
          <a:xfrm>
            <a:off x="1042920" y="3716280"/>
            <a:ext cx="2737080" cy="2737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2" descr="https://sun9-17.userapi.com/impg/5AcC23sTPEsVNKCt8Hk4ozO4Gvl5nCrURVsMaQ/Vq5feXGt3rM.jpg?size=1080x1080&amp;quality=96&amp;sign=825ab57d034f198ccdf22599084b118e&amp;type=album"/>
          <p:cNvPicPr/>
          <p:nvPr/>
        </p:nvPicPr>
        <p:blipFill>
          <a:blip r:embed="rId5"/>
          <a:stretch/>
        </p:blipFill>
        <p:spPr>
          <a:xfrm>
            <a:off x="4500720" y="3716280"/>
            <a:ext cx="2735280" cy="27370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403280" y="696600"/>
            <a:ext cx="6948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  Елены Берюховой  «Школа АБ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htt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/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hkol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b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и, клипы, уроки на с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3" descr="G:\для сайта работы\эмблема\Эмблема круг.png"/>
          <p:cNvPicPr/>
          <p:nvPr/>
        </p:nvPicPr>
        <p:blipFill>
          <a:blip r:embed="rId3"/>
          <a:stretch/>
        </p:blipFill>
        <p:spPr>
          <a:xfrm>
            <a:off x="4140360" y="5157720"/>
            <a:ext cx="1285560" cy="126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http://xn--j1abgcdn6cxa.xn--80ac2bcgcl.xn--p1ai/wp-content/uploads/2022/03/img5-1.jpg"/>
          <p:cNvPicPr/>
          <p:nvPr/>
        </p:nvPicPr>
        <p:blipFill>
          <a:blip r:embed="rId4"/>
          <a:stretch/>
        </p:blipFill>
        <p:spPr>
          <a:xfrm>
            <a:off x="2627280" y="2060640"/>
            <a:ext cx="4681440" cy="298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9T06:39:58Z</dcterms:created>
  <dc:creator>Елена</dc:creator>
  <dc:description/>
  <dc:language>en-US</dc:language>
  <cp:lastModifiedBy>Берюхов</cp:lastModifiedBy>
  <dcterms:modified xsi:type="dcterms:W3CDTF">2025-02-22T08:44:19Z</dcterms:modified>
  <cp:revision>3</cp:revision>
  <dc:subject/>
  <dc:title>Слайд 1</dc:title>
</cp:coreProperties>
</file>