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8.jpeg" ContentType="image/jpeg"/>
  <Override PartName="/ppt/media/image7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27.jpeg" ContentType="image/jpeg"/>
  <Override PartName="/ppt/media/image6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17.wmf" ContentType="image/x-wmf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media/image19.wmf" ContentType="image/x-wmf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3CA91-4161-433F-AC45-84DFC89862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93DE0-2DB0-43F9-9625-FBE983A1CE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961F2-BB21-4F7E-97CB-341AC99834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20C-9CFE-4756-A553-FD95B6A0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C51-9E35-4917-A3BA-CD0C3B1C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4D4-E891-4D1D-A990-B3B75C83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1C8-1A0D-4DD4-A532-5F6FA196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F73-8826-4722-8582-C3BAA861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6CD-E2B5-4E09-BB89-3B8061D5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B67-B66C-49DE-9A71-68ABAB2F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376-42DA-4DCF-ACD6-26583702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0AB-6970-450B-AD76-5C635E3F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32A-9C63-444A-8FF2-16C42BF3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A7A-5BDA-47AD-A6FF-FA1DD6C2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B5B-5638-4F42-A77E-12E7F1B4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E1B69-D620-4871-BB54-471AC9E78A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7.jpeg"/><Relationship Id="rId4" Type="http://schemas.openxmlformats.org/officeDocument/2006/relationships/image" Target="../media/image14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4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17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4.jpeg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60360" y="2484360"/>
            <a:ext cx="611964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Вырезно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конструктор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 flipH="1">
            <a:off x="3212280" y="5724360"/>
            <a:ext cx="2475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1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Мальвина"/>
          <p:cNvPicPr/>
          <p:nvPr/>
        </p:nvPicPr>
        <p:blipFill>
          <a:blip r:embed="rId2"/>
          <a:stretch/>
        </p:blipFill>
        <p:spPr>
          <a:xfrm>
            <a:off x="673200" y="2352600"/>
            <a:ext cx="1780920" cy="37306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3"/>
          <p:cNvSpPr/>
          <p:nvPr/>
        </p:nvSpPr>
        <p:spPr>
          <a:xfrm>
            <a:off x="276120" y="366840"/>
            <a:ext cx="9447480" cy="1031760"/>
          </a:xfrm>
          <a:custGeom>
            <a:avLst/>
            <a:gdLst>
              <a:gd name="textAreaLeft" fmla="*/ 1438560 w 9447480"/>
              <a:gd name="textAreaRight" fmla="*/ 8008920 w 9447480"/>
              <a:gd name="textAreaTop" fmla="*/ 0 h 1031760"/>
              <a:gd name="textAreaBottom" fmla="*/ 902880 h 1031760"/>
            </a:gdLst>
            <a:ahLst/>
            <a:rect l="textAreaLeft" t="textAreaTop" r="textAreaRight" b="textAreaBottom"/>
            <a:pathLst>
              <a:path w="21600" h="21600">
                <a:moveTo>
                  <a:pt x="5989" y="18900"/>
                </a:moveTo>
                <a:lnTo>
                  <a:pt x="5989" y="20925"/>
                </a:lnTo>
                <a:cubicBezTo>
                  <a:pt x="5989" y="21263"/>
                  <a:pt x="5569" y="21600"/>
                  <a:pt x="5149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289" y="2700"/>
                </a:lnTo>
                <a:lnTo>
                  <a:pt x="3289" y="675"/>
                </a:lnTo>
                <a:cubicBezTo>
                  <a:pt x="3289" y="338"/>
                  <a:pt x="3709" y="0"/>
                  <a:pt x="4129" y="0"/>
                </a:cubicBezTo>
                <a:lnTo>
                  <a:pt x="17471" y="0"/>
                </a:lnTo>
                <a:cubicBezTo>
                  <a:pt x="17891" y="0"/>
                  <a:pt x="18311" y="338"/>
                  <a:pt x="18311" y="675"/>
                </a:cubicBezTo>
                <a:lnTo>
                  <a:pt x="18311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451" y="21600"/>
                </a:lnTo>
                <a:cubicBezTo>
                  <a:pt x="16031" y="21600"/>
                  <a:pt x="15611" y="21263"/>
                  <a:pt x="15611" y="20925"/>
                </a:cubicBezTo>
                <a:lnTo>
                  <a:pt x="15611" y="18900"/>
                </a:lnTo>
                <a:close/>
              </a:path>
              <a:path fill="darkenLess" w="21600" h="21600">
                <a:moveTo>
                  <a:pt x="5989" y="18900"/>
                </a:moveTo>
                <a:lnTo>
                  <a:pt x="5989" y="20925"/>
                </a:lnTo>
                <a:cubicBezTo>
                  <a:pt x="5989" y="20588"/>
                  <a:pt x="5569" y="20250"/>
                  <a:pt x="5149" y="20250"/>
                </a:cubicBezTo>
                <a:lnTo>
                  <a:pt x="4129" y="20250"/>
                </a:lnTo>
                <a:cubicBezTo>
                  <a:pt x="3709" y="20250"/>
                  <a:pt x="3289" y="19913"/>
                  <a:pt x="3289" y="19575"/>
                </a:cubicBezTo>
                <a:cubicBezTo>
                  <a:pt x="3289" y="19238"/>
                  <a:pt x="3709" y="18900"/>
                  <a:pt x="4129" y="18900"/>
                </a:cubicBezTo>
                <a:close/>
              </a:path>
              <a:path fill="darkenLess" w="21600" h="21600">
                <a:moveTo>
                  <a:pt x="15611" y="18900"/>
                </a:moveTo>
                <a:lnTo>
                  <a:pt x="15611" y="20925"/>
                </a:lnTo>
                <a:cubicBezTo>
                  <a:pt x="15611" y="20588"/>
                  <a:pt x="16031" y="20250"/>
                  <a:pt x="16451" y="20250"/>
                </a:cubicBezTo>
                <a:lnTo>
                  <a:pt x="17471" y="20250"/>
                </a:lnTo>
                <a:cubicBezTo>
                  <a:pt x="17891" y="20250"/>
                  <a:pt x="18311" y="19913"/>
                  <a:pt x="18311" y="19575"/>
                </a:cubicBezTo>
                <a:cubicBezTo>
                  <a:pt x="18311" y="19238"/>
                  <a:pt x="17891" y="18900"/>
                  <a:pt x="17471" y="18900"/>
                </a:cubicBezTo>
                <a:close/>
              </a:path>
              <a:path fill="darkenLess" w="21600" h="21600">
                <a:moveTo>
                  <a:pt x="3289" y="19575"/>
                </a:moveTo>
                <a:lnTo>
                  <a:pt x="3289" y="2700"/>
                </a:lnTo>
              </a:path>
              <a:path fill="darkenLess" w="21600" h="21600">
                <a:moveTo>
                  <a:pt x="18311" y="19575"/>
                </a:moveTo>
                <a:lnTo>
                  <a:pt x="18311" y="2700"/>
                </a:lnTo>
              </a:path>
            </a:pathLst>
          </a:custGeom>
          <a:solidFill>
            <a:srgbClr val="dfffe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100" spc="-1" strike="noStrike">
                <a:solidFill>
                  <a:srgbClr val="0066ff"/>
                </a:solidFill>
                <a:latin typeface="Times New Roman"/>
              </a:rPr>
              <a:t>СТРАНА  «КРУГЛЯНДИЯ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Котёнок"/>
          <p:cNvPicPr/>
          <p:nvPr/>
        </p:nvPicPr>
        <p:blipFill>
          <a:blip r:embed="rId3"/>
          <a:stretch/>
        </p:blipFill>
        <p:spPr>
          <a:xfrm>
            <a:off x="5278320" y="4970520"/>
            <a:ext cx="1903680" cy="2301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бабочка"/>
          <p:cNvPicPr/>
          <p:nvPr/>
        </p:nvPicPr>
        <p:blipFill>
          <a:blip r:embed="rId4"/>
          <a:stretch/>
        </p:blipFill>
        <p:spPr>
          <a:xfrm>
            <a:off x="7977240" y="4097160"/>
            <a:ext cx="1685880" cy="198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попугай"/>
          <p:cNvPicPr/>
          <p:nvPr/>
        </p:nvPicPr>
        <p:blipFill>
          <a:blip r:embed="rId5"/>
          <a:stretch/>
        </p:blipFill>
        <p:spPr>
          <a:xfrm>
            <a:off x="2817720" y="4176720"/>
            <a:ext cx="1665360" cy="2460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сова и божья коровка"/>
          <p:cNvPicPr/>
          <p:nvPr/>
        </p:nvPicPr>
        <p:blipFill>
          <a:blip r:embed="rId6"/>
          <a:stretch/>
        </p:blipFill>
        <p:spPr>
          <a:xfrm>
            <a:off x="3770280" y="1954080"/>
            <a:ext cx="4444920" cy="19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Буратино"/>
          <p:cNvPicPr/>
          <p:nvPr/>
        </p:nvPicPr>
        <p:blipFill>
          <a:blip r:embed="rId2"/>
          <a:stretch/>
        </p:blipFill>
        <p:spPr>
          <a:xfrm>
            <a:off x="7659720" y="2906640"/>
            <a:ext cx="1825560" cy="37306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276120" y="366840"/>
            <a:ext cx="9447480" cy="1031760"/>
          </a:xfrm>
          <a:custGeom>
            <a:avLst/>
            <a:gdLst>
              <a:gd name="textAreaLeft" fmla="*/ 1438560 w 9447480"/>
              <a:gd name="textAreaRight" fmla="*/ 8008920 w 9447480"/>
              <a:gd name="textAreaTop" fmla="*/ 0 h 1031760"/>
              <a:gd name="textAreaBottom" fmla="*/ 902880 h 1031760"/>
            </a:gdLst>
            <a:ahLst/>
            <a:rect l="textAreaLeft" t="textAreaTop" r="textAreaRight" b="textAreaBottom"/>
            <a:pathLst>
              <a:path w="21600" h="21600">
                <a:moveTo>
                  <a:pt x="5989" y="18900"/>
                </a:moveTo>
                <a:lnTo>
                  <a:pt x="5989" y="20925"/>
                </a:lnTo>
                <a:cubicBezTo>
                  <a:pt x="5989" y="21263"/>
                  <a:pt x="5569" y="21600"/>
                  <a:pt x="5149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289" y="2700"/>
                </a:lnTo>
                <a:lnTo>
                  <a:pt x="3289" y="675"/>
                </a:lnTo>
                <a:cubicBezTo>
                  <a:pt x="3289" y="338"/>
                  <a:pt x="3709" y="0"/>
                  <a:pt x="4129" y="0"/>
                </a:cubicBezTo>
                <a:lnTo>
                  <a:pt x="17471" y="0"/>
                </a:lnTo>
                <a:cubicBezTo>
                  <a:pt x="17891" y="0"/>
                  <a:pt x="18311" y="338"/>
                  <a:pt x="18311" y="675"/>
                </a:cubicBezTo>
                <a:lnTo>
                  <a:pt x="18311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451" y="21600"/>
                </a:lnTo>
                <a:cubicBezTo>
                  <a:pt x="16031" y="21600"/>
                  <a:pt x="15611" y="21263"/>
                  <a:pt x="15611" y="20925"/>
                </a:cubicBezTo>
                <a:lnTo>
                  <a:pt x="15611" y="18900"/>
                </a:lnTo>
                <a:close/>
              </a:path>
              <a:path fill="darkenLess" w="21600" h="21600">
                <a:moveTo>
                  <a:pt x="5989" y="18900"/>
                </a:moveTo>
                <a:lnTo>
                  <a:pt x="5989" y="20925"/>
                </a:lnTo>
                <a:cubicBezTo>
                  <a:pt x="5989" y="20588"/>
                  <a:pt x="5569" y="20250"/>
                  <a:pt x="5149" y="20250"/>
                </a:cubicBezTo>
                <a:lnTo>
                  <a:pt x="4129" y="20250"/>
                </a:lnTo>
                <a:cubicBezTo>
                  <a:pt x="3709" y="20250"/>
                  <a:pt x="3289" y="19913"/>
                  <a:pt x="3289" y="19575"/>
                </a:cubicBezTo>
                <a:cubicBezTo>
                  <a:pt x="3289" y="19238"/>
                  <a:pt x="3709" y="18900"/>
                  <a:pt x="4129" y="18900"/>
                </a:cubicBezTo>
                <a:close/>
              </a:path>
              <a:path fill="darkenLess" w="21600" h="21600">
                <a:moveTo>
                  <a:pt x="15611" y="18900"/>
                </a:moveTo>
                <a:lnTo>
                  <a:pt x="15611" y="20925"/>
                </a:lnTo>
                <a:cubicBezTo>
                  <a:pt x="15611" y="20588"/>
                  <a:pt x="16031" y="20250"/>
                  <a:pt x="16451" y="20250"/>
                </a:cubicBezTo>
                <a:lnTo>
                  <a:pt x="17471" y="20250"/>
                </a:lnTo>
                <a:cubicBezTo>
                  <a:pt x="17891" y="20250"/>
                  <a:pt x="18311" y="19913"/>
                  <a:pt x="18311" y="19575"/>
                </a:cubicBezTo>
                <a:cubicBezTo>
                  <a:pt x="18311" y="19238"/>
                  <a:pt x="17891" y="18900"/>
                  <a:pt x="17471" y="18900"/>
                </a:cubicBezTo>
                <a:close/>
              </a:path>
              <a:path fill="darkenLess" w="21600" h="21600">
                <a:moveTo>
                  <a:pt x="3289" y="19575"/>
                </a:moveTo>
                <a:lnTo>
                  <a:pt x="3289" y="2700"/>
                </a:lnTo>
              </a:path>
              <a:path fill="darkenLess" w="21600" h="21600">
                <a:moveTo>
                  <a:pt x="18311" y="19575"/>
                </a:moveTo>
                <a:lnTo>
                  <a:pt x="18311" y="2700"/>
                </a:lnTo>
              </a:path>
            </a:pathLst>
          </a:custGeom>
          <a:solidFill>
            <a:srgbClr val="dfffe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100" spc="-1" strike="noStrike">
                <a:solidFill>
                  <a:srgbClr val="0066ff"/>
                </a:solidFill>
                <a:latin typeface="Times New Roman"/>
              </a:rPr>
              <a:t>СТРАНА  «КРУГЛЯНДИЯ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Копия Аквариум"/>
          <p:cNvPicPr/>
          <p:nvPr/>
        </p:nvPicPr>
        <p:blipFill>
          <a:blip r:embed="rId3"/>
          <a:stretch/>
        </p:blipFill>
        <p:spPr>
          <a:xfrm>
            <a:off x="2976480" y="3222720"/>
            <a:ext cx="2303640" cy="1708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Слонёнок"/>
          <p:cNvPicPr/>
          <p:nvPr/>
        </p:nvPicPr>
        <p:blipFill>
          <a:blip r:embed="rId4"/>
          <a:stretch/>
        </p:blipFill>
        <p:spPr>
          <a:xfrm>
            <a:off x="5199120" y="5367240"/>
            <a:ext cx="2144520" cy="1825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страус и цветок"/>
          <p:cNvPicPr/>
          <p:nvPr/>
        </p:nvPicPr>
        <p:blipFill>
          <a:blip r:embed="rId5"/>
          <a:stretch/>
        </p:blipFill>
        <p:spPr>
          <a:xfrm>
            <a:off x="357120" y="2668680"/>
            <a:ext cx="182556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Чебурашка"/>
          <p:cNvPicPr/>
          <p:nvPr/>
        </p:nvPicPr>
        <p:blipFill>
          <a:blip r:embed="rId6"/>
          <a:stretch/>
        </p:blipFill>
        <p:spPr>
          <a:xfrm>
            <a:off x="2500200" y="5367240"/>
            <a:ext cx="2381400" cy="18781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3532320" y="1477800"/>
            <a:ext cx="6032520" cy="1744920"/>
          </a:xfrm>
          <a:prstGeom prst="cloudCallout">
            <a:avLst>
              <a:gd name="adj1" fmla="val 23657"/>
              <a:gd name="adj2" fmla="val 90620"/>
            </a:avLst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4008600" y="1795320"/>
            <a:ext cx="460368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9900cc"/>
                </a:solidFill>
                <a:latin typeface="Times New Roman"/>
              </a:rPr>
              <a:t>ПОЧЕМУ ИМЕННО ЭТИ  ЖИТЕЛИ ЗАСЕЛЯЮТ СТРАНУ «КРУГЛЯНДИЯ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Users\Yarova\Pictures\2011-10-23 1\1 002.jpg"/>
          <p:cNvPicPr/>
          <p:nvPr/>
        </p:nvPicPr>
        <p:blipFill>
          <a:blip r:embed="rId2"/>
          <a:stretch/>
        </p:blipFill>
        <p:spPr>
          <a:xfrm>
            <a:off x="262080" y="1146240"/>
            <a:ext cx="953136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Yarova\Pictures\2011-10-23 1\1 003.jpg"/>
          <p:cNvPicPr/>
          <p:nvPr/>
        </p:nvPicPr>
        <p:blipFill>
          <a:blip r:embed="rId2"/>
          <a:stretch/>
        </p:blipFill>
        <p:spPr>
          <a:xfrm>
            <a:off x="-50760" y="222120"/>
            <a:ext cx="10182240" cy="71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Users\Yarova\Pictures\2011-10-23 1\1 004.jpg"/>
          <p:cNvPicPr/>
          <p:nvPr/>
        </p:nvPicPr>
        <p:blipFill>
          <a:blip r:embed="rId2"/>
          <a:stretch/>
        </p:blipFill>
        <p:spPr>
          <a:xfrm>
            <a:off x="-74520" y="171360"/>
            <a:ext cx="10231200" cy="72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Нам предстоит ещё много открыти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Yarova\Pictures\2011-10-22 1\1 008.jpg"/>
          <p:cNvPicPr/>
          <p:nvPr/>
        </p:nvPicPr>
        <p:blipFill>
          <a:blip r:embed="rId2"/>
          <a:stretch/>
        </p:blipFill>
        <p:spPr>
          <a:xfrm>
            <a:off x="979560" y="1763640"/>
            <a:ext cx="830268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Arial"/>
              </a:rPr>
              <a:t>Стр. 82 – 83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303640" y="1763640"/>
            <a:ext cx="5257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Yarova\Pictures\2011-10-23 1\1 001.jpg"/>
          <p:cNvPicPr/>
          <p:nvPr/>
        </p:nvPicPr>
        <p:blipFill>
          <a:blip r:embed="rId2"/>
          <a:stretch/>
        </p:blipFill>
        <p:spPr>
          <a:xfrm>
            <a:off x="198360" y="1228680"/>
            <a:ext cx="97376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ff"/>
                </a:solidFill>
                <a:latin typeface="Arial"/>
              </a:rPr>
              <a:t>Стр. 81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592360" y="1835280"/>
            <a:ext cx="53276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Мальвина"/>
          <p:cNvPicPr/>
          <p:nvPr/>
        </p:nvPicPr>
        <p:blipFill>
          <a:blip r:embed="rId2"/>
          <a:stretch/>
        </p:blipFill>
        <p:spPr>
          <a:xfrm>
            <a:off x="436680" y="2986200"/>
            <a:ext cx="1779480" cy="37306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436680" y="1557360"/>
            <a:ext cx="5238720" cy="1508040"/>
          </a:xfrm>
          <a:prstGeom prst="cloudCallout">
            <a:avLst>
              <a:gd name="adj1" fmla="val -25148"/>
              <a:gd name="adj2" fmla="val 88050"/>
            </a:avLst>
          </a:prstGeom>
          <a:solidFill>
            <a:srgbClr val="ff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J0387895"/>
          <p:cNvPicPr/>
          <p:nvPr/>
        </p:nvPicPr>
        <p:blipFill>
          <a:blip r:embed="rId3"/>
          <a:stretch/>
        </p:blipFill>
        <p:spPr>
          <a:xfrm>
            <a:off x="2658960" y="3621240"/>
            <a:ext cx="1508400" cy="134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H01035U"/>
          <p:cNvPicPr/>
          <p:nvPr/>
        </p:nvPicPr>
        <p:blipFill>
          <a:blip r:embed="rId4"/>
          <a:stretch/>
        </p:blipFill>
        <p:spPr>
          <a:xfrm>
            <a:off x="2500200" y="5605560"/>
            <a:ext cx="1989360" cy="1334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SL00286_"/>
          <p:cNvPicPr/>
          <p:nvPr/>
        </p:nvPicPr>
        <p:blipFill>
          <a:blip r:embed="rId5"/>
          <a:stretch/>
        </p:blipFill>
        <p:spPr>
          <a:xfrm>
            <a:off x="7819920" y="1477800"/>
            <a:ext cx="1746360" cy="1389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754200" y="1795320"/>
            <a:ext cx="420660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3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ff3300"/>
                </a:solidFill>
                <a:latin typeface="Times New Roman"/>
              </a:rPr>
              <a:t>КРУГ – ВАЖНАЯ                 ГЕОМЕТРИЧЕСКАЯ  ФИГУР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TN00246_"/>
          <p:cNvPicPr/>
          <p:nvPr/>
        </p:nvPicPr>
        <p:blipFill>
          <a:blip r:embed="rId6"/>
          <a:stretch/>
        </p:blipFill>
        <p:spPr>
          <a:xfrm>
            <a:off x="4564080" y="3144960"/>
            <a:ext cx="1587600" cy="1349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J0341738"/>
          <p:cNvPicPr/>
          <p:nvPr/>
        </p:nvPicPr>
        <p:blipFill>
          <a:blip r:embed="rId7"/>
          <a:stretch/>
        </p:blipFill>
        <p:spPr>
          <a:xfrm>
            <a:off x="5992920" y="1716120"/>
            <a:ext cx="1509480" cy="135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147"/>
          <p:cNvPicPr/>
          <p:nvPr/>
        </p:nvPicPr>
        <p:blipFill>
          <a:blip r:embed="rId8"/>
          <a:stretch/>
        </p:blipFill>
        <p:spPr>
          <a:xfrm>
            <a:off x="5199120" y="5049720"/>
            <a:ext cx="2120760" cy="1590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Буратино"/>
          <p:cNvPicPr/>
          <p:nvPr/>
        </p:nvPicPr>
        <p:blipFill>
          <a:blip r:embed="rId9"/>
          <a:stretch/>
        </p:blipFill>
        <p:spPr>
          <a:xfrm>
            <a:off x="7977240" y="2986200"/>
            <a:ext cx="1797120" cy="3730680"/>
          </a:xfrm>
          <a:prstGeom prst="rect">
            <a:avLst/>
          </a:prstGeom>
          <a:ln w="0">
            <a:noFill/>
          </a:ln>
        </p:spPr>
      </p:pic>
      <p:sp>
        <p:nvSpPr>
          <p:cNvPr id="70" name="Oval 12"/>
          <p:cNvSpPr/>
          <p:nvPr/>
        </p:nvSpPr>
        <p:spPr>
          <a:xfrm>
            <a:off x="6786720" y="3303720"/>
            <a:ext cx="1349280" cy="1349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4"/>
          <p:cNvSpPr txBox="1"/>
          <p:nvPr/>
        </p:nvSpPr>
        <p:spPr>
          <a:xfrm>
            <a:off x="2182680" y="366840"/>
            <a:ext cx="5556240" cy="1033200"/>
          </a:xfrm>
          <a:prstGeom prst="rect">
            <a:avLst/>
          </a:prstGeom>
        </p:spPr>
        <p:txBody>
          <a:bodyPr wrap="none" lIns="100440" rIns="100440" tIns="50040" bIns="50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ппликация из кругов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ЦИРКУЛЬ"/>
          <p:cNvPicPr/>
          <p:nvPr/>
        </p:nvPicPr>
        <p:blipFill>
          <a:blip r:embed="rId2"/>
          <a:stretch/>
        </p:blipFill>
        <p:spPr>
          <a:xfrm>
            <a:off x="3056040" y="684360"/>
            <a:ext cx="1746000" cy="2619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738520" y="3382920"/>
            <a:ext cx="2379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9900cc"/>
                </a:solidFill>
                <a:latin typeface="Times New Roman"/>
              </a:rPr>
              <a:t>ЦИРКУ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"/>
          <p:cNvSpPr/>
          <p:nvPr/>
        </p:nvSpPr>
        <p:spPr>
          <a:xfrm>
            <a:off x="3133800" y="4414680"/>
            <a:ext cx="1825560" cy="1825920"/>
          </a:xfrm>
          <a:prstGeom prst="ellipse">
            <a:avLst/>
          </a:prstGeom>
          <a:solidFill>
            <a:srgbClr val="ddba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133800" y="6478560"/>
            <a:ext cx="1825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9900cc"/>
                </a:solidFill>
                <a:latin typeface="Times New Roman"/>
              </a:rPr>
              <a:t>ШАБЛ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119560" y="4970520"/>
            <a:ext cx="238140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9900cc"/>
                </a:solidFill>
                <a:latin typeface="Times New Roman"/>
              </a:rPr>
              <a:t>ТРАФАР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9900cc"/>
                </a:solidFill>
                <a:latin typeface="Times New Roman"/>
              </a:rPr>
              <a:t>(ЛЕКАЛ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Мальвина"/>
          <p:cNvPicPr/>
          <p:nvPr/>
        </p:nvPicPr>
        <p:blipFill>
          <a:blip r:embed="rId3"/>
          <a:stretch/>
        </p:blipFill>
        <p:spPr>
          <a:xfrm>
            <a:off x="595440" y="2192400"/>
            <a:ext cx="1936800" cy="404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Буратино"/>
          <p:cNvPicPr/>
          <p:nvPr/>
        </p:nvPicPr>
        <p:blipFill>
          <a:blip r:embed="rId4"/>
          <a:stretch/>
        </p:blipFill>
        <p:spPr>
          <a:xfrm>
            <a:off x="7819920" y="2271600"/>
            <a:ext cx="1905120" cy="4046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5119560" y="763560"/>
            <a:ext cx="33339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5675400" y="6796080"/>
            <a:ext cx="1746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ЛИНЕЙКА1"/>
          <p:cNvPicPr/>
          <p:nvPr/>
        </p:nvPicPr>
        <p:blipFill>
          <a:blip r:embed="rId5"/>
          <a:stretch/>
        </p:blipFill>
        <p:spPr>
          <a:xfrm>
            <a:off x="5597640" y="2827440"/>
            <a:ext cx="1665000" cy="20635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3"/>
          <p:cNvSpPr/>
          <p:nvPr/>
        </p:nvSpPr>
        <p:spPr>
          <a:xfrm>
            <a:off x="5278320" y="446040"/>
            <a:ext cx="4445280" cy="1825560"/>
          </a:xfrm>
          <a:prstGeom prst="cloudCallout">
            <a:avLst>
              <a:gd name="adj1" fmla="val 16458"/>
              <a:gd name="adj2" fmla="val 131495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5516640" y="922320"/>
            <a:ext cx="412596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КАК, С ПОМОЩЬЮ ЧЕГО МОЖНО НАЧЕРТИТЬ КРУГ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Мальвина"/>
          <p:cNvPicPr/>
          <p:nvPr/>
        </p:nvPicPr>
        <p:blipFill>
          <a:blip r:embed="rId2"/>
          <a:stretch/>
        </p:blipFill>
        <p:spPr>
          <a:xfrm>
            <a:off x="595440" y="287280"/>
            <a:ext cx="1779480" cy="3333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Буратино"/>
          <p:cNvPicPr/>
          <p:nvPr/>
        </p:nvPicPr>
        <p:blipFill>
          <a:blip r:embed="rId3"/>
          <a:stretch/>
        </p:blipFill>
        <p:spPr>
          <a:xfrm>
            <a:off x="7897680" y="3144960"/>
            <a:ext cx="1825920" cy="341136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3929040" y="604800"/>
            <a:ext cx="2857680" cy="2779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5357880" y="604800"/>
            <a:ext cx="0" cy="2779920"/>
          </a:xfrm>
          <a:prstGeom prst="line">
            <a:avLst/>
          </a:prstGeom>
          <a:ln w="3816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6"/>
          <p:cNvGraphicFramePr/>
          <p:nvPr/>
        </p:nvGraphicFramePr>
        <p:xfrm>
          <a:off x="0" y="3465360"/>
          <a:ext cx="5278320" cy="3697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465360"/>
                    <a:ext cx="5278320" cy="36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Line 7"/>
          <p:cNvSpPr/>
          <p:nvPr/>
        </p:nvSpPr>
        <p:spPr>
          <a:xfrm>
            <a:off x="3929040" y="1954080"/>
            <a:ext cx="2857680" cy="0"/>
          </a:xfrm>
          <a:prstGeom prst="line">
            <a:avLst/>
          </a:prstGeom>
          <a:ln w="3816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8"/>
          <p:cNvGraphicFramePr/>
          <p:nvPr/>
        </p:nvGraphicFramePr>
        <p:xfrm>
          <a:off x="3849840" y="3382920"/>
          <a:ext cx="3940200" cy="36878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2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49840" y="3382920"/>
                    <a:ext cx="394020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Picture 9" descr="BS00439_"/>
          <p:cNvPicPr/>
          <p:nvPr/>
        </p:nvPicPr>
        <p:blipFill>
          <a:blip r:embed="rId8"/>
          <a:stretch/>
        </p:blipFill>
        <p:spPr>
          <a:xfrm rot="5400000">
            <a:off x="4551120" y="617400"/>
            <a:ext cx="873000" cy="530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BS00439_"/>
          <p:cNvPicPr/>
          <p:nvPr/>
        </p:nvPicPr>
        <p:blipFill>
          <a:blip r:embed="rId9"/>
          <a:stretch/>
        </p:blipFill>
        <p:spPr>
          <a:xfrm>
            <a:off x="3691080" y="2033640"/>
            <a:ext cx="873000" cy="530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1071720" y="7034040"/>
            <a:ext cx="3333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911160" y="6716880"/>
            <a:ext cx="31752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9900cc"/>
                </a:solidFill>
                <a:latin typeface="Times New Roman"/>
              </a:rPr>
              <a:t>2  ПОЛОВИ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325760" y="6716880"/>
            <a:ext cx="31752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9900cc"/>
                </a:solidFill>
                <a:latin typeface="Times New Roman"/>
              </a:rPr>
              <a:t>ЧЕТВЕРТИ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2"/>
          <p:cNvSpPr/>
          <p:nvPr/>
        </p:nvSpPr>
        <p:spPr>
          <a:xfrm>
            <a:off x="2579760" y="1160640"/>
            <a:ext cx="2619360" cy="23018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0800000">
            <a:off x="5040360" y="1318680"/>
            <a:ext cx="1031760" cy="2063880"/>
          </a:xfrm>
          <a:prstGeom prst="flowChartDelay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2976480" y="1716120"/>
            <a:ext cx="555840" cy="55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133800" y="1874880"/>
            <a:ext cx="318960" cy="31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 rot="1164000">
            <a:off x="4087440" y="366840"/>
            <a:ext cx="952560" cy="952200"/>
          </a:xfrm>
          <a:prstGeom prst="flowChartOnlineStorag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 rot="19878000">
            <a:off x="4244760" y="3222360"/>
            <a:ext cx="952200" cy="874440"/>
          </a:xfrm>
          <a:prstGeom prst="flowChartOnlineStorag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 rot="5268600">
            <a:off x="1549800" y="1793160"/>
            <a:ext cx="1122480" cy="968400"/>
          </a:xfrm>
          <a:custGeom>
            <a:avLst/>
            <a:gdLst>
              <a:gd name="textAreaLeft" fmla="*/ 227160 w 1122480"/>
              <a:gd name="textAreaRight" fmla="*/ 895320 w 1122480"/>
              <a:gd name="textAreaTop" fmla="*/ 0 h 968400"/>
              <a:gd name="textAreaBottom" fmla="*/ 222840 h 968400"/>
            </a:gdLst>
            <a:ahLst/>
            <a:rect l="textAreaLeft" t="textAreaTop" r="textAreaRight" b="textAreaBottom"/>
            <a:pathLst>
              <a:path w="21600" h="21600">
                <a:moveTo>
                  <a:pt x="7643" y="4276"/>
                </a:moveTo>
                <a:cubicBezTo>
                  <a:pt x="8627" y="3800"/>
                  <a:pt x="9706" y="3553"/>
                  <a:pt x="10800" y="3553"/>
                </a:cubicBezTo>
                <a:cubicBezTo>
                  <a:pt x="11893" y="3553"/>
                  <a:pt x="12972" y="3800"/>
                  <a:pt x="13956" y="4276"/>
                </a:cubicBezTo>
                <a:lnTo>
                  <a:pt x="15504" y="1078"/>
                </a:lnTo>
                <a:cubicBezTo>
                  <a:pt x="14037" y="368"/>
                  <a:pt x="12429" y="0"/>
                  <a:pt x="10799" y="0"/>
                </a:cubicBezTo>
                <a:cubicBezTo>
                  <a:pt x="9170" y="0"/>
                  <a:pt x="7562" y="368"/>
                  <a:pt x="6095" y="1078"/>
                </a:cubicBezTo>
                <a:lnTo>
                  <a:pt x="7643" y="427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Мальвина"/>
          <p:cNvPicPr/>
          <p:nvPr/>
        </p:nvPicPr>
        <p:blipFill>
          <a:blip r:embed="rId2"/>
          <a:stretch/>
        </p:blipFill>
        <p:spPr>
          <a:xfrm>
            <a:off x="436680" y="366840"/>
            <a:ext cx="1779480" cy="309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Буратино"/>
          <p:cNvPicPr/>
          <p:nvPr/>
        </p:nvPicPr>
        <p:blipFill>
          <a:blip r:embed="rId3"/>
          <a:stretch/>
        </p:blipFill>
        <p:spPr>
          <a:xfrm>
            <a:off x="7977240" y="287280"/>
            <a:ext cx="1825560" cy="3175200"/>
          </a:xfrm>
          <a:prstGeom prst="rect">
            <a:avLst/>
          </a:prstGeom>
          <a:ln w="0">
            <a:noFill/>
          </a:ln>
        </p:spPr>
      </p:pic>
      <p:sp>
        <p:nvSpPr>
          <p:cNvPr id="107" name="Oval 11"/>
          <p:cNvSpPr/>
          <p:nvPr/>
        </p:nvSpPr>
        <p:spPr>
          <a:xfrm>
            <a:off x="1149480" y="4176720"/>
            <a:ext cx="2778120" cy="2617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5437080" y="4414680"/>
            <a:ext cx="2778120" cy="2619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6865920" y="4414680"/>
            <a:ext cx="0" cy="2619360"/>
          </a:xfrm>
          <a:prstGeom prst="line">
            <a:avLst/>
          </a:prstGeom>
          <a:ln w="57240">
            <a:solidFill>
              <a:srgbClr val="0066ff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"/>
          <p:cNvSpPr/>
          <p:nvPr/>
        </p:nvSpPr>
        <p:spPr>
          <a:xfrm flipH="1">
            <a:off x="6865560" y="5684760"/>
            <a:ext cx="1351080" cy="0"/>
          </a:xfrm>
          <a:prstGeom prst="line">
            <a:avLst/>
          </a:prstGeom>
          <a:ln w="57240">
            <a:solidFill>
              <a:srgbClr val="0066ff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911160" y="6796080"/>
            <a:ext cx="30178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66ff"/>
                </a:solidFill>
                <a:latin typeface="Times New Roman"/>
              </a:rPr>
              <a:t>ТУЛОВИЩ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57880" y="5448240"/>
            <a:ext cx="1428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66ff"/>
                </a:solidFill>
                <a:latin typeface="Times New Roman"/>
              </a:rPr>
              <a:t>ХВ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 rot="16200000">
            <a:off x="7676280" y="5280840"/>
            <a:ext cx="19857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66ff"/>
                </a:solidFill>
                <a:latin typeface="Times New Roman"/>
              </a:rPr>
              <a:t>ПЛАВН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8" descr="BS00439_"/>
          <p:cNvPicPr/>
          <p:nvPr/>
        </p:nvPicPr>
        <p:blipFill>
          <a:blip r:embed="rId4"/>
          <a:stretch/>
        </p:blipFill>
        <p:spPr>
          <a:xfrm rot="11962200">
            <a:off x="7500240" y="5763600"/>
            <a:ext cx="873000" cy="530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BS00439_"/>
          <p:cNvPicPr/>
          <p:nvPr/>
        </p:nvPicPr>
        <p:blipFill>
          <a:blip r:embed="rId5"/>
          <a:stretch/>
        </p:blipFill>
        <p:spPr>
          <a:xfrm rot="5997600">
            <a:off x="6059160" y="4189320"/>
            <a:ext cx="873000" cy="5302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0"/>
          <p:cNvSpPr/>
          <p:nvPr/>
        </p:nvSpPr>
        <p:spPr>
          <a:xfrm>
            <a:off x="5437080" y="0"/>
            <a:ext cx="2859120" cy="1716120"/>
          </a:xfrm>
          <a:prstGeom prst="cloudCallout">
            <a:avLst>
              <a:gd name="adj1" fmla="val 37138"/>
              <a:gd name="adj2" fmla="val 30837"/>
            </a:avLst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5992920" y="287280"/>
            <a:ext cx="166536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6600"/>
                </a:solidFill>
                <a:latin typeface="Times New Roman"/>
              </a:rPr>
              <a:t>СКОЛЬКО КРУГОВ  В РЫБК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3"/>
          <p:cNvSpPr/>
          <p:nvPr/>
        </p:nvSpPr>
        <p:spPr>
          <a:xfrm>
            <a:off x="4325760" y="4494240"/>
            <a:ext cx="795600" cy="79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4"/>
          <p:cNvSpPr/>
          <p:nvPr/>
        </p:nvSpPr>
        <p:spPr>
          <a:xfrm>
            <a:off x="4564080" y="5843520"/>
            <a:ext cx="317520" cy="31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4087800" y="6637320"/>
            <a:ext cx="14288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Г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2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740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7:39:10Z</dcterms:created>
  <dc:creator>Yarova</dc:creator>
  <dc:description/>
  <dc:language>en-US</dc:language>
  <cp:lastModifiedBy>Microsoft </cp:lastModifiedBy>
  <dcterms:modified xsi:type="dcterms:W3CDTF">2016-11-13T09:03:00Z</dcterms:modified>
  <cp:revision>6</cp:revision>
  <dc:subject/>
  <dc:title>Презентация PowerPoint</dc:title>
</cp:coreProperties>
</file>