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2E31-568D-43CB-B548-CB42F250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3F6-EC07-43CB-AAF9-437DB8AB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1F2-C674-4ECC-92A6-7618656C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7A15-4731-441E-9662-188B469F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F5A6-ED30-43BE-AF02-78044590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5DE2-4009-4792-A325-AAEF5F49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5AE3-4632-464D-855F-50BBE67C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5C51-788F-45EA-8EA1-8FADDC31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DF6F-7EC8-4AA8-B5B1-651E3F30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5668-700D-480A-AE2A-D8DB16EC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60DC-18DA-44FE-BEA4-334DD740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82D1-1EDB-4BFC-A3E7-9D1E91AD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8B87-615C-4E88-9219-4EFC132F5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hyperlink" Target="http://www.shkola-abv.ru/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01. Сайт .Архив\ИЗО и технология\23 февраля\Маяк\0fe4d15d8ba058b3e077c8723d19cb1e.jpg"/>
          <p:cNvPicPr/>
          <p:nvPr/>
        </p:nvPicPr>
        <p:blipFill>
          <a:blip r:embed="rId1"/>
          <a:stretch/>
        </p:blipFill>
        <p:spPr>
          <a:xfrm>
            <a:off x="2360520" y="260280"/>
            <a:ext cx="6513480" cy="63374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42" name="TextBox 4"/>
          <p:cNvSpPr/>
          <p:nvPr/>
        </p:nvSpPr>
        <p:spPr>
          <a:xfrm rot="16200000">
            <a:off x="-1614240" y="3027240"/>
            <a:ext cx="6389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Пластилинография. Мая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:\01. Сайт .Архив\ИЗО и технология\23 февраля\Маяк\52a51fafece67ea8cbe9cf01a533348d.jpg"/>
          <p:cNvPicPr/>
          <p:nvPr/>
        </p:nvPicPr>
        <p:blipFill>
          <a:blip r:embed="rId1"/>
          <a:stretch/>
        </p:blipFill>
        <p:spPr>
          <a:xfrm>
            <a:off x="4140360" y="189000"/>
            <a:ext cx="4608360" cy="648000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Picture background"/>
          <p:cNvPicPr/>
          <p:nvPr/>
        </p:nvPicPr>
        <p:blipFill>
          <a:blip r:embed="rId1"/>
          <a:stretch/>
        </p:blipFill>
        <p:spPr>
          <a:xfrm>
            <a:off x="447840" y="404640"/>
            <a:ext cx="8327880" cy="55454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1319040" y="204840"/>
            <a:ext cx="650592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700360" y="260280"/>
            <a:ext cx="410040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G:\01. Сайт .Архив\ИЗО и технология\23 февраля\Маяк\807a87f8e28777c8a5bd89c0bdc31ff0 (1).jpg"/>
          <p:cNvPicPr/>
          <p:nvPr/>
        </p:nvPicPr>
        <p:blipFill>
          <a:blip r:embed="rId1"/>
          <a:srcRect l="0" t="0" r="0" b="1455"/>
          <a:stretch/>
        </p:blipFill>
        <p:spPr>
          <a:xfrm>
            <a:off x="179280" y="404640"/>
            <a:ext cx="3643560" cy="5688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G:\01. Сайт .Архив\ИЗО и технология\23 февраля\Маяк\807a87f8e28777c8a5bd89c0bdc31ff0 (1).jpg"/>
          <p:cNvPicPr/>
          <p:nvPr/>
        </p:nvPicPr>
        <p:blipFill>
          <a:blip r:embed="rId2"/>
          <a:srcRect l="0" t="0" r="0" b="1455"/>
          <a:stretch/>
        </p:blipFill>
        <p:spPr>
          <a:xfrm>
            <a:off x="5219640" y="189000"/>
            <a:ext cx="36432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G:\01. Сайт .Архив\ИЗО и технология\23 февраля\Маяк\abd02d808b4fdeb2ebf77056300dab2c.jpg"/>
          <p:cNvPicPr/>
          <p:nvPr/>
        </p:nvPicPr>
        <p:blipFill>
          <a:blip r:embed="rId1"/>
          <a:stretch/>
        </p:blipFill>
        <p:spPr>
          <a:xfrm>
            <a:off x="250920" y="260280"/>
            <a:ext cx="4071960" cy="633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G:\01. Сайт .Архив\ИЗО и технология\23 февраля\Маяк\abd02d808b4fdeb2ebf77056300dab2c.jpg"/>
          <p:cNvPicPr/>
          <p:nvPr/>
        </p:nvPicPr>
        <p:blipFill>
          <a:blip r:embed="rId2"/>
          <a:stretch/>
        </p:blipFill>
        <p:spPr>
          <a:xfrm>
            <a:off x="5045040" y="333360"/>
            <a:ext cx="409896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G:\01. Сайт .Архив\ИЗО и технология\23 февраля\Маяк\135a0f7bdf750a800c8ddc6c9af6d53d.jpg"/>
          <p:cNvPicPr/>
          <p:nvPr/>
        </p:nvPicPr>
        <p:blipFill>
          <a:blip r:embed="rId1"/>
          <a:srcRect l="4976" t="6405" r="5449" b="5203"/>
          <a:stretch/>
        </p:blipFill>
        <p:spPr>
          <a:xfrm>
            <a:off x="179280" y="260280"/>
            <a:ext cx="4226040" cy="540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G:\01. Сайт .Архив\ИЗО и технология\23 февраля\Маяк\135a0f7bdf750a800c8ddc6c9af6d53d.jpg"/>
          <p:cNvPicPr/>
          <p:nvPr/>
        </p:nvPicPr>
        <p:blipFill>
          <a:blip r:embed="rId2"/>
          <a:srcRect l="4976" t="6405" r="5449" b="5203"/>
          <a:stretch/>
        </p:blipFill>
        <p:spPr>
          <a:xfrm>
            <a:off x="4716360" y="260280"/>
            <a:ext cx="4226040" cy="54007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6444360" y="648828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https://vk.com/shkola_ab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Эмблема круг"/>
          <p:cNvPicPr/>
          <p:nvPr/>
        </p:nvPicPr>
        <p:blipFill>
          <a:blip r:embed="rId3"/>
          <a:stretch/>
        </p:blipFill>
        <p:spPr>
          <a:xfrm>
            <a:off x="2340000" y="587700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63840" y="587592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09T10:42:36Z</dcterms:created>
  <dc:creator>Елена Берюхова</dc:creator>
  <dc:description/>
  <dc:language>en-US</dc:language>
  <cp:lastModifiedBy>Берюхов</cp:lastModifiedBy>
  <dcterms:modified xsi:type="dcterms:W3CDTF">2025-02-12T09:08:39Z</dcterms:modified>
  <cp:revision>5</cp:revision>
  <dc:subject/>
  <dc:title>Слайд 1</dc:title>
</cp:coreProperties>
</file>