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C00-0975-488D-A367-9A5CAAC9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35C-9C26-4AB1-BC30-42D1DD0D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98A-4C18-4F7C-A4D1-78ADFEBD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6D1-552C-4843-BECC-905673A0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18D-7B23-4DD4-9454-A6B1916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BFE-737E-4BE0-A1FA-9CE0A5D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994-525D-4F4C-B923-6D60563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C57-0A1D-4CCD-97AA-51FB538D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8EB-2BAC-4122-8445-F112B6D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4F3-D6AC-4D68-9783-1D48B1A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CFF-7654-4829-84C5-B183242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F0A-B3F8-4A25-97E9-D36D37C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F9E-0C43-4C81-BFBB-9F3E4C2C4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voimirukamy.com/wp-content/uploads/2017/11/3-4.jpg"/>
          <p:cNvPicPr/>
          <p:nvPr/>
        </p:nvPicPr>
        <p:blipFill>
          <a:blip r:embed="rId1"/>
          <a:stretch/>
        </p:blipFill>
        <p:spPr>
          <a:xfrm>
            <a:off x="1258920" y="692280"/>
            <a:ext cx="7620120" cy="55148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TextBox 4"/>
          <p:cNvSpPr/>
          <p:nvPr/>
        </p:nvSpPr>
        <p:spPr>
          <a:xfrm rot="16200000">
            <a:off x="-2254320" y="3198960"/>
            <a:ext cx="561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естрички из цветной бума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5280" y="333360"/>
            <a:ext cx="8569440" cy="56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ам понадобится: бумага двух цветов, 2 деревянные палочки, пуговки для глаз, резинки либо верёвочки для рук, карандаш, к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Возьмите квадрат цветной бумаг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Сложите его по принципу гармо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Привяжите его к деревянной палочке, сформировав ру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Вырежьте кружочек для л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Приклейте лицо и глаз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Нарисуйте улы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 Сделайте вторую девочку таким же способ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voimirukamy.com/wp-content/uploads/2017/11/12-4.jpg"/>
          <p:cNvPicPr/>
          <p:nvPr/>
        </p:nvPicPr>
        <p:blipFill>
          <a:blip r:embed="rId1"/>
          <a:stretch/>
        </p:blipFill>
        <p:spPr>
          <a:xfrm>
            <a:off x="272880" y="260280"/>
            <a:ext cx="8518680" cy="6121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84360" y="5732640"/>
            <a:ext cx="748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 интернета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svoimirukamy.com/podelki-iz-tsvetnoj-bumagi-dlya-mladshih-klassov.html#gallery-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27T05:08:27Z</dcterms:created>
  <dc:creator>Елена</dc:creator>
  <dc:description/>
  <dc:language>en-US</dc:language>
  <cp:lastModifiedBy>Берюхов</cp:lastModifiedBy>
  <dcterms:modified xsi:type="dcterms:W3CDTF">2025-01-16T12:51:51Z</dcterms:modified>
  <cp:revision>2</cp:revision>
  <dc:subject/>
  <dc:title>Слайд 1</dc:title>
</cp:coreProperties>
</file>