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BFA-4CF6-4219-8746-17C0397A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666-9776-483F-93A5-1495600D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EE9-BEFF-4797-853D-A2BFCADA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04B-0415-43BD-A804-EA63C949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B29-534D-4C9C-B01E-F383CE37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A01-A975-4685-A887-83328EE8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CBC-43B3-4E5A-8068-3B3BEDB3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B20-5B12-46A0-907C-781FF4AF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E9D-A036-4EBA-B1E0-EA941A41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F19-8060-41DD-BD74-7F130A9F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D7A-C27E-47A1-A8FE-A538A3E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10E-D360-444F-9299-CCF02A87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1A9F-0B38-40D9-98E3-E5972DE48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cайт\Год Змеи\Змея из бумаги\Змея 3\ce544af3ada2c09d6416dacaed0db860.jpg"/>
          <p:cNvPicPr/>
          <p:nvPr/>
        </p:nvPicPr>
        <p:blipFill>
          <a:blip r:embed="rId1"/>
          <a:srcRect l="1895" t="966" r="1471" b="46886"/>
          <a:stretch/>
        </p:blipFill>
        <p:spPr>
          <a:xfrm>
            <a:off x="2700360" y="189000"/>
            <a:ext cx="6119640" cy="648000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" name="TextBox 2"/>
          <p:cNvSpPr/>
          <p:nvPr/>
        </p:nvSpPr>
        <p:spPr>
          <a:xfrm rot="16200000">
            <a:off x="-2259000" y="3146760"/>
            <a:ext cx="69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Спиральная змея с шабло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Елена\Desktop\cайт\Год Змеи\Змея из бумаги\Змея 3\c3cd4f12e8fe8492d7e33b3aae0559d6.jpg"/>
          <p:cNvPicPr/>
          <p:nvPr/>
        </p:nvPicPr>
        <p:blipFill>
          <a:blip r:embed="rId1"/>
          <a:stretch/>
        </p:blipFill>
        <p:spPr>
          <a:xfrm>
            <a:off x="108000" y="189000"/>
            <a:ext cx="8825040" cy="446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Эмблема круг"/>
          <p:cNvPicPr/>
          <p:nvPr/>
        </p:nvPicPr>
        <p:blipFill>
          <a:blip r:embed="rId2"/>
          <a:stretch/>
        </p:blipFill>
        <p:spPr>
          <a:xfrm>
            <a:off x="4211640" y="472428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63840" y="58042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cайт\Год Змеи\Змея из бумаги\Змея 3\ce544af3ada2c09d6416dacaed0db860.jpg"/>
          <p:cNvPicPr/>
          <p:nvPr/>
        </p:nvPicPr>
        <p:blipFill>
          <a:blip r:embed="rId1"/>
          <a:srcRect l="0" t="0" r="0" b="46886"/>
          <a:stretch/>
        </p:blipFill>
        <p:spPr>
          <a:xfrm>
            <a:off x="250920" y="115920"/>
            <a:ext cx="3800520" cy="39607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44" name="Picture 2" descr="C:\Users\Елена\Desktop\cайт\Год Змеи\Змея из бумаги\Змея 3\ce544af3ada2c09d6416dacaed0db860.jpg"/>
          <p:cNvPicPr/>
          <p:nvPr/>
        </p:nvPicPr>
        <p:blipFill>
          <a:blip r:embed="rId2"/>
          <a:srcRect l="1741" t="53061" r="0" b="0"/>
          <a:stretch/>
        </p:blipFill>
        <p:spPr>
          <a:xfrm>
            <a:off x="4284720" y="2349360"/>
            <a:ext cx="4532400" cy="424836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Елена\Desktop\cайт\Год Змеи\Змея из бумаги\Змея 3\491f5825cb018ed070e10a2786398a63.jpg"/>
          <p:cNvPicPr/>
          <p:nvPr/>
        </p:nvPicPr>
        <p:blipFill>
          <a:blip r:embed="rId1"/>
          <a:stretch/>
        </p:blipFill>
        <p:spPr>
          <a:xfrm>
            <a:off x="1482840" y="333360"/>
            <a:ext cx="6108480" cy="626436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а\Desktop\cайт\Год Змеи\Змея из бумаги\Змея 3\736a9dc0b20a0038f17c09f9debc6fc8.jpg"/>
          <p:cNvPicPr/>
          <p:nvPr/>
        </p:nvPicPr>
        <p:blipFill>
          <a:blip r:embed="rId1"/>
          <a:srcRect l="0" t="19518" r="0" b="1612"/>
          <a:stretch/>
        </p:blipFill>
        <p:spPr>
          <a:xfrm>
            <a:off x="1338120" y="0"/>
            <a:ext cx="6183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Елена\Desktop\cайт\Год Змеи\Змея из бумаги\Змея 3\736a9dc0b20a0038f17c09f9debc6fc8.jpg"/>
          <p:cNvPicPr/>
          <p:nvPr/>
        </p:nvPicPr>
        <p:blipFill>
          <a:blip r:embed="rId1"/>
          <a:srcRect l="0" t="19518" r="0" b="1612"/>
          <a:stretch/>
        </p:blipFill>
        <p:spPr>
          <a:xfrm>
            <a:off x="108000" y="0"/>
            <a:ext cx="4319640" cy="466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Елена\Desktop\cайт\Год Змеи\Змея из бумаги\Змея 3\736a9dc0b20a0038f17c09f9debc6fc8.jpg"/>
          <p:cNvPicPr/>
          <p:nvPr/>
        </p:nvPicPr>
        <p:blipFill>
          <a:blip r:embed="rId2"/>
          <a:srcRect l="0" t="19518" r="0" b="1612"/>
          <a:stretch/>
        </p:blipFill>
        <p:spPr>
          <a:xfrm>
            <a:off x="4630680" y="1773360"/>
            <a:ext cx="45133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Елена\Desktop\cайт\Год Змеи\Змея из бумаги\Змея 3\5ac1d93b6746e70ec8b1ac880a8fb836.jpg"/>
          <p:cNvPicPr/>
          <p:nvPr/>
        </p:nvPicPr>
        <p:blipFill>
          <a:blip r:embed="rId1"/>
          <a:stretch/>
        </p:blipFill>
        <p:spPr>
          <a:xfrm>
            <a:off x="0" y="0"/>
            <a:ext cx="4451400" cy="629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Елена\Desktop\cайт\Год Змеи\Змея из бумаги\Змея 3\5ac1d93b6746e70ec8b1ac880a8fb836.jpg"/>
          <p:cNvPicPr/>
          <p:nvPr/>
        </p:nvPicPr>
        <p:blipFill>
          <a:blip r:embed="rId2"/>
          <a:stretch/>
        </p:blipFill>
        <p:spPr>
          <a:xfrm>
            <a:off x="4692600" y="0"/>
            <a:ext cx="44514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Елена\Desktop\cайт\Год Змеи\Змея из бумаги\Змея 3\5ac1d93b6746e70ec8b1ac880a8fb836.jpg"/>
          <p:cNvPicPr/>
          <p:nvPr/>
        </p:nvPicPr>
        <p:blipFill>
          <a:blip r:embed="rId1"/>
          <a:stretch/>
        </p:blipFill>
        <p:spPr>
          <a:xfrm>
            <a:off x="1258920" y="0"/>
            <a:ext cx="72453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Елена\Desktop\cайт\Год Змеи\Змея из бумаги\Змея 3\2ff0a71ba801d25ba088aefc40e62e7c.jpg"/>
          <p:cNvPicPr/>
          <p:nvPr/>
        </p:nvPicPr>
        <p:blipFill>
          <a:blip r:embed="rId1"/>
          <a:srcRect l="4921" t="13368" r="6347" b="7276"/>
          <a:stretch/>
        </p:blipFill>
        <p:spPr>
          <a:xfrm>
            <a:off x="0" y="0"/>
            <a:ext cx="4537080" cy="5737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Елена\Desktop\cайт\Год Змеи\Змея из бумаги\Змея 3\2ff0a71ba801d25ba088aefc40e62e7c.jpg"/>
          <p:cNvPicPr/>
          <p:nvPr/>
        </p:nvPicPr>
        <p:blipFill>
          <a:blip r:embed="rId2"/>
          <a:srcRect l="4921" t="13368" r="6347" b="7276"/>
          <a:stretch/>
        </p:blipFill>
        <p:spPr>
          <a:xfrm>
            <a:off x="4606920" y="1120680"/>
            <a:ext cx="453708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Елена\Desktop\cайт\Год Змеи\Змея из бумаги\Змея 3\2ff0a71ba801d25ba088aefc40e62e7c.jpg"/>
          <p:cNvPicPr/>
          <p:nvPr/>
        </p:nvPicPr>
        <p:blipFill>
          <a:blip r:embed="rId1"/>
          <a:srcRect l="7276" t="4921" r="13368" b="6347"/>
          <a:stretch/>
        </p:blipFill>
        <p:spPr>
          <a:xfrm>
            <a:off x="250920" y="0"/>
            <a:ext cx="846144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30T21:11:16Z</dcterms:created>
  <dc:creator>Елена Берюхова</dc:creator>
  <dc:description/>
  <dc:language>en-US</dc:language>
  <cp:lastModifiedBy>Берюхов</cp:lastModifiedBy>
  <dcterms:modified xsi:type="dcterms:W3CDTF">2024-12-03T08:02:46Z</dcterms:modified>
  <cp:revision>5</cp:revision>
  <dc:subject/>
  <dc:title>Слайд 1</dc:title>
</cp:coreProperties>
</file>