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6366-CD5E-4C55-9F5E-3ADEA2C5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31D-A131-4125-85AF-7AF9C1E0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2BF4-DC5D-4AA9-A6A8-352CA90A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E92C-B5D1-48DB-B415-E9C54380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D5F8-D320-4744-A098-AA298CC2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4F50-2411-4E6C-8646-AB2BA2C6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56C1-7E8B-4C0B-A765-6B89C2E2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673-DF9D-428D-974B-AC5DFAE3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DEB-1977-4E0B-8624-93B58633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74D-E4FA-44BF-B7A8-A5074690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467A-D193-4CDC-A4BA-D8591DEB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CC4-CCEF-4834-BB5A-C46D32B2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3D78-BCB4-49B8-971D-B7F87AFC8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hkola-abv.ru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Фламинго из отпечатков ладоней своими руками"/>
          <p:cNvPicPr/>
          <p:nvPr/>
        </p:nvPicPr>
        <p:blipFill>
          <a:blip r:embed="rId2"/>
          <a:stretch/>
        </p:blipFill>
        <p:spPr>
          <a:xfrm>
            <a:off x="2411280" y="260280"/>
            <a:ext cx="6291360" cy="63374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" name="TextBox 4"/>
          <p:cNvSpPr/>
          <p:nvPr/>
        </p:nvSpPr>
        <p:spPr>
          <a:xfrm rot="16200000">
            <a:off x="-2078280" y="3119400"/>
            <a:ext cx="622944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Танцующие фламинг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684360" y="333360"/>
            <a:ext cx="8280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Фламинг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яркие и необычные птицы. Предлагаем попробовать сделать их из отпечатков ладоней. Что пригодится: Белый картон. Цветная бумага. Ножницы. Клей. Ткань синель розового цвета. Два пёрыш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Фламинго из отпечатков ладоней своими руками"/>
          <p:cNvPicPr/>
          <p:nvPr/>
        </p:nvPicPr>
        <p:blipFill>
          <a:blip r:embed="rId2"/>
          <a:stretch/>
        </p:blipFill>
        <p:spPr>
          <a:xfrm>
            <a:off x="3168720" y="1557360"/>
            <a:ext cx="5075280" cy="51116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900000" y="189000"/>
            <a:ext cx="80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ступаем к работе: 1. Положите перед собой белый картон. Это будет основа поделки – фон. 2. Возьмите кусочек бумаги голубого цвета и приклейте снизу. Получится море. 3. Берём розовую бумагу, обводим и вырезаем два отпечатка ладони. Приклеиваем по центру рядом друг с друг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Фламинго из отпечатков ладоней своими руками. Шаг 1"/>
          <p:cNvPicPr/>
          <p:nvPr/>
        </p:nvPicPr>
        <p:blipFill>
          <a:blip r:embed="rId2"/>
          <a:stretch/>
        </p:blipFill>
        <p:spPr>
          <a:xfrm>
            <a:off x="1547640" y="1989000"/>
            <a:ext cx="6804360" cy="45356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Фламинго из отпечатков ладоней своими руками. Шаг 2"/>
          <p:cNvPicPr/>
          <p:nvPr/>
        </p:nvPicPr>
        <p:blipFill>
          <a:blip r:embed="rId2"/>
          <a:stretch/>
        </p:blipFill>
        <p:spPr>
          <a:xfrm>
            <a:off x="539640" y="404640"/>
            <a:ext cx="8209080" cy="5472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684360" y="260280"/>
            <a:ext cx="828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. Нарисуйте изогнутую шею. Сложите бумагу пополам, чтобы получилось два элемента, и вырежьте. Приклейте к туловищ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. Делаем клюв и глаза. Используем белую и чёрную бумагу, как показано на картинке. Приклеиваем все элементы. Вместо чёрной бумаги можно использовать чёрный фломастер. Раскрасьте им кончик клюва и нарисуйте зрачки в глаз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Фламинго из отпечатков ладоней своими руками. Шаг 3"/>
          <p:cNvPicPr/>
          <p:nvPr/>
        </p:nvPicPr>
        <p:blipFill>
          <a:blip r:embed="rId2"/>
          <a:stretch/>
        </p:blipFill>
        <p:spPr>
          <a:xfrm>
            <a:off x="1619280" y="2486160"/>
            <a:ext cx="5832360" cy="38890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Фламинго из отпечатков ладоней своими руками. Шаг 4"/>
          <p:cNvPicPr/>
          <p:nvPr/>
        </p:nvPicPr>
        <p:blipFill>
          <a:blip r:embed="rId2"/>
          <a:stretch/>
        </p:blipFill>
        <p:spPr>
          <a:xfrm>
            <a:off x="746280" y="476280"/>
            <a:ext cx="7885080" cy="5256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684360" y="260280"/>
            <a:ext cx="813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6. Возьмите синель. Это пушистая ткань, на ощупь напоминающая мех. Вырежьте из неё 4 длинные полоски – ноги для наших будущих фламинго. Одну полоску к птице приклейте прямо, вторую подогните снизу, как на изображен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. Сверху к ладошкам приклейте по пёрышку. Чтобы перья хорошо держались, можно использовать клей Момен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Фламинго из отпечатков ладоней своими руками. Шаг 5"/>
          <p:cNvPicPr/>
          <p:nvPr/>
        </p:nvPicPr>
        <p:blipFill>
          <a:blip r:embed="rId2"/>
          <a:stretch/>
        </p:blipFill>
        <p:spPr>
          <a:xfrm>
            <a:off x="1619280" y="2276640"/>
            <a:ext cx="6265800" cy="41767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Фламинго из отпечатков ладоней своими руками. Шаг 6"/>
          <p:cNvPicPr/>
          <p:nvPr/>
        </p:nvPicPr>
        <p:blipFill>
          <a:blip r:embed="rId2"/>
          <a:stretch/>
        </p:blipFill>
        <p:spPr>
          <a:xfrm>
            <a:off x="900000" y="1557360"/>
            <a:ext cx="7550280" cy="50338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4" name="Прямоугольник 2"/>
          <p:cNvSpPr/>
          <p:nvPr/>
        </p:nvSpPr>
        <p:spPr>
          <a:xfrm>
            <a:off x="468360" y="18900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8. Добавляем к нашей аппликации немного зелени. Возьмём цветную бумагу, вырежем из неё две полоски, нарежем бахрому, сложим в несколько раз и приклеим к картине. Яркие розовые фламинго готов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340000" y="37008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Елены Берюховой  «Школа АБ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hkol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b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3" descr="G:\для сайта работы\эмблема\Эмблема круг.png"/>
          <p:cNvPicPr/>
          <p:nvPr/>
        </p:nvPicPr>
        <p:blipFill>
          <a:blip r:embed="rId3"/>
          <a:stretch/>
        </p:blipFill>
        <p:spPr>
          <a:xfrm>
            <a:off x="3417840" y="1413000"/>
            <a:ext cx="2233800" cy="2016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900000" y="4437000"/>
            <a:ext cx="7993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точник: https://academy-of-curiosity.ru/tvorchestvo/25-prostyh-letnih-podel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5-26T18:34:43Z</dcterms:created>
  <dc:creator>Елена</dc:creator>
  <dc:description/>
  <dc:language>en-US</dc:language>
  <cp:lastModifiedBy>Берюхов</cp:lastModifiedBy>
  <dcterms:modified xsi:type="dcterms:W3CDTF">2024-05-21T07:16:56Z</dcterms:modified>
  <cp:revision>3</cp:revision>
  <dc:subject/>
  <dc:title>Слайд 1</dc:title>
</cp:coreProperties>
</file>