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B10-9D00-4756-A7D8-63ADEB8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4CF-389E-4F0E-9527-3E32BE91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A09-D09C-4CD8-A1E2-BA04EEC8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DD6-BAAF-4855-BC4F-81A0FB51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B79-7BAF-4618-9DAB-82A14E1D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16E-3FD2-4E11-B36E-3DB76391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EB6-ABBE-4F83-B519-9205B93F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922-4CF0-42C5-8014-57303C19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FD6-6699-4971-9F0A-8A1EE68E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EFF-3BF6-479C-8707-4E2A339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02A-9021-46B5-AA55-9032076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88B-19BF-4C4E-A635-11420059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79B-5925-409B-AE84-751B8E18A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53520" y="333360"/>
            <a:ext cx="70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Танцующие игруш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Елена\Desktop\А\Объёмные новогодние аппликации\89a75d88-5b09-4bba-a754-8f8fbfdd0bf8.jpg"/>
          <p:cNvPicPr/>
          <p:nvPr/>
        </p:nvPicPr>
        <p:blipFill>
          <a:blip r:embed="rId1"/>
          <a:stretch/>
        </p:blipFill>
        <p:spPr>
          <a:xfrm>
            <a:off x="395280" y="1628640"/>
            <a:ext cx="8426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print.krokotak.com/d/d828d52676f64103971bb08ff9f631cd/t2.gif"/>
          <p:cNvPicPr/>
          <p:nvPr/>
        </p:nvPicPr>
        <p:blipFill>
          <a:blip r:embed="rId1"/>
          <a:stretch/>
        </p:blipFill>
        <p:spPr>
          <a:xfrm>
            <a:off x="-19080" y="0"/>
            <a:ext cx="9024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print.krokotak.com/d/5d2fd17d2f3940b8b3d61d504b69dae7/t2.gif"/>
          <p:cNvPicPr/>
          <p:nvPr/>
        </p:nvPicPr>
        <p:blipFill>
          <a:blip r:embed="rId1"/>
          <a:stretch/>
        </p:blipFill>
        <p:spPr>
          <a:xfrm>
            <a:off x="0" y="0"/>
            <a:ext cx="9024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print.krokotak.com/d/7f2e60e1fbc048a184338ae9b10264e9/t2.gif"/>
          <p:cNvPicPr/>
          <p:nvPr/>
        </p:nvPicPr>
        <p:blipFill>
          <a:blip r:embed="rId1"/>
          <a:stretch/>
        </p:blipFill>
        <p:spPr>
          <a:xfrm>
            <a:off x="0" y="0"/>
            <a:ext cx="9024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new-year-party.ru/wp-content/uploads/raskraska-ded-moroz28.jpg"/>
          <p:cNvPicPr/>
          <p:nvPr/>
        </p:nvPicPr>
        <p:blipFill>
          <a:blip r:embed="rId1"/>
          <a:stretch/>
        </p:blipFill>
        <p:spPr>
          <a:xfrm>
            <a:off x="5867280" y="333360"/>
            <a:ext cx="3124440" cy="4417920"/>
          </a:xfrm>
          <a:prstGeom prst="rect">
            <a:avLst/>
          </a:prstGeom>
          <a:ln w="0">
            <a:noFill/>
          </a:ln>
        </p:spPr>
      </p:pic>
      <p:sp>
        <p:nvSpPr>
          <p:cNvPr id="55" name="Овал 2"/>
          <p:cNvSpPr/>
          <p:nvPr/>
        </p:nvSpPr>
        <p:spPr>
          <a:xfrm>
            <a:off x="179280" y="620640"/>
            <a:ext cx="5616720" cy="5616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4"/>
          <p:cNvSpPr/>
          <p:nvPr/>
        </p:nvSpPr>
        <p:spPr>
          <a:xfrm>
            <a:off x="2916360" y="620640"/>
            <a:ext cx="0" cy="561672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s://detskie-raskraski.ru/sites/default/files/raskraska_podarok48.jpg"/>
          <p:cNvPicPr/>
          <p:nvPr/>
        </p:nvPicPr>
        <p:blipFill>
          <a:blip r:embed="rId2"/>
          <a:stretch/>
        </p:blipFill>
        <p:spPr>
          <a:xfrm>
            <a:off x="1258920" y="1052640"/>
            <a:ext cx="142236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s://4raskraski.ru/wp-content/uploads/2019/11/novyj-god17.gif"/>
          <p:cNvPicPr/>
          <p:nvPr/>
        </p:nvPicPr>
        <p:blipFill>
          <a:blip r:embed="rId3"/>
          <a:stretch/>
        </p:blipFill>
        <p:spPr>
          <a:xfrm rot="5153400">
            <a:off x="1117080" y="4168800"/>
            <a:ext cx="1241280" cy="144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s://2024god.com/wp-content/uploads/2022/12/raskraska-na-novyj-2024-god-6-4.jpg"/>
          <p:cNvPicPr/>
          <p:nvPr/>
        </p:nvPicPr>
        <p:blipFill>
          <a:blip r:embed="rId4"/>
          <a:stretch/>
        </p:blipFill>
        <p:spPr>
          <a:xfrm>
            <a:off x="2987640" y="1413000"/>
            <a:ext cx="18162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вал 2"/>
          <p:cNvSpPr/>
          <p:nvPr/>
        </p:nvSpPr>
        <p:spPr>
          <a:xfrm>
            <a:off x="179280" y="620640"/>
            <a:ext cx="5616720" cy="5616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>
            <a:off x="2916360" y="620640"/>
            <a:ext cx="0" cy="561672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Елена\Desktop\А\драконовая\Раскраски\11.jpg"/>
          <p:cNvPicPr/>
          <p:nvPr/>
        </p:nvPicPr>
        <p:blipFill>
          <a:blip r:embed="rId1"/>
          <a:stretch/>
        </p:blipFill>
        <p:spPr>
          <a:xfrm>
            <a:off x="5364000" y="0"/>
            <a:ext cx="34894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0703600">
            <a:off x="611280" y="1267920"/>
            <a:ext cx="3241440" cy="308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1133400">
            <a:off x="5219640" y="1412640"/>
            <a:ext cx="3311640" cy="310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Эмблема круг"/>
          <p:cNvPicPr/>
          <p:nvPr/>
        </p:nvPicPr>
        <p:blipFill>
          <a:blip r:embed="rId3"/>
          <a:stretch/>
        </p:blipFill>
        <p:spPr>
          <a:xfrm>
            <a:off x="4140360" y="198900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3222000" y="5877000"/>
            <a:ext cx="2690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2520" y="47962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А\Объёмные новогодние аппликации\1d249baf-d05b-46f1-a0e4-4ea2f6514894.jpg"/>
          <p:cNvPicPr/>
          <p:nvPr/>
        </p:nvPicPr>
        <p:blipFill>
          <a:blip r:embed="rId1"/>
          <a:stretch/>
        </p:blipFill>
        <p:spPr>
          <a:xfrm>
            <a:off x="324000" y="530280"/>
            <a:ext cx="8496000" cy="5491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А\Объёмные новогодние аппликации\0a2fa0fd-c294-4ff5-9e60-d9c9efb990f5.jpg"/>
          <p:cNvPicPr/>
          <p:nvPr/>
        </p:nvPicPr>
        <p:blipFill>
          <a:blip r:embed="rId1"/>
          <a:stretch/>
        </p:blipFill>
        <p:spPr>
          <a:xfrm>
            <a:off x="611280" y="260280"/>
            <a:ext cx="8031240" cy="619308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print.krokotak.com/d/9449213e3d4d4d2eab9469b7adeec6e1/t2.gif"/>
          <p:cNvPicPr/>
          <p:nvPr/>
        </p:nvPicPr>
        <p:blipFill>
          <a:blip r:embed="rId1"/>
          <a:stretch/>
        </p:blipFill>
        <p:spPr>
          <a:xfrm>
            <a:off x="119160" y="333360"/>
            <a:ext cx="90248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а\Desktop\А\Объёмные новогодние аппликации\b26903c5-d1bf-42cb-acd9-c2e7d0e1fd17.jpg"/>
          <p:cNvPicPr/>
          <p:nvPr/>
        </p:nvPicPr>
        <p:blipFill>
          <a:blip r:embed="rId1"/>
          <a:stretch/>
        </p:blipFill>
        <p:spPr>
          <a:xfrm>
            <a:off x="324000" y="404640"/>
            <a:ext cx="8432640" cy="547236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Елена\Desktop\А\Объёмные новогодние аппликации\466eb2a5-d468-47c7-bb5f-710857430cf9.jpg"/>
          <p:cNvPicPr/>
          <p:nvPr/>
        </p:nvPicPr>
        <p:blipFill>
          <a:blip r:embed="rId1"/>
          <a:stretch/>
        </p:blipFill>
        <p:spPr>
          <a:xfrm>
            <a:off x="684360" y="404640"/>
            <a:ext cx="7775280" cy="615636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Елена\Desktop\А\Объёмные новогодние аппликации\2bb3b3d2-728a-4f78-a213-b9e868ad726d.jpg"/>
          <p:cNvPicPr/>
          <p:nvPr/>
        </p:nvPicPr>
        <p:blipFill>
          <a:blip r:embed="rId1"/>
          <a:stretch/>
        </p:blipFill>
        <p:spPr>
          <a:xfrm>
            <a:off x="336600" y="333360"/>
            <a:ext cx="8339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Сайт .Архив\ИЗО и технология\Новый год\Объёмные картины\t2.gif"/>
          <p:cNvPicPr/>
          <p:nvPr/>
        </p:nvPicPr>
        <p:blipFill>
          <a:blip r:embed="rId1"/>
          <a:stretch/>
        </p:blipFill>
        <p:spPr>
          <a:xfrm>
            <a:off x="0" y="189000"/>
            <a:ext cx="91663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print.krokotak.com/d/ebbcc6a3809348038af8d6000a0e00ed/t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1T16:15:12Z</dcterms:created>
  <dc:creator>Елена Берюхова</dc:creator>
  <dc:description/>
  <dc:language>en-US</dc:language>
  <cp:lastModifiedBy>Берюхов</cp:lastModifiedBy>
  <dcterms:modified xsi:type="dcterms:W3CDTF">2024-12-13T12:47:47Z</dcterms:modified>
  <cp:revision>19</cp:revision>
  <dc:subject/>
  <dc:title>Слайд 1</dc:title>
</cp:coreProperties>
</file>