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8BC-0825-449B-A490-BC79CF03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6C87-1557-484C-80A1-62E1D515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5A4-A648-463C-8543-D4A12E2E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B27-8E12-4F27-BDED-73474926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94BD-5F26-41F1-AA91-BAC001FD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1F9-26EB-423C-8D6B-1E1CFF6D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F70-B60C-4133-BE61-D0F23850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FA27-92CD-48C4-8D74-17EC69E9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EF8-13D4-472C-BAAD-79EB410B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283E-3579-4BB0-B343-32D8353F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7B9A-CFF4-4A36-AF26-67EDE600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4702-C237-4B47-B2B5-49B20D24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F082-75C2-4281-ADB7-04DF5D44B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www.shkola-abv.ru/" TargetMode="External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Елена\Desktop\cайт\Год Змеи\Змея из бумаги\Змея из бумаги\1.jpg"/>
          <p:cNvPicPr/>
          <p:nvPr/>
        </p:nvPicPr>
        <p:blipFill>
          <a:blip r:embed="rId1"/>
          <a:srcRect l="0" t="0" r="0" b="59137"/>
          <a:stretch/>
        </p:blipFill>
        <p:spPr>
          <a:xfrm>
            <a:off x="539640" y="260280"/>
            <a:ext cx="4956120" cy="4248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2" name="Picture 2" descr="C:\Users\Елена\Desktop\cайт\Год Змеи\Змея из бумаги\Змея из бумаги\1.jpg"/>
          <p:cNvPicPr/>
          <p:nvPr/>
        </p:nvPicPr>
        <p:blipFill>
          <a:blip r:embed="rId2"/>
          <a:srcRect l="0" t="41572" r="0" b="0"/>
          <a:stretch/>
        </p:blipFill>
        <p:spPr>
          <a:xfrm>
            <a:off x="5796000" y="2924280"/>
            <a:ext cx="3024000" cy="37065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3" name="TextBox 5"/>
          <p:cNvSpPr/>
          <p:nvPr/>
        </p:nvSpPr>
        <p:spPr>
          <a:xfrm>
            <a:off x="324000" y="5157720"/>
            <a:ext cx="4968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Arial"/>
              </a:rPr>
              <a:t>из бумаг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012000" y="907920"/>
            <a:ext cx="25923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Arial"/>
              </a:rPr>
              <a:t>Зме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Елена\Desktop\cайт\Год Змеи\Змея из бумаги\Змея из бумаги\4.jpg"/>
          <p:cNvPicPr/>
          <p:nvPr/>
        </p:nvPicPr>
        <p:blipFill>
          <a:blip r:embed="rId1"/>
          <a:stretch/>
        </p:blipFill>
        <p:spPr>
          <a:xfrm>
            <a:off x="2050920" y="333360"/>
            <a:ext cx="4537080" cy="62816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Елена\Desktop\cайт\Год Змеи\Змея из бумаги\Змея из бумаги\3.jpg"/>
          <p:cNvPicPr/>
          <p:nvPr/>
        </p:nvPicPr>
        <p:blipFill>
          <a:blip r:embed="rId1"/>
          <a:stretch/>
        </p:blipFill>
        <p:spPr>
          <a:xfrm>
            <a:off x="1000080" y="333360"/>
            <a:ext cx="7183440" cy="4824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Елена\Desktop\cайт\Год Змеи\Змея из бумаги\Змея из бумаги\2.gif"/>
          <p:cNvPicPr/>
          <p:nvPr/>
        </p:nvPicPr>
        <p:blipFill>
          <a:blip r:embed="rId1"/>
          <a:stretch/>
        </p:blipFill>
        <p:spPr>
          <a:xfrm>
            <a:off x="324000" y="0"/>
            <a:ext cx="8413560" cy="595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Елена\Desktop\cайт\Год Змеи\Змея из бумаги\Змея из бумаги\3.jpg"/>
          <p:cNvPicPr/>
          <p:nvPr/>
        </p:nvPicPr>
        <p:blipFill>
          <a:blip r:embed="rId1"/>
          <a:stretch/>
        </p:blipFill>
        <p:spPr>
          <a:xfrm>
            <a:off x="468360" y="189000"/>
            <a:ext cx="8272440" cy="54007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" name="Picture 6" descr="Эмблема круг"/>
          <p:cNvPicPr/>
          <p:nvPr/>
        </p:nvPicPr>
        <p:blipFill>
          <a:blip r:embed="rId2"/>
          <a:stretch/>
        </p:blipFill>
        <p:spPr>
          <a:xfrm>
            <a:off x="468360" y="587700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5958720" y="6165720"/>
            <a:ext cx="2690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s://vk.com/shkola_ab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1420560" y="587592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7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30T21:22:25Z</dcterms:created>
  <dc:creator>Елена Берюхова</dc:creator>
  <dc:description/>
  <dc:language>en-US</dc:language>
  <cp:lastModifiedBy>Берюхов</cp:lastModifiedBy>
  <dcterms:modified xsi:type="dcterms:W3CDTF">2024-12-13T12:20:47Z</dcterms:modified>
  <cp:revision>4</cp:revision>
  <dc:subject/>
  <dc:title>Слайд 1</dc:title>
</cp:coreProperties>
</file>