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B16-281A-439F-ABE1-924A0724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AA82-FB7A-4468-9F6E-54CBD8D9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C30-A062-4AE2-AF85-470A5FBF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196-D4E7-4A4A-9B82-0DAA7874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1DD-6D45-4D9D-8E52-7D815DCA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837-9EF1-4E0E-8FAC-02B3AD47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008-547C-4610-8715-895D64AC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120-D9F6-4EF2-8984-52260AFA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7F2-6376-49D1-9B1A-DE6EA3F1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D04-A2D8-4A61-AD2D-455FF9DF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078-0C88-4C5D-88B7-C00DF295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8B3-9939-4E1D-87CE-221679FD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7E4F-5D9F-4FDE-A0EF-4C2157EC9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cайт\Год Змеи\Змея из бумаги\Змея 2\0adb54a668378e52f8a887cd994a0b89.jpg"/>
          <p:cNvPicPr/>
          <p:nvPr/>
        </p:nvPicPr>
        <p:blipFill>
          <a:blip r:embed="rId1"/>
          <a:stretch/>
        </p:blipFill>
        <p:spPr>
          <a:xfrm>
            <a:off x="1763640" y="476280"/>
            <a:ext cx="7010640" cy="5832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 rot="16200000">
            <a:off x="-1218240" y="2594520"/>
            <a:ext cx="59770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omic Sans MS"/>
              </a:rPr>
              <a:t>Змея из колече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cайт\Год Змеи\Змея из бумаги\Змея 2\406acbc47fd09807cf8e524533100e39.jpg"/>
          <p:cNvPicPr/>
          <p:nvPr/>
        </p:nvPicPr>
        <p:blipFill>
          <a:blip r:embed="rId1"/>
          <a:stretch/>
        </p:blipFill>
        <p:spPr>
          <a:xfrm>
            <a:off x="442800" y="189000"/>
            <a:ext cx="8450280" cy="633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Елена\Desktop\cайт\Год Змеи\Змея из бумаги\Змея 2\007842fd217838c2b2e77420658a4ef0.jpg"/>
          <p:cNvPicPr/>
          <p:nvPr/>
        </p:nvPicPr>
        <p:blipFill>
          <a:blip r:embed="rId1"/>
          <a:stretch/>
        </p:blipFill>
        <p:spPr>
          <a:xfrm>
            <a:off x="324000" y="476280"/>
            <a:ext cx="8469000" cy="476892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cайт\Год Змеи\Змея из бумаги\Змея 2\1062e815a5ab6241b21894c296cacad0.jpg"/>
          <p:cNvPicPr/>
          <p:nvPr/>
        </p:nvPicPr>
        <p:blipFill>
          <a:blip r:embed="rId1"/>
          <a:stretch/>
        </p:blipFill>
        <p:spPr>
          <a:xfrm>
            <a:off x="3348000" y="189000"/>
            <a:ext cx="5364360" cy="640872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" name="Прямоугольник 2"/>
          <p:cNvSpPr/>
          <p:nvPr/>
        </p:nvSpPr>
        <p:spPr>
          <a:xfrm>
            <a:off x="402480" y="6093000"/>
            <a:ext cx="2690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Эмблема круг"/>
          <p:cNvPicPr/>
          <p:nvPr/>
        </p:nvPicPr>
        <p:blipFill>
          <a:blip r:embed="rId2"/>
          <a:stretch/>
        </p:blipFill>
        <p:spPr>
          <a:xfrm>
            <a:off x="1258920" y="501336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9480" y="414864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30T21:04:59Z</dcterms:created>
  <dc:creator>Елена Берюхова</dc:creator>
  <dc:description/>
  <dc:language>en-US</dc:language>
  <cp:lastModifiedBy>Берюхов</cp:lastModifiedBy>
  <dcterms:modified xsi:type="dcterms:W3CDTF">2024-12-03T08:09:08Z</dcterms:modified>
  <cp:revision>4</cp:revision>
  <dc:subject/>
  <dc:title>Слайд 1</dc:title>
</cp:coreProperties>
</file>