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4FD-39E6-4A54-886B-CE6A2BE5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316-A7FA-4BAA-B504-DFB370D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1BE-B4B0-44CC-A05A-1C795393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660-2FB1-4C07-837D-2AB198C7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F58-0972-47BC-B3A6-D9A85FBC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9A1-1755-4B07-BD21-510B3ADB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C94-75EF-43C8-8035-BA3F8578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E2C-06B7-4DFC-AF28-56B64867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04E-973C-4336-9D33-5846387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431-2901-4878-ABA3-208D3A7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900-86D6-490E-BD8C-CAF55BF2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69A-4446-4159-B40D-A1B11804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B22A-C7A1-465B-BEB6-76EFD2D77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hyperlink" Target="https://vk.com/shkola_ab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2771640" y="115920"/>
            <a:ext cx="621684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523800" y="4376880"/>
            <a:ext cx="8139240" cy="2023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static1.ozone.ru/multimedia/books_covers/c200/1001203225.jpg"/>
          <p:cNvPicPr/>
          <p:nvPr/>
        </p:nvPicPr>
        <p:blipFill>
          <a:blip r:embed="rId4"/>
          <a:stretch/>
        </p:blipFill>
        <p:spPr>
          <a:xfrm>
            <a:off x="468360" y="549360"/>
            <a:ext cx="248436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57120" y="285840"/>
            <a:ext cx="457200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 открывай дверь чужим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ловьем поет звонок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жик выглянул в глазок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Ой! Хозяин! Помогите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верь скорее отворите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Я нечаянно упал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то-то, кажется сломал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Нет, открыть я не могу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о конечно, помогу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воню сейчас врачам 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усть они помогут в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ood-cook.ru/i/thbn/a/1/a19b941b76634ec2e9feaa29bbc0b227.jpg"/>
          <p:cNvPicPr/>
          <p:nvPr/>
        </p:nvPicPr>
        <p:blipFill>
          <a:blip r:embed="rId2"/>
          <a:srcRect l="19380" t="7503" r="16876" b="0"/>
          <a:stretch/>
        </p:blipFill>
        <p:spPr>
          <a:xfrm>
            <a:off x="5214960" y="1571760"/>
            <a:ext cx="3643200" cy="528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lenagold.narod.ru/fon/clipart/m/medp/medik007.png"/>
          <p:cNvPicPr/>
          <p:nvPr/>
        </p:nvPicPr>
        <p:blipFill>
          <a:blip r:embed="rId3"/>
          <a:stretch/>
        </p:blipFill>
        <p:spPr>
          <a:xfrm>
            <a:off x="642960" y="4429080"/>
            <a:ext cx="114948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85840" y="298800"/>
            <a:ext cx="4357440" cy="302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фт стоит, открыта двер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нем чужой какой-то зверь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оворит он серой мышке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Заходи скорей, малышка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ышка умницей был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такой ответ дала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Извините, не сейчас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нимусь я после в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11771" t="0" r="19643" b="5982"/>
          <a:stretch/>
        </p:blipFill>
        <p:spPr>
          <a:xfrm>
            <a:off x="928800" y="3071880"/>
            <a:ext cx="3500280" cy="378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s61.radikal.ru/i173/0904/b2/d782edc52db0.png"/>
          <p:cNvPicPr/>
          <p:nvPr/>
        </p:nvPicPr>
        <p:blipFill>
          <a:blip r:embed="rId3"/>
          <a:stretch/>
        </p:blipFill>
        <p:spPr>
          <a:xfrm>
            <a:off x="4714920" y="500040"/>
            <a:ext cx="4429080" cy="519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5840" y="285840"/>
            <a:ext cx="45720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рсучок пришел дом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устал - едва живой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отрит: кто ж это так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двери стоит чужой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рятал ключик барсучок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бормочет в кулачок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Где ж я ключик положи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рно, дома позабыл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бегу пока гулять -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у с папой подж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i034.radikal.ru/0904/a5/ef50953a740c.png"/>
          <p:cNvPicPr/>
          <p:nvPr/>
        </p:nvPicPr>
        <p:blipFill>
          <a:blip r:embed="rId2"/>
          <a:stretch/>
        </p:blipFill>
        <p:spPr>
          <a:xfrm>
            <a:off x="5078520" y="1214280"/>
            <a:ext cx="3813120" cy="538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286160" y="357120"/>
            <a:ext cx="400068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шла мама в магази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имка дома сам - оди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резвонил телефон -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щенка пропал весь сон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Алло, алло! Кто говорит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па где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здесь стои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т, он занят, извинит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уть попозже позвоните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D:\клипарты\животные\собака 3.png"/>
          <p:cNvPicPr/>
          <p:nvPr/>
        </p:nvPicPr>
        <p:blipFill>
          <a:blip r:embed="rId2"/>
          <a:stretch/>
        </p:blipFill>
        <p:spPr>
          <a:xfrm>
            <a:off x="428760" y="1571760"/>
            <a:ext cx="357984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85840" y="303120"/>
            <a:ext cx="485784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ышка с мамой попрощалас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совсем одна осталась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ышит вдруг за дверью топот 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дом попасть стремится кто-то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ышка в руки телефон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бегом на свой балкон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брала скорей сто два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Адрес мой: Лесная , два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скорее приезжайт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 грабителей спас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http://s55.radikal.ru/i149/0904/42/62630cdf10f4.png"/>
          <p:cNvPicPr/>
          <p:nvPr/>
        </p:nvPicPr>
        <p:blipFill>
          <a:blip r:embed="rId2"/>
          <a:stretch/>
        </p:blipFill>
        <p:spPr>
          <a:xfrm>
            <a:off x="5357880" y="1544760"/>
            <a:ext cx="3200400" cy="48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Эмблема круг"/>
          <p:cNvPicPr/>
          <p:nvPr/>
        </p:nvPicPr>
        <p:blipFill>
          <a:blip r:embed="rId3"/>
          <a:stretch/>
        </p:blipFill>
        <p:spPr>
          <a:xfrm>
            <a:off x="684360" y="551664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66160" y="5373000"/>
            <a:ext cx="2808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3:43:45Z</dcterms:created>
  <dc:creator>Helen</dc:creator>
  <dc:description/>
  <dc:language>en-US</dc:language>
  <cp:lastModifiedBy>Берюхов</cp:lastModifiedBy>
  <dcterms:modified xsi:type="dcterms:W3CDTF">2025-03-07T12:15:53Z</dcterms:modified>
  <cp:revision>7</cp:revision>
  <dc:subject/>
  <dc:title>Слайд 1</dc:title>
</cp:coreProperties>
</file>