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A08-0323-4489-9747-F7EBAA95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A0F-3E40-4B83-ABBF-117AF1FA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875-3EF1-47EF-8E98-3B4B50D8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869-9FCC-4A36-B02F-F08380D0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5AF-2FC0-4D52-B458-3745FC73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6C5-7E11-4080-8757-8F36AEA6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CCE-4918-44A0-B21C-28F47769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F35-E1F9-4043-8CB6-C93599F1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80F-E577-4DAA-91E1-67C0F8C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B23-37D5-4406-BFD0-87A8F51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054-1DFA-4D0C-82F3-CEFFC719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6E8-F9A0-4785-88DC-F86BB461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5D26-3060-46D4-97D7-EF451AE3C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4663906_Ychimsya_Bit_Vejlivim1 (200x284, 130Kb)"/>
          <p:cNvPicPr/>
          <p:nvPr/>
        </p:nvPicPr>
        <p:blipFill>
          <a:blip r:embed="rId1"/>
          <a:stretch/>
        </p:blipFill>
        <p:spPr>
          <a:xfrm>
            <a:off x="0" y="0"/>
            <a:ext cx="6858000" cy="912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g1.liveinternet.ru/images/attach/c/3/84/228/84228713_large_Uchimsya_Buyt_Vezhlivuym10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455760" y="6929280"/>
            <a:ext cx="502236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ыл в гостях у тигра сл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Отдохнул, -признался 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, довольный, на проща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клонился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«ДО СВИДАНИ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img0.liveinternet.ru/images/attach/c/3/84/228/84228714_large_Uchimsya_Buyt_Vezhlivuym11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333360" y="7451640"/>
            <a:ext cx="63356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liveinternet.ru/users/tanya_4e4e/post219652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сайт «Школа АБ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www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shkola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abv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46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Эмблема круг"/>
          <p:cNvPicPr/>
          <p:nvPr/>
        </p:nvPicPr>
        <p:blipFill>
          <a:blip r:embed="rId2"/>
          <a:stretch/>
        </p:blipFill>
        <p:spPr>
          <a:xfrm>
            <a:off x="765000" y="7956720"/>
            <a:ext cx="770040" cy="75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g1.liveinternet.ru/images/attach/c/3/84/228/84228703_large_Uchimsya_Buyt_Vezhlivuym2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5" name="Записанный звук" descr=""/>
          <p:cNvPicPr/>
          <p:nvPr/>
        </p:nvPicPr>
        <p:blipFill>
          <a:blip r:embed="rId2"/>
          <a:stretch/>
        </p:blipFill>
        <p:spPr>
          <a:xfrm>
            <a:off x="6165720" y="539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357120" y="214200"/>
            <a:ext cx="600084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аньше всех петух прос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смотрелся. Потя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укарекнул в ранний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уры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 ДОБРЫМ УТРОМ ВА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img0.liveinternet.ru/images/attach/c/3/84/228/84228704_large_Uchimsya_Buyt_Vezhlivuym3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1.liveinternet.ru/images/attach/c/3/84/228/84228705_large_Uchimsya_Buyt_Vezhlivuym4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1.liveinternet.ru/images/attach/c/3/84/228/84228707_large_Uchimsya_Buyt_Vezhlivuym5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817560" y="324000"/>
            <a:ext cx="485928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 жаркий день жираф комп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егемоту пода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ыпил тот. Молчит как ры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Бегемот, а где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ПАСИБ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mg0.liveinternet.ru/images/attach/c/3/84/228/84228708_large_Uchimsya_Buyt_Vezhlivuym6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253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49360" y="468360"/>
            <a:ext cx="557208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ыну говорит медвед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Чтоб, Мишутка, не бол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ужно мёд есть. Он полез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Ешь, сыночек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удь любез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g1.liveinternet.ru/images/attach/c/3/84/228/84228709_large_Uchimsya_Buyt_Vezhlivuym7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0.liveinternet.ru/images/attach/c/3/84/228/84228710_large_Uchimsya_Buyt_Vezhlivuym8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g1.liveinternet.ru/images/attach/c/3/84/228/84228711_large_Uchimsya_Buyt_Vezhlivuym9.png"/>
          <p:cNvPicPr/>
          <p:nvPr/>
        </p:nvPicPr>
        <p:blipFill>
          <a:blip r:embed="rId1"/>
          <a:stretch/>
        </p:blipFill>
        <p:spPr>
          <a:xfrm>
            <a:off x="0" y="0"/>
            <a:ext cx="6858000" cy="9151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722160" y="324000"/>
            <a:ext cx="536544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Если маленький барс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 дверь услышит сту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оворит он: «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ЗВИНИТ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Я – один, не открою, не стучите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3:40:11Z</dcterms:created>
  <dc:creator>Helen</dc:creator>
  <dc:description/>
  <dc:language>en-US</dc:language>
  <cp:lastModifiedBy>Берюхов</cp:lastModifiedBy>
  <dcterms:modified xsi:type="dcterms:W3CDTF">2025-02-05T09:29:29Z</dcterms:modified>
  <cp:revision>6</cp:revision>
  <dc:subject/>
  <dc:title>Слайд 1</dc:title>
</cp:coreProperties>
</file>