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C94-F4BA-4915-BE92-B6BD363D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B16-EBF2-4426-A68B-40EC2745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9F8-FE0E-4302-94F6-753D6AAF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D19-CE5F-4510-B698-801F470E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343D-73AA-4826-BBA1-186502A6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EC63-CF46-4E6F-8E06-E2B0CA2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3B5C-B91B-4EEB-A254-F9E175E5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5686-9132-4464-AC15-B369F4F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3B3-2B15-47D0-B508-0CED85C9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D20E-4BB0-4E01-B82D-48C62FE4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936F-F22C-4A98-9867-FFEF5866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D8C-D12D-49D0-9D9B-F85A2F1B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CBFF-8776-49CC-ABB0-9CFC37F4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94C4-5016-43C6-833D-BD74130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DE83-14D1-4664-8C0F-11662D25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A579-CAF0-45B2-B937-AC458537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4F9F-0921-49F8-B524-0ECC10C9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DE8-C34C-4DDB-970E-50679966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9E8-8E84-48A5-9D7B-FAB4A1D8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6CE-D1F7-4687-9727-2E5B88A1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76B-0E07-435C-9AD9-FB5BD876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DE7-5B8C-45CB-A5AD-0E7BDAB8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F58-5A8B-4358-910D-629E862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9D7-6B3A-4BD0-8BBF-BEE5EA0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39AA-A5ED-497C-AFCA-E7590BA16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Оформляшки\5e226a3bbf95.png"/>
          <p:cNvPicPr/>
          <p:nvPr/>
        </p:nvPicPr>
        <p:blipFill>
          <a:blip r:embed="rId3"/>
          <a:srcRect l="-872" t="46843" r="5153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02A5-D9EB-4106-83C8-58F7B79B0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"/>
          <p:cNvSpPr txBox="1"/>
          <p:nvPr/>
        </p:nvSpPr>
        <p:spPr>
          <a:xfrm>
            <a:off x="1714680" y="1143000"/>
            <a:ext cx="6858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коны  класса  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4" name="Picture 4" descr="D:\клипарты\Дети\33513e45d6d6.png"/>
          <p:cNvPicPr/>
          <p:nvPr/>
        </p:nvPicPr>
        <p:blipFill>
          <a:blip r:embed="rId2"/>
          <a:stretch/>
        </p:blipFill>
        <p:spPr>
          <a:xfrm>
            <a:off x="2484360" y="3427560"/>
            <a:ext cx="2714760" cy="343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5712120" cy="1116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464400" y="5357880"/>
            <a:ext cx="7650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ереги своё здоровье и здоров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кружающих теб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D:\клипарты\люди\9b09dacd8435.png"/>
          <p:cNvPicPr/>
          <p:nvPr/>
        </p:nvPicPr>
        <p:blipFill>
          <a:blip r:embed="rId3"/>
          <a:stretch/>
        </p:blipFill>
        <p:spPr>
          <a:xfrm>
            <a:off x="571680" y="1357200"/>
            <a:ext cx="3429000" cy="371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клипарты\Дети\880dd372e36c.png"/>
          <p:cNvPicPr/>
          <p:nvPr/>
        </p:nvPicPr>
        <p:blipFill>
          <a:blip r:embed="rId4"/>
          <a:stretch/>
        </p:blipFill>
        <p:spPr>
          <a:xfrm>
            <a:off x="5205240" y="1357200"/>
            <a:ext cx="2652840" cy="36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1" descr=""/>
          <p:cNvPicPr/>
          <p:nvPr/>
        </p:nvPicPr>
        <p:blipFill>
          <a:blip r:embed="rId2"/>
          <a:stretch/>
        </p:blipFill>
        <p:spPr>
          <a:xfrm>
            <a:off x="1773360" y="42840"/>
            <a:ext cx="5346720" cy="1116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442080" y="5000760"/>
            <a:ext cx="81331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орожи школьной дружбой, цени с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ласс, школу. Научись радоваться не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воим успехам, но и успехам товари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D:\клипарты\люди\1c83907c84ef.png"/>
          <p:cNvPicPr/>
          <p:nvPr/>
        </p:nvPicPr>
        <p:blipFill>
          <a:blip r:embed="rId3"/>
          <a:stretch/>
        </p:blipFill>
        <p:spPr>
          <a:xfrm>
            <a:off x="1500120" y="1428840"/>
            <a:ext cx="6280200" cy="338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786040" y="357120"/>
            <a:ext cx="387180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  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Picture 3" descr="D:\клипарты\Дети\872addd2b1a5.png"/>
          <p:cNvPicPr/>
          <p:nvPr/>
        </p:nvPicPr>
        <p:blipFill>
          <a:blip r:embed="rId2"/>
          <a:stretch/>
        </p:blipFill>
        <p:spPr>
          <a:xfrm>
            <a:off x="3000240" y="1643040"/>
            <a:ext cx="296712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000080" y="4714920"/>
            <a:ext cx="650088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атериал из «Портфолио второкласс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Авторы-составители: Е.А. Андреева, Н.В. Разваля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Москва. Планета, 201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айт: «Школа АБВ»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http://www.shkola-ab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формление: Елены Берюх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Эмблема круг"/>
          <p:cNvPicPr/>
          <p:nvPr/>
        </p:nvPicPr>
        <p:blipFill>
          <a:blip r:embed="rId3"/>
          <a:stretch/>
        </p:blipFill>
        <p:spPr>
          <a:xfrm>
            <a:off x="1258920" y="69228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7240" y="16992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738360" y="5286240"/>
            <a:ext cx="7541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Будь добр к ближнему и добр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ернётся к т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2"/>
          <a:stretch/>
        </p:blipFill>
        <p:spPr>
          <a:xfrm>
            <a:off x="1908000" y="42840"/>
            <a:ext cx="4712040" cy="111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D:\клипарты\люди\7e1924f17e3a.png"/>
          <p:cNvPicPr/>
          <p:nvPr/>
        </p:nvPicPr>
        <p:blipFill>
          <a:blip r:embed="rId3"/>
          <a:stretch/>
        </p:blipFill>
        <p:spPr>
          <a:xfrm>
            <a:off x="3071880" y="1357200"/>
            <a:ext cx="3124080" cy="390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667800" y="4857840"/>
            <a:ext cx="79513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тремись познавать себя и ми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владевай знаниями и готовься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амостояте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5583240" cy="111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клипарты\люди\08d0a37d15c1.png"/>
          <p:cNvPicPr/>
          <p:nvPr/>
        </p:nvPicPr>
        <p:blipFill>
          <a:blip r:embed="rId3"/>
          <a:stretch/>
        </p:blipFill>
        <p:spPr>
          <a:xfrm>
            <a:off x="2340000" y="1052640"/>
            <a:ext cx="4429080" cy="388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1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4857840" cy="1116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744480" y="1428840"/>
            <a:ext cx="78328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ежде чем требовать внимание к себ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яви его к окружающим людям. Пом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 их интересах, нуждах, потребно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клипарты\люди\8b17921adefe.png"/>
          <p:cNvPicPr/>
          <p:nvPr/>
        </p:nvPicPr>
        <p:blipFill>
          <a:blip r:embed="rId3"/>
          <a:stretch/>
        </p:blipFill>
        <p:spPr>
          <a:xfrm>
            <a:off x="500040" y="3071880"/>
            <a:ext cx="399096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клипарты\люди\16fa245c2025t.jpg"/>
          <p:cNvPicPr/>
          <p:nvPr/>
        </p:nvPicPr>
        <p:blipFill>
          <a:blip r:embed="rId4"/>
          <a:stretch/>
        </p:blipFill>
        <p:spPr>
          <a:xfrm>
            <a:off x="5786280" y="3184560"/>
            <a:ext cx="2214720" cy="350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2"/>
          <a:stretch/>
        </p:blipFill>
        <p:spPr>
          <a:xfrm>
            <a:off x="560520" y="42840"/>
            <a:ext cx="834552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510480" y="5357880"/>
            <a:ext cx="78876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лавное относись к людям так, как хочеш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тобы относили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клипарты\люди\03c2c4c066dat.jpg"/>
          <p:cNvPicPr/>
          <p:nvPr/>
        </p:nvPicPr>
        <p:blipFill>
          <a:blip r:embed="rId3"/>
          <a:stretch/>
        </p:blipFill>
        <p:spPr>
          <a:xfrm>
            <a:off x="2214720" y="1285920"/>
            <a:ext cx="2090520" cy="39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клипарты\люди\3e787f63d861.jpg"/>
          <p:cNvPicPr/>
          <p:nvPr/>
        </p:nvPicPr>
        <p:blipFill>
          <a:blip r:embed="rId4"/>
          <a:stretch/>
        </p:blipFill>
        <p:spPr>
          <a:xfrm>
            <a:off x="4643280" y="1357200"/>
            <a:ext cx="2971800" cy="396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1127160" y="109440"/>
            <a:ext cx="6462720" cy="1116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448920" y="4857840"/>
            <a:ext cx="82702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ебе сегодня хорошо, но рядом могут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люди, у которых слёзы на глазах. Не забы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D:\клипарты\люди\семья\parents057.gif"/>
          <p:cNvPicPr/>
          <p:nvPr/>
        </p:nvPicPr>
        <p:blipFill>
          <a:blip r:embed="rId3"/>
          <a:stretch/>
        </p:blipFill>
        <p:spPr>
          <a:xfrm>
            <a:off x="2571840" y="1251000"/>
            <a:ext cx="4071960" cy="3537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2"/>
          <a:stretch/>
        </p:blipFill>
        <p:spPr>
          <a:xfrm>
            <a:off x="1487520" y="42840"/>
            <a:ext cx="5688000" cy="1116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316440" y="4857840"/>
            <a:ext cx="842868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Хочешь, чтоб тебя уважали, - уважай 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 интересы других людей, а также стар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жить так, чтобы людям с тобой было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клипарты\люди\семья\parents077.gif"/>
          <p:cNvPicPr/>
          <p:nvPr/>
        </p:nvPicPr>
        <p:blipFill>
          <a:blip r:embed="rId3"/>
          <a:stretch/>
        </p:blipFill>
        <p:spPr>
          <a:xfrm>
            <a:off x="4286160" y="128592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5193000" cy="1116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457560" y="5429160"/>
            <a:ext cx="81115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Запомни, правда нужна не только тебе, но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кружающим тебя людям. Будь правд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клипарты\люди\0f32bd9346b0.png"/>
          <p:cNvPicPr/>
          <p:nvPr/>
        </p:nvPicPr>
        <p:blipFill>
          <a:blip r:embed="rId3"/>
          <a:stretch/>
        </p:blipFill>
        <p:spPr>
          <a:xfrm>
            <a:off x="2700360" y="1413000"/>
            <a:ext cx="374004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2"/>
          <a:stretch/>
        </p:blipFill>
        <p:spPr>
          <a:xfrm>
            <a:off x="1768320" y="42840"/>
            <a:ext cx="54975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669600" y="5000760"/>
            <a:ext cx="766044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аждый человек хочет быть свобод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тстаивая свою свободу, не забывай 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вободе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клипарты\люди\семья\parents046.gif"/>
          <p:cNvPicPr/>
          <p:nvPr/>
        </p:nvPicPr>
        <p:blipFill>
          <a:blip r:embed="rId3"/>
          <a:stretch/>
        </p:blipFill>
        <p:spPr>
          <a:xfrm>
            <a:off x="3143160" y="1214280"/>
            <a:ext cx="3619440" cy="36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7:59Z</dcterms:created>
  <dc:creator>Helen</dc:creator>
  <dc:description/>
  <dc:language>en-US</dc:language>
  <cp:lastModifiedBy>Берюхов</cp:lastModifiedBy>
  <dcterms:modified xsi:type="dcterms:W3CDTF">2024-09-15T12:02:01Z</dcterms:modified>
  <cp:revision>9</cp:revision>
  <dc:subject/>
  <dc:title>Слайд 1</dc:title>
</cp:coreProperties>
</file>