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740-7399-4C0C-9C3F-A00D75F7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835-0750-43B0-9B28-ECCC0046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128-0F15-4C53-A9D4-3C6DAFB7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2C1-FCC8-4555-8E4F-3490023F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E49-F451-4CEE-A616-9B53260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D31-B7EF-4721-BE7C-72AA3D9E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2ED-3DD4-4156-8B76-73A2E9F0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F43-4A28-43F8-A218-F98497AE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B79-0A70-48FC-8FB1-1EC4C497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89C-2CED-42A0-9390-8523D278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CA3-3D28-4087-A2D0-8ED37041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0B04-35E2-43FA-A567-86E010AF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97F5-01E0-4285-ACD6-1A17D97A6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23" descr="G:\для сайта работы\эмблема\Эмблема круг.png"/>
          <p:cNvPicPr/>
          <p:nvPr/>
        </p:nvPicPr>
        <p:blipFill>
          <a:blip r:embed="rId2"/>
          <a:stretch/>
        </p:blipFill>
        <p:spPr>
          <a:xfrm>
            <a:off x="8586720" y="6308640"/>
            <a:ext cx="55728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G:\01. Сайт .Архив\Клипарт\3e5113204867547df0935fb758d41ceb (1).jpg"/>
          <p:cNvPicPr/>
          <p:nvPr/>
        </p:nvPicPr>
        <p:blipFill>
          <a:blip r:embed="rId1"/>
          <a:stretch/>
        </p:blipFill>
        <p:spPr>
          <a:xfrm>
            <a:off x="1258920" y="189000"/>
            <a:ext cx="6308640" cy="6308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617480" y="4149720"/>
            <a:ext cx="537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Ребус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«Отгадай птиц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818520" y="5589720"/>
            <a:ext cx="50709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зимородок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G:\01. Сайт .Архив\Ребусы птицы\зимородок.png"/>
          <p:cNvPicPr/>
          <p:nvPr/>
        </p:nvPicPr>
        <p:blipFill>
          <a:blip r:embed="rId1"/>
          <a:stretch/>
        </p:blipFill>
        <p:spPr>
          <a:xfrm>
            <a:off x="684360" y="1557360"/>
            <a:ext cx="8439120" cy="27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698000" y="5589720"/>
            <a:ext cx="28065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клёст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G:\01. Сайт .Архив\Ребусы птицы\клёст.png"/>
          <p:cNvPicPr/>
          <p:nvPr/>
        </p:nvPicPr>
        <p:blipFill>
          <a:blip r:embed="rId1"/>
          <a:srcRect l="0" t="0" r="3528" b="10597"/>
          <a:stretch/>
        </p:blipFill>
        <p:spPr>
          <a:xfrm>
            <a:off x="611280" y="907920"/>
            <a:ext cx="7921440" cy="410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626360" y="5589720"/>
            <a:ext cx="389304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королёк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G:\01. Сайт .Архив\Ребусы птицы\королёк 2.png"/>
          <p:cNvPicPr/>
          <p:nvPr/>
        </p:nvPicPr>
        <p:blipFill>
          <a:blip r:embed="rId1"/>
          <a:srcRect l="0" t="0" r="5451" b="0"/>
          <a:stretch/>
        </p:blipFill>
        <p:spPr>
          <a:xfrm>
            <a:off x="468360" y="1557360"/>
            <a:ext cx="849636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4623840" y="5589720"/>
            <a:ext cx="42480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ласточ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G:\01. Сайт .Архив\Ребусы птицы\ласточка.png"/>
          <p:cNvPicPr/>
          <p:nvPr/>
        </p:nvPicPr>
        <p:blipFill>
          <a:blip r:embed="rId1"/>
          <a:srcRect l="0" t="0" r="5317" b="0"/>
          <a:stretch/>
        </p:blipFill>
        <p:spPr>
          <a:xfrm>
            <a:off x="0" y="1125360"/>
            <a:ext cx="8964720" cy="332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658400" y="5589720"/>
            <a:ext cx="341928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лебедь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G:\01. Сайт .Архив\Ребусы птицы\лебедь.png"/>
          <p:cNvPicPr/>
          <p:nvPr/>
        </p:nvPicPr>
        <p:blipFill>
          <a:blip r:embed="rId1"/>
          <a:stretch/>
        </p:blipFill>
        <p:spPr>
          <a:xfrm>
            <a:off x="179280" y="1413000"/>
            <a:ext cx="8648640" cy="296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6025680" y="5516640"/>
            <a:ext cx="24757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орёл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G:\01. Сайт .Архив\Ребусы птицы\орёл.png"/>
          <p:cNvPicPr/>
          <p:nvPr/>
        </p:nvPicPr>
        <p:blipFill>
          <a:blip r:embed="rId1"/>
          <a:stretch/>
        </p:blipFill>
        <p:spPr>
          <a:xfrm>
            <a:off x="468360" y="1197000"/>
            <a:ext cx="8442360" cy="296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4906800" y="5516640"/>
            <a:ext cx="393408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пеноч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G:\01. Сайт .Архив\Ребусы птицы\пеночка.png"/>
          <p:cNvPicPr/>
          <p:nvPr/>
        </p:nvPicPr>
        <p:blipFill>
          <a:blip r:embed="rId1"/>
          <a:stretch/>
        </p:blipFill>
        <p:spPr>
          <a:xfrm>
            <a:off x="250920" y="907920"/>
            <a:ext cx="8758080" cy="432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224320" y="5445000"/>
            <a:ext cx="355464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синиц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G:\01. Сайт .Архив\Ребусы птицы\синица.png"/>
          <p:cNvPicPr/>
          <p:nvPr/>
        </p:nvPicPr>
        <p:blipFill>
          <a:blip r:embed="rId1"/>
          <a:stretch/>
        </p:blipFill>
        <p:spPr>
          <a:xfrm>
            <a:off x="826920" y="765000"/>
            <a:ext cx="7728120" cy="4319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043960" y="5516640"/>
            <a:ext cx="38520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скворец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G:\01. Сайт .Архив\Ребусы птицы\скворец.png"/>
          <p:cNvPicPr/>
          <p:nvPr/>
        </p:nvPicPr>
        <p:blipFill>
          <a:blip r:embed="rId1"/>
          <a:stretch/>
        </p:blipFill>
        <p:spPr>
          <a:xfrm>
            <a:off x="468360" y="1700280"/>
            <a:ext cx="7827840" cy="275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4985640" y="5516640"/>
            <a:ext cx="37879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снегирь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G:\01. Сайт .Архив\Ребусы птицы\снегирь.png"/>
          <p:cNvPicPr/>
          <p:nvPr/>
        </p:nvPicPr>
        <p:blipFill>
          <a:blip r:embed="rId1"/>
          <a:srcRect l="3991" t="0" r="7824" b="0"/>
          <a:stretch/>
        </p:blipFill>
        <p:spPr>
          <a:xfrm>
            <a:off x="250920" y="1052640"/>
            <a:ext cx="8727840" cy="368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:\01. Сайт .Архив\Ребусы птицы\воробей.png"/>
          <p:cNvPicPr/>
          <p:nvPr/>
        </p:nvPicPr>
        <p:blipFill>
          <a:blip r:embed="rId1"/>
          <a:stretch/>
        </p:blipFill>
        <p:spPr>
          <a:xfrm>
            <a:off x="181080" y="1268280"/>
            <a:ext cx="8962920" cy="3254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07280" y="5589720"/>
            <a:ext cx="39585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воробе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827240" y="5445000"/>
            <a:ext cx="388548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солове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G:\01. Сайт .Архив\Ребусы птицы\соловей.png"/>
          <p:cNvPicPr/>
          <p:nvPr/>
        </p:nvPicPr>
        <p:blipFill>
          <a:blip r:embed="rId1"/>
          <a:stretch/>
        </p:blipFill>
        <p:spPr>
          <a:xfrm>
            <a:off x="22320" y="1052640"/>
            <a:ext cx="9064440" cy="36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846240" y="5445000"/>
            <a:ext cx="49536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трясогузк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G:\01. Сайт .Архив\Ребусы птицы\трясогузка.png"/>
          <p:cNvPicPr/>
          <p:nvPr/>
        </p:nvPicPr>
        <p:blipFill>
          <a:blip r:embed="rId1"/>
          <a:stretch/>
        </p:blipFill>
        <p:spPr>
          <a:xfrm>
            <a:off x="0" y="1816200"/>
            <a:ext cx="8964720" cy="1780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568760" y="5373720"/>
            <a:ext cx="32515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ястре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G:\01. Сайт .Архив\Ребусы птицы\ястреб.png"/>
          <p:cNvPicPr/>
          <p:nvPr/>
        </p:nvPicPr>
        <p:blipFill>
          <a:blip r:embed="rId1"/>
          <a:stretch/>
        </p:blipFill>
        <p:spPr>
          <a:xfrm>
            <a:off x="324000" y="1413000"/>
            <a:ext cx="8377200" cy="2749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132640" y="4653000"/>
            <a:ext cx="3948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нератор ребусов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ebus1.com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G:\01. Сайт .Архив\Клипарт\7add3d922782f9a72f48ca2a4bdc8990.jpg"/>
          <p:cNvPicPr/>
          <p:nvPr/>
        </p:nvPicPr>
        <p:blipFill>
          <a:blip r:embed="rId1"/>
          <a:stretch/>
        </p:blipFill>
        <p:spPr>
          <a:xfrm>
            <a:off x="1908000" y="26028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1769400" y="5233680"/>
            <a:ext cx="4330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  Елены Берюховой 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629240" y="5589720"/>
            <a:ext cx="34495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ворон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G:\01. Сайт .Архив\Ребусы птицы\ворона.png"/>
          <p:cNvPicPr/>
          <p:nvPr/>
        </p:nvPicPr>
        <p:blipFill>
          <a:blip r:embed="rId1"/>
          <a:stretch/>
        </p:blipFill>
        <p:spPr>
          <a:xfrm>
            <a:off x="355680" y="1413000"/>
            <a:ext cx="8586720" cy="325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689720" y="5589720"/>
            <a:ext cx="328212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голубь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G:\01. Сайт .Архив\Ребусы птицы\голубь.png"/>
          <p:cNvPicPr/>
          <p:nvPr/>
        </p:nvPicPr>
        <p:blipFill>
          <a:blip r:embed="rId1"/>
          <a:srcRect l="3309" t="0" r="5461" b="0"/>
          <a:stretch/>
        </p:blipFill>
        <p:spPr>
          <a:xfrm>
            <a:off x="395280" y="1819440"/>
            <a:ext cx="8424720" cy="284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6267240" y="5445000"/>
            <a:ext cx="238428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грач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G:\01. Сайт .Архив\Ребусы птицы\грач.png"/>
          <p:cNvPicPr/>
          <p:nvPr/>
        </p:nvPicPr>
        <p:blipFill>
          <a:blip r:embed="rId1"/>
          <a:stretch/>
        </p:blipFill>
        <p:spPr>
          <a:xfrm>
            <a:off x="468360" y="1052640"/>
            <a:ext cx="4549680" cy="532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5653440" y="5516640"/>
            <a:ext cx="296784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дрозд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:\01. Сайт .Архив\Ребусы птицы\дрозд.png"/>
          <p:cNvPicPr/>
          <p:nvPr/>
        </p:nvPicPr>
        <p:blipFill>
          <a:blip r:embed="rId1"/>
          <a:srcRect l="3854" t="0" r="3582" b="0"/>
          <a:stretch/>
        </p:blipFill>
        <p:spPr>
          <a:xfrm>
            <a:off x="214200" y="1125360"/>
            <a:ext cx="8929800" cy="354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82440" y="5589720"/>
            <a:ext cx="414144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журавл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G:\01. Сайт .Архив\Ребусы птицы\журавли.png"/>
          <p:cNvPicPr/>
          <p:nvPr/>
        </p:nvPicPr>
        <p:blipFill>
          <a:blip r:embed="rId1"/>
          <a:srcRect l="0" t="0" r="5474" b="0"/>
          <a:stretch/>
        </p:blipFill>
        <p:spPr>
          <a:xfrm>
            <a:off x="179280" y="1125360"/>
            <a:ext cx="8731440" cy="331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260400" y="5445000"/>
            <a:ext cx="231588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гус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G:\01. Сайт .Архив\Ребусы птицы\гуси.png"/>
          <p:cNvPicPr/>
          <p:nvPr/>
        </p:nvPicPr>
        <p:blipFill>
          <a:blip r:embed="rId1"/>
          <a:stretch/>
        </p:blipFill>
        <p:spPr>
          <a:xfrm>
            <a:off x="250920" y="1052640"/>
            <a:ext cx="4176720" cy="50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1896840" y="189000"/>
            <a:ext cx="41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гадай пт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683240" y="5589720"/>
            <a:ext cx="339480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иволг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G:\01. Сайт .Архив\Ребусы птицы\иволга.png"/>
          <p:cNvPicPr/>
          <p:nvPr/>
        </p:nvPicPr>
        <p:blipFill>
          <a:blip r:embed="rId1"/>
          <a:stretch/>
        </p:blipFill>
        <p:spPr>
          <a:xfrm>
            <a:off x="250920" y="907920"/>
            <a:ext cx="7599240" cy="424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3T08:56:34Z</dcterms:created>
  <dc:creator>Елена Берюхова</dc:creator>
  <dc:description/>
  <dc:language>en-US</dc:language>
  <cp:lastModifiedBy>Берюхов</cp:lastModifiedBy>
  <dcterms:modified xsi:type="dcterms:W3CDTF">2025-03-29T13:06:30Z</dcterms:modified>
  <cp:revision>6</cp:revision>
  <dc:subject/>
  <dc:title>Слайд 1</dc:title>
</cp:coreProperties>
</file>