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1092-CED0-49F7-BD80-1FF18EE42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7337-E5FE-4FED-B6BD-10F09CC6F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62AD-A003-458F-A990-C7CF43753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2605-957C-47F9-B577-AD17ABF80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5DFB-5083-4F5E-8546-5A2A7F21C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B198-7536-4719-BCCB-E6E13679B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1504-86A2-4DB2-AFED-449363D6D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5CCD-0BDE-431D-8102-7EF02F166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67B6-6918-4FF7-9188-457794878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0B2E-4CA5-4370-9B11-CAB2423FF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DA22-5FF9-4CF4-AE3F-975B6185B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5CF9-9EAC-400F-A3BC-138655296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8FEA9B-A752-4F4D-8E29-7C7C0553C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shkola-abv.ru/" TargetMode="External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Group 4" descr=""/>
          <p:cNvPicPr/>
          <p:nvPr/>
        </p:nvPicPr>
        <p:blipFill>
          <a:blip r:embed="rId1"/>
          <a:stretch/>
        </p:blipFill>
        <p:spPr>
          <a:xfrm>
            <a:off x="1163520" y="-6480"/>
            <a:ext cx="110988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619280" y="2101680"/>
            <a:ext cx="7381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Викторин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«О змеях в Год зме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Eunectes Images – Browse 867 Stock Photos, Vectors, and Video | Adobe Stock"/>
          <p:cNvPicPr/>
          <p:nvPr/>
        </p:nvPicPr>
        <p:blipFill>
          <a:blip r:embed="rId2"/>
          <a:stretch/>
        </p:blipFill>
        <p:spPr>
          <a:xfrm>
            <a:off x="3059280" y="3645000"/>
            <a:ext cx="381636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476360" y="2276640"/>
            <a:ext cx="6480360" cy="64260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На каком материке нет змей?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62440" cy="3706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148360" y="4365720"/>
            <a:ext cx="39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Змей нет в Антарктид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Змеи – холоднокровные животные, температура их тела зависит от температуры окружающей ср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324000" y="252360"/>
            <a:ext cx="4400280" cy="55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5386320" y="252360"/>
            <a:ext cx="3362400" cy="360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Где образуется змеиный яд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ем он опас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 rot="6417000">
            <a:off x="6364440" y="2689560"/>
            <a:ext cx="2377800" cy="2459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486900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змей яд производят слюнные железы. Для введения его в тело жертвы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используются зубы-шприцы. Яд может парализовать нервную систему,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разрушать кровь, кровеносные сосуды, тка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390600" y="1484280"/>
            <a:ext cx="4037040" cy="243828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4606920" y="549360"/>
            <a:ext cx="4143240" cy="395424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sp>
        <p:nvSpPr>
          <p:cNvPr id="9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476360" y="2276640"/>
            <a:ext cx="6480360" cy="173988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Наиболее часто у нас встречаются ужи и гадюки. Гадюка ядовита, а уж нет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Как их отличить друг от дру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1269720" cy="482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16000" y="4740120"/>
            <a:ext cx="4140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ужа на голове, ближе к шее, два оранжевых, желтых или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грязно-белых пятна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221360" cy="348156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438440" cy="348156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105" name="TextBox 6"/>
          <p:cNvSpPr/>
          <p:nvPr/>
        </p:nvSpPr>
        <p:spPr>
          <a:xfrm>
            <a:off x="5076720" y="4748040"/>
            <a:ext cx="3598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гадюки таких пятен нет, зато заметна извилистая темная полоса вдоль спи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476360" y="213372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Почему змея – символ фармак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ем полезен змеиный яд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 rot="19080000">
            <a:off x="3538440" y="3476160"/>
            <a:ext cx="2355840" cy="2105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0" y="49417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Чаша символизирует сосуд для лекарств, с помощью которых можно бороться с болезнями. Змея – символ мудрости, знания и могущества природы.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Препараты из змеиного яда используются при лечении многих заболева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248360" cy="4102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Могут ли змеи плав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А лет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6311880" y="1989000"/>
            <a:ext cx="238752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4211640" y="4091040"/>
            <a:ext cx="4487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Плавать умеют многие змеи, но только морские ведут полностью водный образ жизни. У морских змей веслообразный хвост и сплюснутое по бокам тел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187440" cy="471312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pic>
        <p:nvPicPr>
          <p:cNvPr id="122" name="Рисунок 7" descr=""/>
          <p:cNvPicPr/>
          <p:nvPr/>
        </p:nvPicPr>
        <p:blipFill>
          <a:blip r:embed="rId2"/>
          <a:stretch/>
        </p:blipFill>
        <p:spPr>
          <a:xfrm>
            <a:off x="3780000" y="873000"/>
            <a:ext cx="5019480" cy="291636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sp>
        <p:nvSpPr>
          <p:cNvPr id="123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476360" y="2276640"/>
            <a:ext cx="6480360" cy="173988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У какого холоднокровного животного при высиживании яиц температура тела повышается на 3–4 градус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Рисунок 22" descr=""/>
          <p:cNvPicPr/>
          <p:nvPr/>
        </p:nvPicPr>
        <p:blipFill>
          <a:blip r:embed="rId1"/>
          <a:stretch/>
        </p:blipFill>
        <p:spPr>
          <a:xfrm rot="5128800">
            <a:off x="-624240" y="2568240"/>
            <a:ext cx="3965400" cy="1095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3" descr=""/>
          <p:cNvPicPr/>
          <p:nvPr/>
        </p:nvPicPr>
        <p:blipFill>
          <a:blip r:embed="rId2"/>
          <a:stretch/>
        </p:blipFill>
        <p:spPr>
          <a:xfrm rot="14446800">
            <a:off x="6635520" y="3909600"/>
            <a:ext cx="1967040" cy="17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69800" y="50468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Летать змеи не умеют, но некоторые виды, обитающие на деревьях, используют элементы парения при прыжках с ветки на ветк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6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00920" cy="3830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668600" y="1033560"/>
            <a:ext cx="5832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Фот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195640" y="1628640"/>
            <a:ext cx="489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zoofirma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dic.academic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myreptile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genusvipera.blogspo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komiedu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nnm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Эмблема круг"/>
          <p:cNvPicPr/>
          <p:nvPr/>
        </p:nvPicPr>
        <p:blipFill>
          <a:blip r:embed="rId1"/>
          <a:stretch/>
        </p:blipFill>
        <p:spPr>
          <a:xfrm>
            <a:off x="4140360" y="342900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3150360" y="5516640"/>
            <a:ext cx="2690640" cy="36828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s://vk.com/shkola_a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52520" y="4492440"/>
            <a:ext cx="256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2"/>
              </a:rPr>
              <a:t>www</a:t>
            </a: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4"/>
              </a:rPr>
              <a:t>shkola</a:t>
            </a: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5"/>
              </a:rPr>
              <a:t>-</a:t>
            </a: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6"/>
              </a:rPr>
              <a:t>abv</a:t>
            </a: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8"/>
              </a:rPr>
              <a:t>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332000" y="546588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пиона, который согревает кладку, обвивая ее своим те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408720" cy="459900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54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Почему про змей говорят, что они вылезают из кожи вон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 rot="17154000">
            <a:off x="4407840" y="2118240"/>
            <a:ext cx="3673440" cy="352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24000" y="4965840"/>
            <a:ext cx="856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Во время периодически повторяющихся линек змея сбрасывает старую,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 «поношенную» кожу. Ползая среди камней и кустов, она начинает сдвигать ее с головы назад и постепенно стягивает с себя, как перчатку с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337440" cy="422604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62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476360" y="1844640"/>
            <a:ext cx="6480360" cy="228852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На конце хвоста этой змеи чешуйки образуют погремушку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то отразилось в ее названии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то это за зме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 rot="19358400">
            <a:off x="475920" y="2991960"/>
            <a:ext cx="2440080" cy="2648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48211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Гремучие змеи имеют на кончике хвоста погремушку, образованную видоизмененными чешуйками. При колебании кончика хвоста чешуйки ударяются друг о друга, в результате чего получаются характерные гремящие зву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1440000" y="584280"/>
            <a:ext cx="6227640" cy="392436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70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Правда ли, что кобра танцует под звуки дудочки факи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4" descr=""/>
          <p:cNvPicPr/>
          <p:nvPr/>
        </p:nvPicPr>
        <p:blipFill>
          <a:blip r:embed="rId1"/>
          <a:stretch/>
        </p:blipFill>
        <p:spPr>
          <a:xfrm>
            <a:off x="2124000" y="3933720"/>
            <a:ext cx="4716360" cy="1303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0" y="5262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Змея не танцует, а всего лишь движется в такт движениям флейты: куда инструмент,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туда и кобра. Это ориентировочный рефлекс при виде возможного против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403280" y="590400"/>
            <a:ext cx="6372360" cy="449424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78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2:16Z</dcterms:created>
  <dc:creator>Kasper</dc:creator>
  <dc:description/>
  <dc:language>en-US</dc:language>
  <cp:lastModifiedBy>Берюхов</cp:lastModifiedBy>
  <dcterms:modified xsi:type="dcterms:W3CDTF">2024-12-07T12:56:48Z</dcterms:modified>
  <cp:revision>259</cp:revision>
  <dc:subject/>
  <dc:title>Название статьи</dc:title>
</cp:coreProperties>
</file>