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8632-6799-4B68-B498-0B7CC15E6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EDFF-52F7-4A6E-8D46-26915DF7F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031A78-EC3F-4999-A382-0C226599E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4F6E3B-0762-40A4-BF5E-6B7BDF5FE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1B6DED-3878-46E1-A5F8-E17569CE2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D3BEFF-6B3D-4F9B-96EE-7B9F6AD74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A3B6E4-26E6-4E90-8483-BD37AA4B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54885B-28E3-4B49-BF3E-349F5BD8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5953F7-2340-44E9-AF91-AE436D290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3DCBD8-D5B2-4EB0-AE21-38D9E8C7E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7D4100-C8A0-486E-ADEA-AB925262A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BF84A1-FC64-45F0-9944-B9E0A1FC4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8FA1-2068-49DC-9F6F-7DAD1CDEB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448E50-B148-4171-8D2A-AE76753C4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E9D522-8174-4452-947D-9C40FAC95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BC829D-B89F-42B7-B7AB-5519094AE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6AE0A3-AFA8-466A-A556-FB50A1B01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6ADF6B-750A-404C-AA3C-8745C77EE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82F404-26C9-4AD2-99D5-0A0439D64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B99665-BEAD-4D9E-BD6C-56D9ABF6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37373B-5F02-49FC-868C-CD6CA01F9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BE9B41-E1FD-4ACE-BEC2-35A82AFDA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93E21A-446D-4DEC-B8B3-BC27AFC17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B60C-CAFB-44B4-9E63-30DEC0744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4A7A49-E9E3-4D5E-920E-86C004A06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4E60D4-5060-42AE-B4B4-820AB4B28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82D9F9-CB1D-415B-8D62-265AD507B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7F52BD-682F-47C9-B525-1869E096D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48F3F0-7542-4993-AFE1-DC99E3A80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9D4C63-6073-4C08-B8E7-5373BC1A7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85C59C-A728-452D-AF4C-CAF9F1ECC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A33876-FE9C-4FF5-92A2-BE4F953C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E24AD5-4B6A-4F08-8DB6-6C65203C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7B5E2D-2537-4AD4-93C5-BCF2859C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7FE23-AF0F-4438-A9EB-F48AFFAF1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3D5610-1F2D-462F-BAB9-33E9B26B1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C50DED-51B7-4979-AEB0-D64F1F371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A766A9-F987-4A88-9DA2-0E0286F45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4FE210-FBEA-4F65-A56A-420B6CDB5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D3E3BB-3E2A-4A0F-A188-0C2959C5B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10E291-5BDA-4A22-A5A7-64B8ADABD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F3B9D6-3CA5-4A4B-8602-117AED179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25B240-731E-4DF0-9035-0C4CC614F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6BD0D7-1F48-4E78-826A-9F1CAAB3E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6EEDE5-45F4-4E1F-B906-1676E8FB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27C3E-27D2-411C-A875-817C31021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0E6B63-00C6-4152-A17E-218BEEF6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C77053-E89E-4333-88E5-F8160D8B7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48734F-B876-4EAA-BF42-C7D44774B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B7D6BE-5CB2-4867-A07B-50DFDEA33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E94977-5A29-4AD8-8C3E-A70DBA3DA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005B7-1608-461A-A3E2-5945C4EB6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545EF-6095-4838-AB88-B158C97E6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C0A1B-DC1A-4E88-A5E1-678167AB0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57422-5CCB-472E-B9C0-CF72F493B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28FBC-4876-4310-8BAE-F30F5E15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FE6D-B2EC-4B10-A38C-DB0C4A67E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15573-FEDB-4458-BF66-4EEBAB89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47EAA-4628-4126-B746-9EA9C83E6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5B4BE-E2F4-4416-8279-48CC5E7C5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94AFD-1E6B-4202-AEC3-2CB727ED7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D5847-5A93-4B3D-B56D-937128FDF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500CD-F875-43BC-8FD9-3AFC48F96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1EC77-7626-4B8C-9097-B3CAFAD74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913D7-4221-442D-A050-A20C8240C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2D88A-5DF9-4060-A9DF-B7E6FD5E2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BF762-C1FE-410E-8FAA-F37397BE7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74C1-56AB-44A3-ABE6-C0212FDB7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528F2-32F7-45C0-8956-F6B73C294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87964-39C4-4FC3-847E-C8FFC8F80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2B170-DC4D-43E6-8195-B9E522768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A6E4A-373F-4F5D-B2B4-F9384BB1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C71C5-691B-4BF5-B41B-A496D6AAD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AC01B-8B5F-4951-A09F-1441C4396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880C7-42CE-4671-9CD4-276185577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9E0C9-C5AA-4CC8-928F-7D7C1EA40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223A6-8ECE-47BC-B890-A03CFDC16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CD293-D208-4CD8-9B03-7D9958939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F550-D939-4EA0-A366-9A584C228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000AB-9AEC-418B-A0D4-D8630FAED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AB16C-F6F0-4E0C-BD63-48A4263CD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A4939-0777-4353-9F18-296823BEC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FB70D-13E6-41ED-BD22-B8E1A2D8F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94787-5040-4BCF-BF82-55CA0CF9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04B44-9F1C-4E28-96A0-A12362B5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B2416-1AD9-4354-BC83-0C4B70CCA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66BB2-2984-48E5-95DD-E454C20E1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C61B3-16AA-4B60-8F0D-26D5BB919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7CDA1F-E606-4F78-B7E6-2C8ABBA63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A154-AAD1-4B62-AA49-BE5CE6C30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06146D-B1D5-4768-A47A-EBD38C310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DAE7B-B515-46B8-87C1-87727F6ED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960FC-D680-4FE4-9E3F-B198C7118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929D79-8E06-4413-9D94-B099A8B2F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4D65D-1EC3-464E-920E-3A455B18C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CD77E-3FFF-4848-8125-6C89733E6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B30FC0-50B0-4322-9B43-A96F1475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45B138-37E4-4C15-B8FA-8900224D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F8BD3-4F77-40EA-A7AE-8FA62968C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FDD2F1-73EA-42F4-B8C8-3A022EE24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8269-FF7A-458A-B458-8241AECD6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38B71-E753-4003-8A2B-30275BF33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61D348-5DBB-487E-92A9-9D4D3A6E6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064FA9-78D9-442B-9335-F7D074E36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58A37B-53E6-490B-94C5-E43177BBA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1AA3FD-FAA9-468F-AE0E-EEAA66891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33F0B6-33EF-40B2-8092-A0890CF9D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9A814-9AB0-40B2-AF41-79A358E82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793BD7-79A5-4E1B-B270-3EC003F00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33A229-A68E-4E3F-9C96-BF4F3B6C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A81C63-4B4B-4345-8BC7-E3E70297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CEBA-8451-4DB1-9E7B-4E4CD79D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B0ADC3-A05F-4992-B038-39D0411BB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43B542-9356-4857-9AE5-4B0283088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40B2FB-8ADF-4552-A019-C1DA8DCE1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77D042-ED8F-4EDB-8E4D-6D96BF4AF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B28694-FBDC-49AE-BC27-9BA59DC72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A4C2DA-622A-4031-8965-EA72D2395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F3427B-E452-4D6E-8232-DA42D6B49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8945A0-15F2-425F-84A0-79CEDDEAA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05BC16-02FC-479E-8605-F04DE248D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F9637A-9566-4BB5-8096-EA3DB7CE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5E0D-C17F-415A-AC0E-F867956D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9FE83E-BA6D-42B9-AE5E-152CE328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861131-BEB0-4E64-B030-29900538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3E00B8-7240-45DA-8E3A-C300EFD0F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1DD6F7-3A29-4C79-A59B-77E0BB412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E40C35-339B-4C1C-923F-ECF6B7085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8D1472-6217-464D-A0DB-AFEDA279C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2FF35B-408D-4EBD-967B-127825848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11C958-6AC0-4556-9642-5304DDC88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7B2EF8-088D-486F-A14C-009DF814F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3F1436-6744-4C15-8710-824E17B0A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A344-0718-4EB0-94AB-54503A34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5456DF-578A-4AA7-9683-C44D098A5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522AFA-E18E-402F-9555-72866C008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7E533A-9CCA-4888-BB35-9FF08832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5022FC-753D-4D11-91C8-A66DB7E0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348AE5-A143-4529-93AA-75808E0F0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28F711-F574-4589-B3FE-A0EA938A4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10ADCD-43F0-4AEF-9D3F-CE4564169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DF84EE-8DEF-4020-8154-46EDBFE58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720E66-4E78-45D6-9EDC-CB037A6C5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232A82-008F-4B9E-95E3-C21E40169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4D957-F261-45CC-AAD9-7135CA7ACDFA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Прямоугольник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Прямоугольник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Прямоугольник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F6181-729A-47EC-9165-7130495EDFEB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12ED5-3F09-4655-B5A1-4B01792EAF33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Прямоугольник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Прямоугольник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Прямая соединительная линия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Овал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Овал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7106E-0F3E-46F1-870D-362FAA347773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Прямоугольник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ямая соединительная линия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Овал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Овал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7ECF8-27B4-4F16-9339-95C5192C1CF2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342BA-C29F-4F4B-97F3-41F9F8D68355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Прямоугольник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Прямоугольник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Прямоугольник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Прямоугольник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Прямоугольник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Прямая соединительная линия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Овал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Овал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AFD09-3BAD-43B7-A36E-BBB7BD734B46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1f497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9DC34-F690-4118-9A79-3A760A7C5CF8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1f497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Прямоугольник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Прямоугольник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Прямоугольник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Прямоугольник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Прямая соединительная линия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Прямоугольник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Овал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Овал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DB84D-F679-492B-AF11-A480FDE98DF2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34828-D7DD-47B9-85E0-FADF5355AAD9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Прямоугольник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67E57-C89A-4B89-9AC3-05564F7CF2D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Прямоугольник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Прямая соединительная линия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B1223-56EA-420D-8EB5-73C2607D7A9D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hyperlink" Target="http://www.shkola-abv.ru/" TargetMode="External"/><Relationship Id="rId5" Type="http://schemas.openxmlformats.org/officeDocument/2006/relationships/hyperlink" Target="http://www.shkola-abv.ru/" TargetMode="External"/><Relationship Id="rId6" Type="http://schemas.openxmlformats.org/officeDocument/2006/relationships/hyperlink" Target="http://www.shkola-abv.ru/" TargetMode="External"/><Relationship Id="rId7" Type="http://schemas.openxmlformats.org/officeDocument/2006/relationships/hyperlink" Target="http://www.shkola-abv.ru/" TargetMode="External"/><Relationship Id="rId8" Type="http://schemas.openxmlformats.org/officeDocument/2006/relationships/hyperlink" Target="http://www.shkola-abv.ru/" TargetMode="External"/><Relationship Id="rId9" Type="http://schemas.openxmlformats.org/officeDocument/2006/relationships/hyperlink" Target="http://www.shkola-abv.ru/" TargetMode="External"/><Relationship Id="rId10" Type="http://schemas.openxmlformats.org/officeDocument/2006/relationships/hyperlink" Target="http://www.shkola-abv.ru/" TargetMode="External"/><Relationship Id="rId11" Type="http://schemas.openxmlformats.org/officeDocument/2006/relationships/hyperlink" Target="https://vk.com/shkola_abv" TargetMode="External"/><Relationship Id="rId12" Type="http://schemas.openxmlformats.org/officeDocument/2006/relationships/hyperlink" Target="https://vk.com/shkola_abv" TargetMode="External"/><Relationship Id="rId1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Picture 2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8785440" cy="6184800"/>
          </a:xfrm>
          <a:prstGeom prst="rect">
            <a:avLst/>
          </a:prstGeom>
          <a:ln w="0">
            <a:noFill/>
          </a:ln>
        </p:spPr>
      </p:pic>
      <p:pic>
        <p:nvPicPr>
          <p:cNvPr id="607" name="Прямоугольник 3" descr=""/>
          <p:cNvPicPr/>
          <p:nvPr/>
        </p:nvPicPr>
        <p:blipFill>
          <a:blip r:embed="rId2"/>
          <a:stretch/>
        </p:blipFill>
        <p:spPr>
          <a:xfrm>
            <a:off x="1779480" y="4078440"/>
            <a:ext cx="6316920" cy="2504880"/>
          </a:xfrm>
          <a:prstGeom prst="rect">
            <a:avLst/>
          </a:prstGeom>
          <a:ln w="0">
            <a:noFill/>
          </a:ln>
        </p:spPr>
      </p:pic>
      <p:pic>
        <p:nvPicPr>
          <p:cNvPr id="608" name="Записанный звук" descr=""/>
          <p:cNvPicPr/>
          <p:nvPr/>
        </p:nvPicPr>
        <p:blipFill>
          <a:blip r:embed="rId3"/>
          <a:stretch/>
        </p:blipFill>
        <p:spPr>
          <a:xfrm>
            <a:off x="7375680" y="76500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ransition spd="slow" advTm="0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000" fill="hold"/>
                                        <p:tgtEl>
                                          <p:spTgt spid="6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4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235560"/>
          </a:xfrm>
          <a:prstGeom prst="rect">
            <a:avLst/>
          </a:prstGeom>
          <a:ln w="0">
            <a:noFill/>
          </a:ln>
        </p:spPr>
      </p:pic>
      <p:pic>
        <p:nvPicPr>
          <p:cNvPr id="610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3591000" cy="1628640"/>
          </a:xfrm>
          <a:prstGeom prst="rect">
            <a:avLst/>
          </a:prstGeom>
          <a:ln w="0">
            <a:noFill/>
          </a:ln>
        </p:spPr>
      </p:pic>
    </p:spTree>
  </p:cSld>
  <p:transition spd="slow" advTm="0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Picture 2" descr=""/>
          <p:cNvPicPr/>
          <p:nvPr/>
        </p:nvPicPr>
        <p:blipFill>
          <a:blip r:embed="rId1"/>
          <a:srcRect l="3434" t="5084" r="2635" b="6255"/>
          <a:stretch/>
        </p:blipFill>
        <p:spPr>
          <a:xfrm>
            <a:off x="250920" y="476280"/>
            <a:ext cx="8605800" cy="5616720"/>
          </a:xfrm>
          <a:prstGeom prst="rect">
            <a:avLst/>
          </a:prstGeom>
          <a:ln w="0">
            <a:noFill/>
          </a:ln>
        </p:spPr>
      </p:pic>
      <p:pic>
        <p:nvPicPr>
          <p:cNvPr id="612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3247920" cy="1390680"/>
          </a:xfrm>
          <a:prstGeom prst="rect">
            <a:avLst/>
          </a:prstGeom>
          <a:ln w="0">
            <a:noFill/>
          </a:ln>
        </p:spPr>
      </p:pic>
    </p:spTree>
  </p:cSld>
  <p:transition spd="slow" advTm="0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Picture 3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5832720"/>
          </a:xfrm>
          <a:prstGeom prst="rect">
            <a:avLst/>
          </a:prstGeom>
          <a:ln w="0">
            <a:noFill/>
          </a:ln>
        </p:spPr>
      </p:pic>
      <p:pic>
        <p:nvPicPr>
          <p:cNvPr id="614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3038400" cy="1524240"/>
          </a:xfrm>
          <a:prstGeom prst="rect">
            <a:avLst/>
          </a:prstGeom>
          <a:ln w="0">
            <a:noFill/>
          </a:ln>
        </p:spPr>
      </p:pic>
    </p:spTree>
  </p:cSld>
  <p:transition spd="slow" advTm="0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Picture 2" descr=""/>
          <p:cNvPicPr/>
          <p:nvPr/>
        </p:nvPicPr>
        <p:blipFill>
          <a:blip r:embed="rId1"/>
          <a:stretch/>
        </p:blipFill>
        <p:spPr>
          <a:xfrm>
            <a:off x="241200" y="189000"/>
            <a:ext cx="8578800" cy="6146640"/>
          </a:xfrm>
          <a:prstGeom prst="rect">
            <a:avLst/>
          </a:prstGeom>
          <a:ln w="0">
            <a:noFill/>
          </a:ln>
        </p:spPr>
      </p:pic>
      <p:pic>
        <p:nvPicPr>
          <p:cNvPr id="616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3333600" cy="1581120"/>
          </a:xfrm>
          <a:prstGeom prst="rect">
            <a:avLst/>
          </a:prstGeom>
          <a:ln w="0">
            <a:noFill/>
          </a:ln>
        </p:spPr>
      </p:pic>
    </p:spTree>
  </p:cSld>
  <p:transition spd="slow" advTm="0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Picture 3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03920" cy="5977080"/>
          </a:xfrm>
          <a:prstGeom prst="rect">
            <a:avLst/>
          </a:prstGeom>
          <a:ln w="0">
            <a:noFill/>
          </a:ln>
        </p:spPr>
      </p:pic>
      <p:pic>
        <p:nvPicPr>
          <p:cNvPr id="618" name="" descr=""/>
          <p:cNvPicPr/>
          <p:nvPr/>
        </p:nvPicPr>
        <p:blipFill>
          <a:blip r:embed="rId2"/>
          <a:stretch/>
        </p:blipFill>
        <p:spPr>
          <a:xfrm>
            <a:off x="5364000" y="260280"/>
            <a:ext cx="3438720" cy="1447920"/>
          </a:xfrm>
          <a:prstGeom prst="rect">
            <a:avLst/>
          </a:prstGeom>
          <a:ln w="0">
            <a:noFill/>
          </a:ln>
        </p:spPr>
      </p:pic>
    </p:spTree>
  </p:cSld>
  <p:transition spd="slow" advTm="0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4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583480" cy="6237360"/>
          </a:xfrm>
          <a:prstGeom prst="rect">
            <a:avLst/>
          </a:prstGeom>
          <a:ln w="0">
            <a:noFill/>
          </a:ln>
        </p:spPr>
      </p:pic>
      <p:pic>
        <p:nvPicPr>
          <p:cNvPr id="620" name="Прямоугольник 1" descr=""/>
          <p:cNvPicPr/>
          <p:nvPr/>
        </p:nvPicPr>
        <p:blipFill>
          <a:blip r:embed="rId2"/>
          <a:stretch/>
        </p:blipFill>
        <p:spPr>
          <a:xfrm>
            <a:off x="3170160" y="347760"/>
            <a:ext cx="3363840" cy="1603440"/>
          </a:xfrm>
          <a:prstGeom prst="rect">
            <a:avLst/>
          </a:prstGeom>
          <a:ln w="0">
            <a:noFill/>
          </a:ln>
        </p:spPr>
      </p:pic>
      <p:sp>
        <p:nvSpPr>
          <p:cNvPr id="621" name=""/>
          <p:cNvSpPr/>
          <p:nvPr/>
        </p:nvSpPr>
        <p:spPr>
          <a:xfrm>
            <a:off x="0" y="294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2" name="Picture 6" descr="Эмблема круг"/>
          <p:cNvPicPr/>
          <p:nvPr/>
        </p:nvPicPr>
        <p:blipFill>
          <a:blip r:embed="rId3"/>
          <a:stretch/>
        </p:blipFill>
        <p:spPr>
          <a:xfrm>
            <a:off x="4932360" y="5805360"/>
            <a:ext cx="770040" cy="75564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5720760" y="5570640"/>
            <a:ext cx="2999880" cy="10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Arial"/>
                <a:ea typeface="Times New Roman"/>
              </a:rPr>
              <a:t>сайт «Школа АБВ»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4"/>
              </a:rPr>
              <a:t>www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5"/>
              </a:rPr>
              <a:t>.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6"/>
              </a:rPr>
              <a:t>shkola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7"/>
              </a:rPr>
              <a:t>-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8"/>
              </a:rPr>
              <a:t>abv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9"/>
              </a:rPr>
              <a:t>.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0"/>
              </a:rPr>
              <a:t>ru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Georgia"/>
                <a:ea typeface="Times New Roman"/>
                <a:hlinkClick r:id="rId11"/>
              </a:rPr>
              <a:t>https://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Georgia"/>
                <a:ea typeface="Times New Roman"/>
                <a:hlinkClick r:id="rId12"/>
              </a:rPr>
              <a:t>vk.com/shkola_abv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5000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7T16:23:44Z</dcterms:created>
  <dc:creator>Your User Name</dc:creator>
  <dc:description/>
  <dc:language>en-US</dc:language>
  <cp:lastModifiedBy>Берюхов</cp:lastModifiedBy>
  <dcterms:modified xsi:type="dcterms:W3CDTF">2025-03-04T13:51:13Z</dcterms:modified>
  <cp:revision>6</cp:revision>
  <dc:subject/>
  <dc:title>Презентация PowerPoint</dc:title>
</cp:coreProperties>
</file>