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370-763F-4297-A808-B488ABCC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421-0BDF-4C50-BC17-F8F1FDCD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E4D-C2CD-4D21-9309-70896F07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1F2-D508-46CF-AA40-E3889764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A52-2297-45C0-B263-FB2E5A95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6D4-AC9C-49F0-91A5-9F88DF9D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23C-E750-4142-972E-6973E6B2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809-ADB8-4932-A54E-5F3A09B5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188-90E6-475E-B748-58DF3C8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A4D-4ECE-4A4D-BAE5-6001782B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430-BCB7-4377-A0D9-8E32A743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167-4152-4819-975B-63E01140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0B9C-9BCA-49E5-BB20-AA3B21AEC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hyperlink" Target="http://www.shkola-abv.ru/" TargetMode="External"/><Relationship Id="rId12" Type="http://schemas.openxmlformats.org/officeDocument/2006/relationships/hyperlink" Target="http://www.shkola-abv.ru/" TargetMode="External"/><Relationship Id="rId13" Type="http://schemas.openxmlformats.org/officeDocument/2006/relationships/hyperlink" Target="https://vk.com/shkola_abv" TargetMode="External"/><Relationship Id="rId14" Type="http://schemas.openxmlformats.org/officeDocument/2006/relationships/hyperlink" Target="https://vk.com/shkola_abv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животные\kozel07.png"/>
          <p:cNvPicPr/>
          <p:nvPr/>
        </p:nvPicPr>
        <p:blipFill>
          <a:blip r:embed="rId2"/>
          <a:stretch/>
        </p:blipFill>
        <p:spPr>
          <a:xfrm>
            <a:off x="5137200" y="2643120"/>
            <a:ext cx="3641760" cy="38624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628560" y="139680"/>
            <a:ext cx="7540560" cy="243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клипарты\животные\mysh04.png"/>
          <p:cNvPicPr/>
          <p:nvPr/>
        </p:nvPicPr>
        <p:blipFill>
          <a:blip r:embed="rId4"/>
          <a:stretch/>
        </p:blipFill>
        <p:spPr>
          <a:xfrm>
            <a:off x="214200" y="3143160"/>
            <a:ext cx="4695840" cy="328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festival.1september.ru/articles/312390/img1.gif"/>
          <p:cNvPicPr/>
          <p:nvPr/>
        </p:nvPicPr>
        <p:blipFill>
          <a:blip r:embed="rId2"/>
          <a:stretch/>
        </p:blipFill>
        <p:spPr>
          <a:xfrm>
            <a:off x="2597040" y="1616040"/>
            <a:ext cx="5248440" cy="50166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1800360" y="42876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Кто смеялся “вперёд чужой беде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500280" y="1857240"/>
            <a:ext cx="500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festival.1september.ru/articles/312390/img1.gif"/>
          <p:cNvPicPr/>
          <p:nvPr/>
        </p:nvPicPr>
        <p:blipFill>
          <a:blip r:embed="rId2"/>
          <a:stretch/>
        </p:blipFill>
        <p:spPr>
          <a:xfrm>
            <a:off x="3382920" y="1762200"/>
            <a:ext cx="524844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999360" y="285840"/>
            <a:ext cx="76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 Героиня, которая увидела свой об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ерка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214880" y="2000160"/>
            <a:ext cx="50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14880" y="250020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   Е  З   Ь  Я  Н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D:\клипарты\животные\81165ff37653.png"/>
          <p:cNvPicPr/>
          <p:nvPr/>
        </p:nvPicPr>
        <p:blipFill>
          <a:blip r:embed="rId3"/>
          <a:stretch/>
        </p:blipFill>
        <p:spPr>
          <a:xfrm>
            <a:off x="142920" y="2857680"/>
            <a:ext cx="3143160" cy="373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festival.1september.ru/articles/312390/img1.gif"/>
          <p:cNvPicPr/>
          <p:nvPr/>
        </p:nvPicPr>
        <p:blipFill>
          <a:blip r:embed="rId2"/>
          <a:stretch/>
        </p:blipFill>
        <p:spPr>
          <a:xfrm>
            <a:off x="3382920" y="1762200"/>
            <a:ext cx="5248440" cy="5016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4214880" y="2000160"/>
            <a:ext cx="50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214880" y="250020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   Е  З   Ь  Я  Н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1571760" y="28584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У кого к зиме под мостом “был готов и стол, и дом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856320" y="342900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      Р  А  В  Е  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razumniki.ru/images/articles/kladovaya/strekoza_i_muravey.jpg"/>
          <p:cNvPicPr/>
          <p:nvPr/>
        </p:nvPicPr>
        <p:blipFill>
          <a:blip r:embed="rId3"/>
          <a:stretch/>
        </p:blipFill>
        <p:spPr>
          <a:xfrm>
            <a:off x="96840" y="3975120"/>
            <a:ext cx="297036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festival.1september.ru/articles/312390/img1.gif"/>
          <p:cNvPicPr/>
          <p:nvPr/>
        </p:nvPicPr>
        <p:blipFill>
          <a:blip r:embed="rId2"/>
          <a:stretch/>
        </p:blipFill>
        <p:spPr>
          <a:xfrm>
            <a:off x="3382920" y="1762200"/>
            <a:ext cx="5248440" cy="5016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4214880" y="2000160"/>
            <a:ext cx="50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4214880" y="250020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   Е  З   Ь  Я  Н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856320" y="342900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      Р  А  В  Е  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1643040" y="2858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Она осталась без обеда благодаря своей глуп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5717520" y="39290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D:\клипарты\животные\6bebb8066e5e.png"/>
          <p:cNvPicPr/>
          <p:nvPr/>
        </p:nvPicPr>
        <p:blipFill>
          <a:blip r:embed="rId3"/>
          <a:stretch/>
        </p:blipFill>
        <p:spPr>
          <a:xfrm>
            <a:off x="0" y="3857760"/>
            <a:ext cx="3381480" cy="300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festival.1september.ru/articles/312390/img1.gif"/>
          <p:cNvPicPr/>
          <p:nvPr/>
        </p:nvPicPr>
        <p:blipFill>
          <a:blip r:embed="rId2"/>
          <a:stretch/>
        </p:blipFill>
        <p:spPr>
          <a:xfrm>
            <a:off x="3382920" y="1762200"/>
            <a:ext cx="5248440" cy="50166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4214880" y="2000160"/>
            <a:ext cx="50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214880" y="250020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   Е  З   Ь  Я  Н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856320" y="342900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      Р  А  В  Е  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5717520" y="39290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1571760" y="214200"/>
            <a:ext cx="71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Кто без драки “хочет попасть в большие забияки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225760" y="4857840"/>
            <a:ext cx="29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      С  Ь  К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D:\клипарты\животные\000.png"/>
          <p:cNvPicPr/>
          <p:nvPr/>
        </p:nvPicPr>
        <p:blipFill>
          <a:blip r:embed="rId3"/>
          <a:stretch/>
        </p:blipFill>
        <p:spPr>
          <a:xfrm>
            <a:off x="214200" y="3286080"/>
            <a:ext cx="2857680" cy="30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festival.1september.ru/articles/312390/img1.gif"/>
          <p:cNvPicPr/>
          <p:nvPr/>
        </p:nvPicPr>
        <p:blipFill>
          <a:blip r:embed="rId2"/>
          <a:stretch/>
        </p:blipFill>
        <p:spPr>
          <a:xfrm>
            <a:off x="3382920" y="1762200"/>
            <a:ext cx="5248440" cy="5016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4214880" y="2000160"/>
            <a:ext cx="50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4214880" y="250020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   Е  З   Ь  Я  Н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3856320" y="342900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      Р  А  В  Е  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717520" y="39290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5225760" y="4857840"/>
            <a:ext cx="29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      С  Ь  К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1500120" y="21420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Один из героев,  которые “везти с поклажей воз взялись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7717320" y="2071800"/>
            <a:ext cx="47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900igr.net/datai/literatura/Krylov/0012-016-Lebed-rak-i-schuka.jpg"/>
          <p:cNvPicPr/>
          <p:nvPr/>
        </p:nvPicPr>
        <p:blipFill>
          <a:blip r:embed="rId3"/>
          <a:stretch/>
        </p:blipFill>
        <p:spPr>
          <a:xfrm>
            <a:off x="171360" y="3048120"/>
            <a:ext cx="275436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festival.1september.ru/articles/312390/img1.gif"/>
          <p:cNvPicPr/>
          <p:nvPr/>
        </p:nvPicPr>
        <p:blipFill>
          <a:blip r:embed="rId2"/>
          <a:stretch/>
        </p:blipFill>
        <p:spPr>
          <a:xfrm>
            <a:off x="3382920" y="1762200"/>
            <a:ext cx="5248440" cy="5016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4214880" y="2000160"/>
            <a:ext cx="50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214880" y="250020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   Е  З   Ь  Я  Н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856320" y="342900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      Р  А  В  Е  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5717520" y="39290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225760" y="4857840"/>
            <a:ext cx="29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      С  Ь  К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7717320" y="2071800"/>
            <a:ext cx="47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1352160" y="28584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Кого “по улице водили, как будто напоказ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4221000" y="535788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 Л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slovobelova.ru/wp-content/uploads/2009/12/son_I_moska.jpg"/>
          <p:cNvPicPr/>
          <p:nvPr/>
        </p:nvPicPr>
        <p:blipFill>
          <a:blip r:embed="rId3"/>
          <a:stretch/>
        </p:blipFill>
        <p:spPr>
          <a:xfrm>
            <a:off x="171360" y="3114720"/>
            <a:ext cx="2870280" cy="366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cit.vvsu.ru/MIRROR/www.fizika.ru/theory/tema-15/index2.gif"/>
          <p:cNvPicPr/>
          <p:nvPr/>
        </p:nvPicPr>
        <p:blipFill>
          <a:blip r:embed="rId2"/>
          <a:stretch/>
        </p:blipFill>
        <p:spPr>
          <a:xfrm>
            <a:off x="1835280" y="2349360"/>
            <a:ext cx="7162560" cy="317052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7" descr=""/>
          <p:cNvPicPr/>
          <p:nvPr/>
        </p:nvPicPr>
        <p:blipFill>
          <a:blip r:embed="rId3"/>
          <a:stretch/>
        </p:blipFill>
        <p:spPr>
          <a:xfrm>
            <a:off x="3419640" y="620640"/>
            <a:ext cx="3187440" cy="1987560"/>
          </a:xfrm>
          <a:prstGeom prst="rect">
            <a:avLst/>
          </a:prstGeom>
          <a:ln w="0">
            <a:noFill/>
          </a:ln>
        </p:spPr>
      </p:pic>
      <p:grpSp>
        <p:nvGrpSpPr>
          <p:cNvPr id="102" name="Прямоугольник 8"/>
          <p:cNvGrpSpPr/>
          <p:nvPr/>
        </p:nvGrpSpPr>
        <p:grpSpPr>
          <a:xfrm>
            <a:off x="1763640" y="6093000"/>
            <a:ext cx="7173720" cy="903240"/>
            <a:chOff x="1763640" y="6093000"/>
            <a:chExt cx="7173720" cy="903240"/>
          </a:xfrm>
        </p:grpSpPr>
        <p:pic>
          <p:nvPicPr>
            <p:cNvPr id="103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763640" y="6093000"/>
              <a:ext cx="7173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847160" y="6166080"/>
              <a:ext cx="629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Ресурсы интернета: 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http://festival.1september.ru/articles/312390</a:t>
              </a: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Эмблема круг"/>
          <p:cNvPicPr/>
          <p:nvPr/>
        </p:nvPicPr>
        <p:blipFill>
          <a:blip r:embed="rId5"/>
          <a:stretch/>
        </p:blipFill>
        <p:spPr>
          <a:xfrm>
            <a:off x="2627280" y="90792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8880" y="835920"/>
            <a:ext cx="2808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3:50:53Z</dcterms:created>
  <dc:creator>Helen</dc:creator>
  <dc:description/>
  <dc:language>en-US</dc:language>
  <cp:lastModifiedBy>Берюхов</cp:lastModifiedBy>
  <dcterms:modified xsi:type="dcterms:W3CDTF">2025-02-23T16:26:01Z</dcterms:modified>
  <cp:revision>18</cp:revision>
  <dc:subject/>
  <dc:title>Слайд 1</dc:title>
</cp:coreProperties>
</file>