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5125-F81B-4A7A-98E4-3066DBCC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5A6-E4A3-4F0F-B3C6-6D9E115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B1D-83C0-48F3-8808-F5A2CA5D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E1B-E989-44C6-8E3A-AAB3AB6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C76-D486-4B11-BAE0-265F3A36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715-C31B-4D69-BEE6-E29F6ABC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A02-3CF4-45F5-B916-E713E9D8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F36-9E3E-4ADF-9036-C25EBB30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FD8-4A2A-463B-9C69-2494222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121-A5A2-48D4-B00E-566DDD1E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D0B-03FD-4EC0-BDC4-5A23B8B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977-0001-4542-906C-880EFDA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E779-5743-4E7C-B2C5-AA30CBFA1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8532720" y="6254640"/>
            <a:ext cx="61128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hkola-abv.ru/" TargetMode="External"/><Relationship Id="rId3" Type="http://schemas.openxmlformats.org/officeDocument/2006/relationships/hyperlink" Target="http://shkola-abv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Девочки попали под дождь"/>
          <p:cNvPicPr/>
          <p:nvPr/>
        </p:nvPicPr>
        <p:blipFill>
          <a:blip r:embed="rId1"/>
          <a:stretch/>
        </p:blipFill>
        <p:spPr>
          <a:xfrm>
            <a:off x="3564000" y="260280"/>
            <a:ext cx="5184720" cy="6416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3" name="TextBox 4"/>
          <p:cNvSpPr/>
          <p:nvPr/>
        </p:nvSpPr>
        <p:spPr>
          <a:xfrm rot="16200000">
            <a:off x="-678600" y="2630880"/>
            <a:ext cx="6193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Работа с текст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«До первого дождя» В.Осе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333360"/>
            <a:ext cx="882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ня и Маша были очень дружны и всегда ходили в детский сад вместе. То Маша заходила за Таней, то Таня за Машей. Один раз, когда девочки шли по улице, начался сильный дождь. Маша была в плаще, а Таня в одном платье. Девочки побежа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ними свой плащ, мы накроемся вместе! — крикнула на бегу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 не могу, я промокну! — нагнув вниз голову с капюшоном, ответила ей Ма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детском саду воспитательница сказ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странно, у Маши платье сухое, а у тебя, Таня, совершенно мокрое, как же это случилось? Ведь вы же шли вмес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 Маши был плащ, а я шла в одном платье, — сказала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к вы могли бы укрыться одним плащом, — сказала воспитательница и, взглянув на Машу, покачала гол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дно, ваша дружба до первого дожд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е девочки покраснели: Маша за себя, а Таня за Ма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В. Осее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2711160" y="0"/>
            <a:ext cx="31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До первого дожд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217800"/>
            <a:ext cx="838836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Ответь на вопросы, выполни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Определи  жанр произ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рассказ         б) сказка       в) стихотво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Куда направлялись девоч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шли в магазин игрушек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 шли на прогулку   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шли в детский са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Изменилась ли погода, пока девочки шли по дороге, и ка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да, внезапно начался дожд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да, внезапно началась г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нет, весь день светило яркое солныш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50920" y="433800"/>
            <a:ext cx="860580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 кого из героев был плащ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у воспитательницы      б) у  Тани  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у  Маш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Что можно сказать о дружбе девоче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девочек нельзя считать настоящими подруг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 девочки всегда во всём помогают друг дру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между Таней и Машей — настоящая др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.Какая пословица или поговорка подходит к данному текст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Семеро одного не ждут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)Друг познаётся в беде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После дождичка в четвер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24000" y="501840"/>
            <a:ext cx="849600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Чему удивилась воспитательниц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.Почему рассказ называется: «До первого  дождичк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9.Почему покраснела Маш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Выпиши из текста предложение, в котором говорится о том, что предложила Таня своей подруге, когда начался дож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79280" y="416160"/>
            <a:ext cx="84600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1.Расположи  фразы  из  текста логической   последовательности. Пронумеруй   предложения.                                                                                  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 Обе    девочки  покраснели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 Таня  и  Маша  были  очень   дружны ...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___ В детском саду воспитательница сказала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4081680"/>
            <a:ext cx="8137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Сформулируй  и  запиши   главную  мысль   текста.  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 background"/>
          <p:cNvPicPr/>
          <p:nvPr/>
        </p:nvPicPr>
        <p:blipFill>
          <a:blip r:embed="rId1"/>
          <a:stretch/>
        </p:blipFill>
        <p:spPr>
          <a:xfrm>
            <a:off x="468360" y="260280"/>
            <a:ext cx="8286840" cy="3168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52" name="Rectangle 3"/>
          <p:cNvSpPr/>
          <p:nvPr/>
        </p:nvSpPr>
        <p:spPr>
          <a:xfrm>
            <a:off x="2050920" y="5385960"/>
            <a:ext cx="5042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  <a:ea typeface="Calibri"/>
              </a:rPr>
              <a:t>Сайт  Елены Берюховой 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07T08:54:23Z</dcterms:created>
  <dc:creator>Елена Берюхова</dc:creator>
  <dc:description/>
  <dc:language>en-US</dc:language>
  <cp:lastModifiedBy>Берюхов</cp:lastModifiedBy>
  <dcterms:modified xsi:type="dcterms:W3CDTF">2025-01-09T15:41:03Z</dcterms:modified>
  <cp:revision>6</cp:revision>
  <dc:subject/>
  <dc:title>Слайд 1</dc:title>
</cp:coreProperties>
</file>