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5.jpeg" ContentType="image/jpeg"/>
  <Override PartName="/ppt/media/image24.png" ContentType="image/png"/>
  <Override PartName="/ppt/media/image22.png" ContentType="image/png"/>
  <Override PartName="/ppt/media/image13.jpeg" ContentType="image/jpeg"/>
  <Override PartName="/ppt/media/image27.jpeg" ContentType="image/jpeg"/>
  <Override PartName="/ppt/media/image33.jpeg" ContentType="image/jpeg"/>
  <Override PartName="/ppt/media/image10.png" ContentType="image/png"/>
  <Override PartName="/ppt/media/image1.jpeg" ContentType="image/jpeg"/>
  <Override PartName="/ppt/media/image8.png" ContentType="image/png"/>
  <Override PartName="/ppt/media/image7.png" ContentType="image/png"/>
  <Override PartName="/ppt/media/image34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4.png" ContentType="image/png"/>
  <Override PartName="/ppt/media/image12.jpeg" ContentType="image/jpeg"/>
  <Override PartName="/ppt/media/image11.png" ContentType="image/png"/>
  <Override PartName="/ppt/media/image31.jpeg" ContentType="image/jpeg"/>
  <Override PartName="/ppt/media/image9.png" ContentType="image/png"/>
  <Override PartName="/ppt/media/image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1.png" ContentType="image/png"/>
  <Override PartName="/ppt/media/image19.png" ContentType="image/pn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75C3-E1B2-4406-B6E8-5AA3451A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B96E-22DA-4C65-8D51-9EEC08E5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A3D6-6E6F-45A9-8ED7-4FE67C4E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0E21-67DF-444E-92C7-9B1EAFE7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D732-EE7C-478A-A6D9-7F4D2F5F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1ACE-CEBA-4F0A-BCC8-5DE89FF8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02BA-93E9-4237-98F2-91E4CF88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D2C-6D21-4103-A65F-25A2A63F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CCA-8A16-4CA9-9A2B-A8104F9B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AD23-450D-4750-AEAE-DEF7D0B0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8D48-A2B2-4FCA-8969-6F25D34A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226A-D163-4DA1-98BE-AFCA9BF1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05FF-826A-4E14-88AC-9F5EE2C241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8"/>
          <p:cNvSpPr/>
          <p:nvPr/>
        </p:nvSpPr>
        <p:spPr>
          <a:xfrm rot="16200000">
            <a:off x="-455400" y="6126480"/>
            <a:ext cx="121860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Школа АБ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s://vk.com/shkola_abv?from=groups" TargetMode="External"/><Relationship Id="rId3" Type="http://schemas.openxmlformats.org/officeDocument/2006/relationships/hyperlink" Target="https://www.shkola-abv.ru/" TargetMode="Externa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G:\клипарты\учитель\1349994982_1-19 (1).jpg"/>
          <p:cNvPicPr/>
          <p:nvPr/>
        </p:nvPicPr>
        <p:blipFill>
          <a:blip r:embed="rId2"/>
          <a:stretch/>
        </p:blipFill>
        <p:spPr>
          <a:xfrm>
            <a:off x="1403280" y="260280"/>
            <a:ext cx="7383600" cy="524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G:\клипарты\учитель\4543991-thumb.png"/>
          <p:cNvPicPr/>
          <p:nvPr/>
        </p:nvPicPr>
        <p:blipFill>
          <a:blip r:embed="rId3"/>
          <a:stretch/>
        </p:blipFill>
        <p:spPr>
          <a:xfrm>
            <a:off x="179280" y="2708280"/>
            <a:ext cx="2100240" cy="4149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ttps://i.pinimg.com/originals/d6/49/27/d6492789f178e595ef41dfdd85534386.gif"/>
          <p:cNvPicPr/>
          <p:nvPr/>
        </p:nvPicPr>
        <p:blipFill>
          <a:blip r:embed="rId4"/>
          <a:stretch/>
        </p:blipFill>
        <p:spPr>
          <a:xfrm>
            <a:off x="7020000" y="4702320"/>
            <a:ext cx="2124000" cy="215568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2271240" y="476280"/>
            <a:ext cx="5511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«Юным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умникам 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умницам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Занятие № 6 </a:t>
            </a: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Users\Елена\Desktop\уу3\Сканы  2024 Умники и умницы 3-1\0.png"/>
          <p:cNvPicPr/>
          <p:nvPr/>
        </p:nvPicPr>
        <p:blipFill>
          <a:blip r:embed="rId5"/>
          <a:stretch/>
        </p:blipFill>
        <p:spPr>
          <a:xfrm>
            <a:off x="5076720" y="4508640"/>
            <a:ext cx="1494000" cy="201600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7" name="TextBox 6"/>
          <p:cNvSpPr/>
          <p:nvPr/>
        </p:nvSpPr>
        <p:spPr>
          <a:xfrm>
            <a:off x="2358000" y="4724280"/>
            <a:ext cx="169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https://i.pinimg.com/736x/fd/b6/cc/fdb6ccc9757220cd15a7f36d57076585.jpg"/>
          <p:cNvPicPr/>
          <p:nvPr/>
        </p:nvPicPr>
        <p:blipFill>
          <a:blip r:embed="rId2"/>
          <a:srcRect l="2565" t="12295" r="1782" b="9345"/>
          <a:stretch/>
        </p:blipFill>
        <p:spPr>
          <a:xfrm>
            <a:off x="971640" y="115920"/>
            <a:ext cx="7777080" cy="426564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3"/>
          <p:cNvSpPr/>
          <p:nvPr/>
        </p:nvSpPr>
        <p:spPr>
          <a:xfrm>
            <a:off x="684360" y="5373720"/>
            <a:ext cx="8280360" cy="131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Из сосны, осины, липы, топ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2700360" y="24210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з какого дерева делают спич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https://i.pinimg.com/736x/34/90/5c/34905c08b34a97c34edb86f8d401e37f.jpg"/>
          <p:cNvPicPr/>
          <p:nvPr/>
        </p:nvPicPr>
        <p:blipFill>
          <a:blip r:embed="rId3"/>
          <a:srcRect l="9222" t="0" r="0" b="7093"/>
          <a:stretch/>
        </p:blipFill>
        <p:spPr>
          <a:xfrm>
            <a:off x="4284720" y="3357720"/>
            <a:ext cx="1511280" cy="1963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https://i.pinimg.com/736x/fd/b6/cc/fdb6ccc9757220cd15a7f36d57076585.jpg"/>
          <p:cNvPicPr/>
          <p:nvPr/>
        </p:nvPicPr>
        <p:blipFill>
          <a:blip r:embed="rId2"/>
          <a:srcRect l="2565" t="12295" r="1782" b="9345"/>
          <a:stretch/>
        </p:blipFill>
        <p:spPr>
          <a:xfrm>
            <a:off x="971640" y="115920"/>
            <a:ext cx="7416720" cy="40687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3"/>
          <p:cNvSpPr/>
          <p:nvPr/>
        </p:nvSpPr>
        <p:spPr>
          <a:xfrm>
            <a:off x="684360" y="5373720"/>
            <a:ext cx="820872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У березы, так как ее кора белого цвета, а белый свет отражает с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2556000" y="206064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 какого дерева даже в самый жаркий летний день кора остается прохладно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3"/>
          <a:stretch/>
        </p:blipFill>
        <p:spPr>
          <a:xfrm>
            <a:off x="179280" y="2811600"/>
            <a:ext cx="1836720" cy="2517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4"/>
          <a:stretch/>
        </p:blipFill>
        <p:spPr>
          <a:xfrm>
            <a:off x="7307280" y="2852640"/>
            <a:ext cx="1836720" cy="251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412280" y="115920"/>
            <a:ext cx="64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Развиваю логическое мыш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775800" y="765000"/>
            <a:ext cx="65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. Выбери нужную фигуру из четырёх пронумерован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C:\Users\Елена\Desktop\уу3\Сканы  2024 Умники и умницы 3-1\23.png"/>
          <p:cNvPicPr/>
          <p:nvPr/>
        </p:nvPicPr>
        <p:blipFill>
          <a:blip r:embed="rId2"/>
          <a:stretch/>
        </p:blipFill>
        <p:spPr>
          <a:xfrm>
            <a:off x="539640" y="1268280"/>
            <a:ext cx="8369280" cy="36734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4"/>
          <p:cNvSpPr/>
          <p:nvPr/>
        </p:nvSpPr>
        <p:spPr>
          <a:xfrm>
            <a:off x="4859280" y="2852640"/>
            <a:ext cx="2305080" cy="18716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2"/>
          <p:cNvSpPr/>
          <p:nvPr/>
        </p:nvSpPr>
        <p:spPr>
          <a:xfrm>
            <a:off x="684360" y="18900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. Вставь вместо точек слово из трёх букв, которое служило бы окончанием  первого  слова  и началом втор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Например: ОБЫ (ЧАЙ) 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900000" y="4149720"/>
            <a:ext cx="446400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твет: ме(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шок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)олад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тко(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нос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)орог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(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кол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)есо,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ипа(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рис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)ун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1325520" y="1916280"/>
            <a:ext cx="660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МЕ(____)ОЛАД      УТКО(___)ОРОГ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У(____)ЕСО          КИПА(____)У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Изображение пина-истории"/>
          <p:cNvPicPr/>
          <p:nvPr/>
        </p:nvPicPr>
        <p:blipFill>
          <a:blip r:embed="rId2"/>
          <a:stretch/>
        </p:blipFill>
        <p:spPr>
          <a:xfrm>
            <a:off x="5413320" y="3127320"/>
            <a:ext cx="3730680" cy="3730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847800" y="260280"/>
            <a:ext cx="70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. Восстанови «рассыпавшиеся» слова. Какое слово  лишне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1027800" y="1413000"/>
            <a:ext cx="3597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ААЛТЕРК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КОЖАЛ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ДМОНЧЕ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ШКАА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5077440" y="1413000"/>
            <a:ext cx="3378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omic Sans MS"/>
              </a:rPr>
              <a:t>ТАРЕЛ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omic Sans MS"/>
              </a:rPr>
              <a:t>ЛОЖКА</a:t>
            </a:r>
            <a:br>
              <a:rPr sz="4800"/>
            </a:br>
            <a:r>
              <a:rPr b="1" lang="en-US" sz="4800" spc="-1" strike="noStrike">
                <a:solidFill>
                  <a:srgbClr val="0070c0"/>
                </a:solidFill>
                <a:latin typeface="Comic Sans MS"/>
              </a:rPr>
              <a:t>ЧЕМОДАН</a:t>
            </a:r>
            <a:br>
              <a:rPr sz="4800"/>
            </a:br>
            <a:r>
              <a:rPr b="1" lang="en-US" sz="4800" spc="-1" strike="noStrike">
                <a:solidFill>
                  <a:srgbClr val="0070c0"/>
                </a:solidFill>
                <a:latin typeface="Comic Sans MS"/>
              </a:rPr>
              <a:t>ЧАШ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https://i.pinimg.com/736x/45/70/87/457087e9c063219052b88cb92b5e3ea5.jpg"/>
          <p:cNvPicPr/>
          <p:nvPr/>
        </p:nvPicPr>
        <p:blipFill>
          <a:blip r:embed="rId2"/>
          <a:stretch/>
        </p:blipFill>
        <p:spPr>
          <a:xfrm>
            <a:off x="3419640" y="3860640"/>
            <a:ext cx="1657080" cy="2818080"/>
          </a:xfrm>
          <a:prstGeom prst="rect">
            <a:avLst/>
          </a:prstGeom>
          <a:ln w="0">
            <a:noFill/>
          </a:ln>
        </p:spPr>
      </p:pic>
      <p:sp>
        <p:nvSpPr>
          <p:cNvPr id="105" name="Минус 5"/>
          <p:cNvSpPr/>
          <p:nvPr/>
        </p:nvSpPr>
        <p:spPr>
          <a:xfrm>
            <a:off x="4788000" y="3573360"/>
            <a:ext cx="4105080" cy="216000"/>
          </a:xfrm>
          <a:custGeom>
            <a:avLst/>
            <a:gdLst>
              <a:gd name="textAreaLeft" fmla="*/ 543960 w 4105080"/>
              <a:gd name="textAreaRight" fmla="*/ 3561120 w 4105080"/>
              <a:gd name="textAreaTop" fmla="*/ 82440 h 216000"/>
              <a:gd name="textAreaBottom" fmla="*/ 133560 h 216000"/>
            </a:gdLst>
            <a:ahLst/>
            <a:rect l="textAreaLeft" t="textAreaTop" r="textAreaRight" b="textAreaBottom"/>
            <a:pathLst>
              <a:path w="4104456" h="216024">
                <a:moveTo>
                  <a:pt x="544045" y="82608"/>
                </a:moveTo>
                <a:lnTo>
                  <a:pt x="3560411" y="82608"/>
                </a:lnTo>
                <a:lnTo>
                  <a:pt x="3560411" y="133416"/>
                </a:lnTo>
                <a:lnTo>
                  <a:pt x="544045" y="13341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539640" y="1341360"/>
            <a:ext cx="446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ОРТ (ТОСКА) СКАМЬ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ЕЛО  (ДЕМОН) МОНСТР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КНИГА (АИСТ) САЛАТ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ПОРОГ (ГРОТ) ОМ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684360" y="18900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. Слово в скобках в верхнем ряду каждого задания образовано из двух слов, рядом стоящих. Пойми закономерность и впиши недостающее слово в скобки нижнего ря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5111640" y="134136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ПИРОГ  (ПОЛЕ)  С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РЫНОК  (РОСА)  ОС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5156280" y="3068640"/>
            <a:ext cx="380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Calibri"/>
              </a:rPr>
              <a:t>ЛОТОК  (КЛАД)  ЛО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Calibri"/>
              </a:rPr>
              <a:t>ОЛИМП  (ПОРТ)  КА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5"/>
          <p:cNvSpPr/>
          <p:nvPr/>
        </p:nvSpPr>
        <p:spPr>
          <a:xfrm>
            <a:off x="1619280" y="1844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6"/>
          <p:cNvSpPr/>
          <p:nvPr/>
        </p:nvSpPr>
        <p:spPr>
          <a:xfrm>
            <a:off x="1763640" y="3500280"/>
            <a:ext cx="936720" cy="433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7"/>
          <p:cNvSpPr/>
          <p:nvPr/>
        </p:nvSpPr>
        <p:spPr>
          <a:xfrm>
            <a:off x="6516720" y="1844640"/>
            <a:ext cx="1079640" cy="43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8"/>
          <p:cNvSpPr/>
          <p:nvPr/>
        </p:nvSpPr>
        <p:spPr>
          <a:xfrm>
            <a:off x="6588000" y="3573360"/>
            <a:ext cx="1079640" cy="43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https://i.pinimg.com/736x/fa/c0/55/fac055684b21c36392dbbc69ad3dd84d.jpg"/>
          <p:cNvPicPr/>
          <p:nvPr/>
        </p:nvPicPr>
        <p:blipFill>
          <a:blip r:embed="rId2"/>
          <a:stretch/>
        </p:blipFill>
        <p:spPr>
          <a:xfrm>
            <a:off x="3635280" y="4005360"/>
            <a:ext cx="1684440" cy="2852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Равнобедренный треугольник 14"/>
          <p:cNvSpPr/>
          <p:nvPr/>
        </p:nvSpPr>
        <p:spPr>
          <a:xfrm>
            <a:off x="4716360" y="1484280"/>
            <a:ext cx="2880000" cy="1513080"/>
          </a:xfrm>
          <a:prstGeom prst="triangle">
            <a:avLst>
              <a:gd name="adj" fmla="val 50000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838440" y="333360"/>
            <a:ext cx="38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. Вставь вместо ? нужн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7"/>
          <p:cNvSpPr/>
          <p:nvPr/>
        </p:nvSpPr>
        <p:spPr>
          <a:xfrm>
            <a:off x="1258920" y="2997360"/>
            <a:ext cx="2881440" cy="21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Равнобедренный треугольник 8"/>
          <p:cNvSpPr/>
          <p:nvPr/>
        </p:nvSpPr>
        <p:spPr>
          <a:xfrm>
            <a:off x="1258920" y="1484280"/>
            <a:ext cx="2881440" cy="15130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9"/>
          <p:cNvSpPr/>
          <p:nvPr/>
        </p:nvSpPr>
        <p:spPr>
          <a:xfrm>
            <a:off x="2340000" y="2133720"/>
            <a:ext cx="792000" cy="7189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0"/>
          <p:cNvSpPr/>
          <p:nvPr/>
        </p:nvSpPr>
        <p:spPr>
          <a:xfrm>
            <a:off x="2916360" y="3213000"/>
            <a:ext cx="863640" cy="647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1"/>
          <p:cNvSpPr/>
          <p:nvPr/>
        </p:nvSpPr>
        <p:spPr>
          <a:xfrm>
            <a:off x="1547640" y="3213000"/>
            <a:ext cx="863640" cy="647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2"/>
          <p:cNvSpPr/>
          <p:nvPr/>
        </p:nvSpPr>
        <p:spPr>
          <a:xfrm>
            <a:off x="2340000" y="4292640"/>
            <a:ext cx="719280" cy="865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3"/>
          <p:cNvSpPr/>
          <p:nvPr/>
        </p:nvSpPr>
        <p:spPr>
          <a:xfrm>
            <a:off x="4716360" y="2997360"/>
            <a:ext cx="2880000" cy="21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15"/>
          <p:cNvSpPr/>
          <p:nvPr/>
        </p:nvSpPr>
        <p:spPr>
          <a:xfrm>
            <a:off x="5796000" y="1989000"/>
            <a:ext cx="792000" cy="719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6"/>
          <p:cNvSpPr/>
          <p:nvPr/>
        </p:nvSpPr>
        <p:spPr>
          <a:xfrm>
            <a:off x="6516720" y="3213000"/>
            <a:ext cx="863640" cy="647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7"/>
          <p:cNvSpPr/>
          <p:nvPr/>
        </p:nvSpPr>
        <p:spPr>
          <a:xfrm>
            <a:off x="4932360" y="3213000"/>
            <a:ext cx="863640" cy="647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8"/>
          <p:cNvSpPr/>
          <p:nvPr/>
        </p:nvSpPr>
        <p:spPr>
          <a:xfrm>
            <a:off x="5796000" y="4292640"/>
            <a:ext cx="720720" cy="865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9"/>
          <p:cNvSpPr/>
          <p:nvPr/>
        </p:nvSpPr>
        <p:spPr>
          <a:xfrm>
            <a:off x="2430720" y="2205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0"/>
          <p:cNvSpPr/>
          <p:nvPr/>
        </p:nvSpPr>
        <p:spPr>
          <a:xfrm>
            <a:off x="1638720" y="3213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1"/>
          <p:cNvSpPr/>
          <p:nvPr/>
        </p:nvSpPr>
        <p:spPr>
          <a:xfrm>
            <a:off x="3006360" y="3213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2"/>
          <p:cNvSpPr/>
          <p:nvPr/>
        </p:nvSpPr>
        <p:spPr>
          <a:xfrm>
            <a:off x="2358720" y="4437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3"/>
          <p:cNvSpPr/>
          <p:nvPr/>
        </p:nvSpPr>
        <p:spPr>
          <a:xfrm>
            <a:off x="5230080" y="3213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4"/>
          <p:cNvSpPr/>
          <p:nvPr/>
        </p:nvSpPr>
        <p:spPr>
          <a:xfrm>
            <a:off x="6679080" y="3213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5"/>
          <p:cNvSpPr/>
          <p:nvPr/>
        </p:nvSpPr>
        <p:spPr>
          <a:xfrm>
            <a:off x="5814360" y="4437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6"/>
          <p:cNvSpPr/>
          <p:nvPr/>
        </p:nvSpPr>
        <p:spPr>
          <a:xfrm>
            <a:off x="6033240" y="206064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7"/>
          <p:cNvSpPr/>
          <p:nvPr/>
        </p:nvSpPr>
        <p:spPr>
          <a:xfrm>
            <a:off x="5940360" y="1916280"/>
            <a:ext cx="50328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8"/>
          <p:cNvSpPr/>
          <p:nvPr/>
        </p:nvSpPr>
        <p:spPr>
          <a:xfrm>
            <a:off x="1289160" y="5877000"/>
            <a:ext cx="69624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Из суммы чисел на окнах, вычесть число на две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ttps://i.pinimg.com/736x/24/de/8c/24de8c90d2e4d045535833dd556cc485.jpg"/>
          <p:cNvPicPr/>
          <p:nvPr/>
        </p:nvPicPr>
        <p:blipFill>
          <a:blip r:embed="rId2"/>
          <a:stretch/>
        </p:blipFill>
        <p:spPr>
          <a:xfrm>
            <a:off x="6084720" y="3645000"/>
            <a:ext cx="2818080" cy="281772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2"/>
          <p:cNvSpPr/>
          <p:nvPr/>
        </p:nvSpPr>
        <p:spPr>
          <a:xfrm>
            <a:off x="826920" y="33336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6. Подберите слово, которому могут предшествовать любые из букв сл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1042920" y="5732640"/>
            <a:ext cx="424980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Ответ: ...ро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1751760" y="1484280"/>
            <a:ext cx="66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1614960" y="2492280"/>
            <a:ext cx="126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п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1676880" y="3429000"/>
            <a:ext cx="121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к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4697280" y="2349360"/>
            <a:ext cx="19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( … 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9"/>
          <p:cNvSpPr/>
          <p:nvPr/>
        </p:nvSpPr>
        <p:spPr>
          <a:xfrm>
            <a:off x="2771640" y="2133720"/>
            <a:ext cx="1729080" cy="6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0"/>
          <p:cNvSpPr/>
          <p:nvPr/>
        </p:nvSpPr>
        <p:spPr>
          <a:xfrm flipV="1">
            <a:off x="2987640" y="3284280"/>
            <a:ext cx="1592280" cy="711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12"/>
          <p:cNvSpPr/>
          <p:nvPr/>
        </p:nvSpPr>
        <p:spPr>
          <a:xfrm flipV="1">
            <a:off x="2874960" y="3068640"/>
            <a:ext cx="1697040" cy="2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2"/>
          <p:cNvSpPr/>
          <p:nvPr/>
        </p:nvSpPr>
        <p:spPr>
          <a:xfrm>
            <a:off x="755640" y="18900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7. Добавь слова подходящие для начала и конца фра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4"/>
          <p:cNvSpPr/>
          <p:nvPr/>
        </p:nvSpPr>
        <p:spPr>
          <a:xfrm>
            <a:off x="611280" y="907920"/>
            <a:ext cx="7632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_____ помогает,  а невнимательность _____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 _____ наказывается,  а добро ______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____- зверь,  а бабочка - ____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____ плавает,  а змея _____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. ____ абрикос,  а в сушёном виде- ______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. ____ собирают летом,  а морковь ____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 _____ темно,  а днем _____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 _____ - это посуда,  а пылесос _____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9._____- маленький грызун,  а крыса _____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0. _____ летает,  а страус _____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5"/>
          <p:cNvSpPr/>
          <p:nvPr/>
        </p:nvSpPr>
        <p:spPr>
          <a:xfrm>
            <a:off x="611280" y="836640"/>
            <a:ext cx="7273800" cy="563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 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нимательность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помогает, а невнимательность 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еш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 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Зло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наказывается, а добро 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бежд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 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олк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зверь, а бабочка - 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асеком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 Рыб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плавает, а змея 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лз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. 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вежий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абрикос, а в сушёном виде - 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кура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. 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Ягоды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собирают летом, а морковь 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сен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 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очью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темно, а днем 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вет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 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Тарелк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- это посуда, а пылесос - 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техник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9. 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ышь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маленький грызун, а крыса 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больш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0. 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оробей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летает, а страус 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бег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Изображение пина-истории"/>
          <p:cNvPicPr/>
          <p:nvPr/>
        </p:nvPicPr>
        <p:blipFill>
          <a:blip r:embed="rId2"/>
          <a:srcRect l="5197" t="0" r="15586" b="0"/>
          <a:stretch/>
        </p:blipFill>
        <p:spPr>
          <a:xfrm>
            <a:off x="7451640" y="3841920"/>
            <a:ext cx="1692360" cy="2833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Изображение пина-истории"/>
          <p:cNvPicPr/>
          <p:nvPr/>
        </p:nvPicPr>
        <p:blipFill>
          <a:blip r:embed="rId2"/>
          <a:stretch/>
        </p:blipFill>
        <p:spPr>
          <a:xfrm>
            <a:off x="3635280" y="4869000"/>
            <a:ext cx="2087640" cy="19890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"/>
          <p:cNvSpPr/>
          <p:nvPr/>
        </p:nvSpPr>
        <p:spPr>
          <a:xfrm>
            <a:off x="755640" y="33336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8. 1) В слове ВОЙНА переставили буквы и получилось НОЙВА. Такая же перестановка была в слове СПОРТ. Подчеркни, что получило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ОСТП     РПОСТ   РОПСТ   РОПТС   СПРТО    СТР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755640" y="2205000"/>
            <a:ext cx="8064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В слове АИСТ  переставили буквы и получилось  АТИС. Такая же перестановка была в слове ГОРА. Подчеркни, что получи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АРО    ГАОР     ГРАО    ГРОА    РАОГ    ГО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684360" y="3573360"/>
            <a:ext cx="8208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) Катя- сестра Вовы. Оля – подруга Кати. Ваня- брат Оли. Миша – брат Вани. Кто брат Кати? Подчерк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ВА      ВАНЯ    МИША     СЕРЁЖА    ИГОРЬ   ОЛ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инус 6"/>
          <p:cNvSpPr/>
          <p:nvPr/>
        </p:nvSpPr>
        <p:spPr>
          <a:xfrm>
            <a:off x="1908000" y="1773360"/>
            <a:ext cx="1727280" cy="287280"/>
          </a:xfrm>
          <a:custGeom>
            <a:avLst/>
            <a:gdLst>
              <a:gd name="textAreaLeft" fmla="*/ 228960 w 1727280"/>
              <a:gd name="textAreaRight" fmla="*/ 1498320 w 1727280"/>
              <a:gd name="textAreaTop" fmla="*/ 109800 h 287280"/>
              <a:gd name="textAreaBottom" fmla="*/ 177480 h 287280"/>
            </a:gdLst>
            <a:ahLst/>
            <a:rect l="textAreaLeft" t="textAreaTop" r="textAreaRight" b="textAreaBottom"/>
            <a:pathLst>
              <a:path w="1727200" h="287337">
                <a:moveTo>
                  <a:pt x="228940" y="109878"/>
                </a:moveTo>
                <a:lnTo>
                  <a:pt x="1498260" y="109878"/>
                </a:lnTo>
                <a:lnTo>
                  <a:pt x="1498260" y="177459"/>
                </a:lnTo>
                <a:lnTo>
                  <a:pt x="228940" y="177459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инус 7"/>
          <p:cNvSpPr/>
          <p:nvPr/>
        </p:nvSpPr>
        <p:spPr>
          <a:xfrm>
            <a:off x="1835280" y="3141720"/>
            <a:ext cx="1728720" cy="287280"/>
          </a:xfrm>
          <a:custGeom>
            <a:avLst/>
            <a:gdLst>
              <a:gd name="textAreaLeft" fmla="*/ 228960 w 1728720"/>
              <a:gd name="textAreaRight" fmla="*/ 1499760 w 1728720"/>
              <a:gd name="textAreaTop" fmla="*/ 109800 h 287280"/>
              <a:gd name="textAreaBottom" fmla="*/ 177480 h 287280"/>
            </a:gdLst>
            <a:ahLst/>
            <a:rect l="textAreaLeft" t="textAreaTop" r="textAreaRight" b="textAreaBottom"/>
            <a:pathLst>
              <a:path w="1728788" h="287337">
                <a:moveTo>
                  <a:pt x="229151" y="109878"/>
                </a:moveTo>
                <a:lnTo>
                  <a:pt x="1499637" y="109878"/>
                </a:lnTo>
                <a:lnTo>
                  <a:pt x="1499637" y="177459"/>
                </a:lnTo>
                <a:lnTo>
                  <a:pt x="229151" y="177459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инус 8"/>
          <p:cNvSpPr/>
          <p:nvPr/>
        </p:nvSpPr>
        <p:spPr>
          <a:xfrm>
            <a:off x="395280" y="4508640"/>
            <a:ext cx="1728720" cy="288720"/>
          </a:xfrm>
          <a:custGeom>
            <a:avLst/>
            <a:gdLst>
              <a:gd name="textAreaLeft" fmla="*/ 228960 w 1728720"/>
              <a:gd name="textAreaRight" fmla="*/ 1499760 w 1728720"/>
              <a:gd name="textAreaTop" fmla="*/ 110520 h 288720"/>
              <a:gd name="textAreaBottom" fmla="*/ 178200 h 288720"/>
            </a:gdLst>
            <a:ahLst/>
            <a:rect l="textAreaLeft" t="textAreaTop" r="textAreaRight" b="textAreaBottom"/>
            <a:pathLst>
              <a:path w="1728787" h="288925">
                <a:moveTo>
                  <a:pt x="229151" y="110485"/>
                </a:moveTo>
                <a:lnTo>
                  <a:pt x="1499636" y="110485"/>
                </a:lnTo>
                <a:lnTo>
                  <a:pt x="1499636" y="178440"/>
                </a:lnTo>
                <a:lnTo>
                  <a:pt x="229151" y="17844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https://i.pinimg.com/736x/fd/b6/cc/fdb6ccc9757220cd15a7f36d57076585.jpg"/>
          <p:cNvPicPr/>
          <p:nvPr/>
        </p:nvPicPr>
        <p:blipFill>
          <a:blip r:embed="rId2"/>
          <a:srcRect l="2565" t="12295" r="1782" b="9345"/>
          <a:stretch/>
        </p:blipFill>
        <p:spPr>
          <a:xfrm>
            <a:off x="611280" y="1197000"/>
            <a:ext cx="8373960" cy="4592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3276720" y="692280"/>
            <a:ext cx="27129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Разми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880560" y="0"/>
            <a:ext cx="78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А ларчик просто открывал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2268360" y="3141720"/>
            <a:ext cx="489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акая птица никогда не строит для себя гнезда, соседкам яйца оставляет и о птенцах не вспоминае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5867280" y="5877000"/>
            <a:ext cx="301320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c00000"/>
                </a:solidFill>
                <a:latin typeface="Comic Sans MS"/>
              </a:rPr>
              <a:t>кукуш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https://papik.pro/uploads/posts/2022-01/1642305053_2-papik-pro-p-klipart-kukushka-2.jpg"/>
          <p:cNvPicPr/>
          <p:nvPr/>
        </p:nvPicPr>
        <p:blipFill>
          <a:blip r:embed="rId3"/>
          <a:stretch/>
        </p:blipFill>
        <p:spPr>
          <a:xfrm>
            <a:off x="3276720" y="5459400"/>
            <a:ext cx="1800000" cy="139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1704240" y="115920"/>
            <a:ext cx="497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Графически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C:\Users\Елена\Desktop\уу3\Сканы  2024 Умники и умницы 3-1\25.png"/>
          <p:cNvPicPr/>
          <p:nvPr/>
        </p:nvPicPr>
        <p:blipFill>
          <a:blip r:embed="rId2"/>
          <a:stretch/>
        </p:blipFill>
        <p:spPr>
          <a:xfrm>
            <a:off x="755640" y="1413000"/>
            <a:ext cx="5732640" cy="49687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3"/>
          <p:cNvSpPr/>
          <p:nvPr/>
        </p:nvSpPr>
        <p:spPr>
          <a:xfrm>
            <a:off x="831600" y="83664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9.Рисуй от то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3">
            <a:lum bright="30000"/>
          </a:blip>
          <a:stretch/>
        </p:blipFill>
        <p:spPr>
          <a:xfrm>
            <a:off x="1187280" y="1700280"/>
            <a:ext cx="6840720" cy="46814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r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https://i.pinimg.com/originals/22/85/2f/22852f4d2d9d60305d5ee185b74cbbe0.jpg"/>
          <p:cNvPicPr/>
          <p:nvPr/>
        </p:nvPicPr>
        <p:blipFill>
          <a:blip r:embed="rId2"/>
          <a:stretch/>
        </p:blipFill>
        <p:spPr>
          <a:xfrm>
            <a:off x="1258920" y="1413000"/>
            <a:ext cx="5011560" cy="38163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"/>
          <p:cNvSpPr/>
          <p:nvPr/>
        </p:nvSpPr>
        <p:spPr>
          <a:xfrm rot="16200000">
            <a:off x="-1480320" y="1690920"/>
            <a:ext cx="35427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дополн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826920" y="26028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 Веры 7 орехов, а у Клавы и Светы их поровну, но меньше, чем у Веры. Всего у трех девочек 11 орехов. Сосчитай, сколько орехов у Клавы и сколько у Св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900000" y="5229360"/>
            <a:ext cx="777564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11-7=4 (ореха) - у Клавы и Светы всег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4:2=2 (ореха) - у Клавы и у Светы столько орехов у каж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вет: у Клавы 2 ореха и у Светы 2 оре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https://i.pinimg.com/originals/33/9f/73/339f7396066ba368e13f1206ff4a05d0.png"/>
          <p:cNvPicPr/>
          <p:nvPr/>
        </p:nvPicPr>
        <p:blipFill>
          <a:blip r:embed="rId3"/>
          <a:stretch/>
        </p:blipFill>
        <p:spPr>
          <a:xfrm>
            <a:off x="3132000" y="3213000"/>
            <a:ext cx="1368720" cy="1368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https://i.pinimg.com/originals/33/9f/73/339f7396066ba368e13f1206ff4a05d0.png"/>
          <p:cNvPicPr/>
          <p:nvPr/>
        </p:nvPicPr>
        <p:blipFill>
          <a:blip r:embed="rId4"/>
          <a:stretch/>
        </p:blipFill>
        <p:spPr>
          <a:xfrm>
            <a:off x="6156360" y="386064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https://i.pinimg.com/originals/33/9f/73/339f7396066ba368e13f1206ff4a05d0.png"/>
          <p:cNvPicPr/>
          <p:nvPr/>
        </p:nvPicPr>
        <p:blipFill>
          <a:blip r:embed="rId5"/>
          <a:stretch/>
        </p:blipFill>
        <p:spPr>
          <a:xfrm>
            <a:off x="6948360" y="3789360"/>
            <a:ext cx="1368720" cy="1368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https://i.pinimg.com/originals/33/9f/73/339f7396066ba368e13f1206ff4a05d0.png"/>
          <p:cNvPicPr/>
          <p:nvPr/>
        </p:nvPicPr>
        <p:blipFill>
          <a:blip r:embed="rId6"/>
          <a:stretch/>
        </p:blipFill>
        <p:spPr>
          <a:xfrm>
            <a:off x="7667640" y="3860640"/>
            <a:ext cx="1368360" cy="1368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 rot="16200000">
            <a:off x="-1480320" y="1690920"/>
            <a:ext cx="35427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дополн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"/>
          <p:cNvSpPr/>
          <p:nvPr/>
        </p:nvSpPr>
        <p:spPr>
          <a:xfrm>
            <a:off x="755640" y="189000"/>
            <a:ext cx="799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сли из первой корзины убрать 38 орехов, то в ней останется столько орехов, сколько их во второй корзине. А если к ней добавить 54 ореха, то станет столько, сколько в первой и во второй корзинах вместе. В третьей корзине на 27 орехов меньше, чем в первой корзине. Сосчитай, сколько орехов в третьей корз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https://st.depositphotos.com/1002351/1907/i/950/depositphotos_19070427-stock-photo-hazelnuts-in-wicker-basket.jpg"/>
          <p:cNvPicPr/>
          <p:nvPr/>
        </p:nvPicPr>
        <p:blipFill>
          <a:blip r:embed="rId2"/>
          <a:stretch/>
        </p:blipFill>
        <p:spPr>
          <a:xfrm>
            <a:off x="2700360" y="1989000"/>
            <a:ext cx="3470400" cy="297360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4"/>
          <p:cNvSpPr/>
          <p:nvPr/>
        </p:nvSpPr>
        <p:spPr>
          <a:xfrm>
            <a:off x="900000" y="4941720"/>
            <a:ext cx="720108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ш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4 + 38 = 92 (ор.) - в первой корзин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92 - 27 = 65 (ор.) - в третьей корз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вет: в третьей корзине 65 орех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1"/>
          <p:cNvSpPr/>
          <p:nvPr/>
        </p:nvSpPr>
        <p:spPr>
          <a:xfrm>
            <a:off x="684360" y="115920"/>
            <a:ext cx="82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кувшине было 12 литров воды. Когда из него перелили во второй кувшин 3 литра воды, то в первом стало на 5 литров меньше, чем во втором. Сколько литров воды было во втором кувши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 rot="16200000">
            <a:off x="-1480320" y="1690920"/>
            <a:ext cx="35427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дополн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"/>
          <p:cNvSpPr/>
          <p:nvPr/>
        </p:nvSpPr>
        <p:spPr>
          <a:xfrm>
            <a:off x="826920" y="5229360"/>
            <a:ext cx="684072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12-3=9 (л) - воды стало в первом кувшин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9+5=14 (л) - воды стало во втором кувшин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14-3=11 (л) - воды было во втором кувш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вет: 11 литров воды было во втором кувш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https://avatars.mds.yandex.net/get-shedevrum/12164887/img_8c6bac2a0ba111efa077b2af142faf58/orig"/>
          <p:cNvPicPr/>
          <p:nvPr/>
        </p:nvPicPr>
        <p:blipFill>
          <a:blip r:embed="rId2"/>
          <a:stretch/>
        </p:blipFill>
        <p:spPr>
          <a:xfrm>
            <a:off x="1619280" y="1268280"/>
            <a:ext cx="2521080" cy="3745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https://avatars.mds.yandex.net/get-shedevrum/12164887/img_8c6bac2a0ba111efa077b2af142faf58/orig"/>
          <p:cNvPicPr/>
          <p:nvPr/>
        </p:nvPicPr>
        <p:blipFill>
          <a:blip r:embed="rId3"/>
          <a:stretch/>
        </p:blipFill>
        <p:spPr>
          <a:xfrm>
            <a:off x="4859280" y="1773360"/>
            <a:ext cx="2089080" cy="3101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2"/>
          <p:cNvSpPr/>
          <p:nvPr/>
        </p:nvSpPr>
        <p:spPr>
          <a:xfrm>
            <a:off x="755640" y="5950080"/>
            <a:ext cx="7561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спользованы презентации: Романовой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Ларисы Викторо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емёновой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Елены Василье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4"/>
          <p:cNvSpPr/>
          <p:nvPr/>
        </p:nvSpPr>
        <p:spPr>
          <a:xfrm>
            <a:off x="1258920" y="5084640"/>
            <a:ext cx="616104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Школа АБВ»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vk.com/shkola_abv?from=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йт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www.shkola-abv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C:\Users\Елена\Desktop\уу3\Сканы  2024 Умники и умницы 3-1\0.png"/>
          <p:cNvPicPr/>
          <p:nvPr/>
        </p:nvPicPr>
        <p:blipFill>
          <a:blip r:embed="rId4"/>
          <a:stretch/>
        </p:blipFill>
        <p:spPr>
          <a:xfrm>
            <a:off x="2987640" y="189000"/>
            <a:ext cx="2862360" cy="386244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https://i.pinimg.com/736x/fd/b6/cc/fdb6ccc9757220cd15a7f36d57076585.jpg"/>
          <p:cNvPicPr/>
          <p:nvPr/>
        </p:nvPicPr>
        <p:blipFill>
          <a:blip r:embed="rId2"/>
          <a:srcRect l="2565" t="12295" r="1782" b="9345"/>
          <a:stretch/>
        </p:blipFill>
        <p:spPr>
          <a:xfrm>
            <a:off x="971640" y="115920"/>
            <a:ext cx="8010360" cy="439272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2843280" y="2421000"/>
            <a:ext cx="41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акая птица летит со скоростью автомобил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5867280" y="5877000"/>
            <a:ext cx="301320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c00000"/>
                </a:solidFill>
                <a:latin typeface="Comic Sans MS"/>
              </a:rPr>
              <a:t>стри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s://i.pinimg.com/originals/a3/63/be/a363bed138f83318d18e049c1b0a1164.jpg"/>
          <p:cNvPicPr/>
          <p:nvPr/>
        </p:nvPicPr>
        <p:blipFill>
          <a:blip r:embed="rId3"/>
          <a:stretch/>
        </p:blipFill>
        <p:spPr>
          <a:xfrm>
            <a:off x="1316160" y="4149720"/>
            <a:ext cx="4282920" cy="2592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https://i.pinimg.com/736x/fd/b6/cc/fdb6ccc9757220cd15a7f36d57076585.jpg"/>
          <p:cNvPicPr/>
          <p:nvPr/>
        </p:nvPicPr>
        <p:blipFill>
          <a:blip r:embed="rId2"/>
          <a:srcRect l="2565" t="12295" r="1782" b="9345"/>
          <a:stretch/>
        </p:blipFill>
        <p:spPr>
          <a:xfrm>
            <a:off x="971640" y="115920"/>
            <a:ext cx="7878600" cy="43210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4932360" y="5877000"/>
            <a:ext cx="394812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c00000"/>
                </a:solidFill>
                <a:latin typeface="Comic Sans MS"/>
              </a:rPr>
              <a:t>у кактус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2484360" y="227664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 какого растения вместо листьев колюч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s://avatars.dzeninfra.ru/get-zen_doc/3483777/pub_5ef99a3b3a3a3113e0b69a8c_5ef99bd1f4aaf816ef9cc5ef/scale_1200"/>
          <p:cNvPicPr/>
          <p:nvPr/>
        </p:nvPicPr>
        <p:blipFill>
          <a:blip r:embed="rId3"/>
          <a:stretch/>
        </p:blipFill>
        <p:spPr>
          <a:xfrm>
            <a:off x="2484360" y="3933720"/>
            <a:ext cx="2232000" cy="2760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https://i.pinimg.com/736x/fd/b6/cc/fdb6ccc9757220cd15a7f36d57076585.jpg"/>
          <p:cNvPicPr/>
          <p:nvPr/>
        </p:nvPicPr>
        <p:blipFill>
          <a:blip r:embed="rId2"/>
          <a:srcRect l="2565" t="12295" r="1782" b="9345"/>
          <a:stretch/>
        </p:blipFill>
        <p:spPr>
          <a:xfrm>
            <a:off x="971640" y="115920"/>
            <a:ext cx="7878600" cy="432108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3"/>
          <p:cNvSpPr/>
          <p:nvPr/>
        </p:nvSpPr>
        <p:spPr>
          <a:xfrm>
            <a:off x="3419640" y="5877000"/>
            <a:ext cx="546084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c00000"/>
                </a:solidFill>
                <a:latin typeface="Comic Sans MS"/>
              </a:rPr>
              <a:t>у папоротн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2627280" y="249228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 какого растения молодые листья завернуты, как улит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s://i.pinimg.com/originals/f5/ea/41/f5ea41f5c0c894c50adb11d66d3a9eab.png"/>
          <p:cNvPicPr/>
          <p:nvPr/>
        </p:nvPicPr>
        <p:blipFill>
          <a:blip r:embed="rId3"/>
          <a:stretch/>
        </p:blipFill>
        <p:spPr>
          <a:xfrm rot="1572000">
            <a:off x="1403280" y="4000680"/>
            <a:ext cx="2143080" cy="2857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https://i.pinimg.com/736x/fd/b6/cc/fdb6ccc9757220cd15a7f36d57076585.jpg"/>
          <p:cNvPicPr/>
          <p:nvPr/>
        </p:nvPicPr>
        <p:blipFill>
          <a:blip r:embed="rId2"/>
          <a:srcRect l="2565" t="12295" r="1782" b="9345"/>
          <a:stretch/>
        </p:blipFill>
        <p:spPr>
          <a:xfrm>
            <a:off x="971640" y="115920"/>
            <a:ext cx="7416720" cy="40687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5364000" y="5732640"/>
            <a:ext cx="331164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c00000"/>
                </a:solidFill>
                <a:latin typeface="Comic Sans MS"/>
              </a:rPr>
              <a:t>лаван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2556000" y="220500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акое растение отпугивает своим запахом моль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s://i.pinimg.com/originals/e1/30/19/e130199bd43d9e58c8079fa59551156f.jpg"/>
          <p:cNvPicPr/>
          <p:nvPr/>
        </p:nvPicPr>
        <p:blipFill>
          <a:blip r:embed="rId3"/>
          <a:stretch/>
        </p:blipFill>
        <p:spPr>
          <a:xfrm>
            <a:off x="755640" y="4437000"/>
            <a:ext cx="4392720" cy="2217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https://i.pinimg.com/736x/fd/b6/cc/fdb6ccc9757220cd15a7f36d57076585.jpg"/>
          <p:cNvPicPr/>
          <p:nvPr/>
        </p:nvPicPr>
        <p:blipFill>
          <a:blip r:embed="rId2"/>
          <a:srcRect l="2565" t="12295" r="1782" b="9345"/>
          <a:stretch/>
        </p:blipFill>
        <p:spPr>
          <a:xfrm>
            <a:off x="971640" y="115920"/>
            <a:ext cx="7416720" cy="406872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3"/>
          <p:cNvSpPr/>
          <p:nvPr/>
        </p:nvSpPr>
        <p:spPr>
          <a:xfrm>
            <a:off x="3635280" y="5805360"/>
            <a:ext cx="504036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Comic Sans MS"/>
              </a:rPr>
              <a:t>сок каланхо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2556000" y="234936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ок какого растения закапывают в нос при насморк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s://avatars.mds.yandex.net/i?id=3a3fd14032c1c8521ff8202df610a527_l-4591118-images-thumbs&amp;n=13"/>
          <p:cNvPicPr/>
          <p:nvPr/>
        </p:nvPicPr>
        <p:blipFill>
          <a:blip r:embed="rId3"/>
          <a:stretch/>
        </p:blipFill>
        <p:spPr>
          <a:xfrm>
            <a:off x="1258920" y="4508640"/>
            <a:ext cx="1050840" cy="2119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s://i.pinimg.com/originals/8b/0a/d6/8b0ad6fa9a0eeab59bec4e7bdd3c8e4f.png"/>
          <p:cNvPicPr/>
          <p:nvPr/>
        </p:nvPicPr>
        <p:blipFill>
          <a:blip r:embed="rId2"/>
          <a:stretch/>
        </p:blipFill>
        <p:spPr>
          <a:xfrm>
            <a:off x="611280" y="4581360"/>
            <a:ext cx="3133800" cy="2151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https://i.pinimg.com/736x/fd/b6/cc/fdb6ccc9757220cd15a7f36d57076585.jpg"/>
          <p:cNvPicPr/>
          <p:nvPr/>
        </p:nvPicPr>
        <p:blipFill>
          <a:blip r:embed="rId3"/>
          <a:srcRect l="2565" t="12295" r="1782" b="9345"/>
          <a:stretch/>
        </p:blipFill>
        <p:spPr>
          <a:xfrm>
            <a:off x="971640" y="115920"/>
            <a:ext cx="8010360" cy="43927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3"/>
          <p:cNvSpPr/>
          <p:nvPr/>
        </p:nvSpPr>
        <p:spPr>
          <a:xfrm>
            <a:off x="3419640" y="5877000"/>
            <a:ext cx="546084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mic Sans MS"/>
              </a:rPr>
              <a:t>  </a:t>
            </a:r>
            <a:r>
              <a:rPr b="1" lang="en-US" sz="4800" spc="-1" strike="noStrike">
                <a:solidFill>
                  <a:srgbClr val="c00000"/>
                </a:solidFill>
                <a:latin typeface="Comic Sans MS"/>
              </a:rPr>
              <a:t>сок петруш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"/>
          <p:cNvSpPr/>
          <p:nvPr/>
        </p:nvSpPr>
        <p:spPr>
          <a:xfrm>
            <a:off x="2556000" y="249228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ок какого растения помогает при укусе комаро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https://i.pinimg.com/736x/fd/b6/cc/fdb6ccc9757220cd15a7f36d57076585.jpg"/>
          <p:cNvPicPr/>
          <p:nvPr/>
        </p:nvPicPr>
        <p:blipFill>
          <a:blip r:embed="rId2"/>
          <a:srcRect l="2565" t="12295" r="1782" b="9345"/>
          <a:stretch/>
        </p:blipFill>
        <p:spPr>
          <a:xfrm>
            <a:off x="971640" y="115920"/>
            <a:ext cx="7878600" cy="43210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826920" y="5877000"/>
            <a:ext cx="791064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У клёна, рябины, ос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2411280" y="29242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 какого дерева осенью листья красны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s://www.clipartmax.com/png/full/81-814181_red-autumn-leav-red-autumn-leaves-transparent-clip-fall-leaves-clip-art.png"/>
          <p:cNvPicPr/>
          <p:nvPr/>
        </p:nvPicPr>
        <p:blipFill>
          <a:blip r:embed="rId3"/>
          <a:stretch/>
        </p:blipFill>
        <p:spPr>
          <a:xfrm rot="21100800">
            <a:off x="4800600" y="4431960"/>
            <a:ext cx="3014640" cy="1386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s://cdn1.ozone.ru/s3/multimedia-g/c600/6760978468.jpg"/>
          <p:cNvPicPr/>
          <p:nvPr/>
        </p:nvPicPr>
        <p:blipFill>
          <a:blip r:embed="rId4"/>
          <a:stretch/>
        </p:blipFill>
        <p:spPr>
          <a:xfrm>
            <a:off x="2736720" y="4437000"/>
            <a:ext cx="1551240" cy="1368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7-11T04:22:15Z</dcterms:created>
  <dc:creator>Елена Берюхова</dc:creator>
  <dc:description/>
  <dc:language>en-US</dc:language>
  <cp:lastModifiedBy>Берюхов</cp:lastModifiedBy>
  <dcterms:modified xsi:type="dcterms:W3CDTF">2025-09-15T16:53:48Z</dcterms:modified>
  <cp:revision>18</cp:revision>
  <dc:subject/>
  <dc:title>Слайд 1</dc:title>
</cp:coreProperties>
</file>